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816-4609-41DA-A17E-6D685923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51D-820C-4F63-B73F-6D08557C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88C-262A-4903-BA88-60158540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845-5383-4FD8-8620-8D23245B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6D4-C956-423A-A2A8-6C5B9588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9640-3A1A-4E5D-9A84-EE78D05C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2DD0-37A4-4F6B-9EEA-7D874727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721C-E560-49F5-A1F1-BC2CA41F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250-DD25-420F-ADDC-0F7B8185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999C-35B1-44BC-84F7-8C146CF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B607-5B3E-49D3-AE4D-903DBD54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DED-5E85-46D1-AAAB-75191CC9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D823-7EC3-45F8-90B7-ADE5B94C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0C7C-2E0F-4100-8E40-72ACEC2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990F-9127-45DC-A84A-41E85BE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D1A1-021E-4FB4-8F34-B2766BDA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600-8D17-4473-88D9-9502A112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16C-C7D0-4244-A0D5-50A6C116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6DC-0F01-44D2-A186-BA6524D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577-AAFF-4B95-BBA3-100E8D43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E69-D131-4C6F-A3EE-7409157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2F1-5E89-4993-8BA6-5916571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F22-46C6-44FB-9A3B-FF0C98F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4CD-D86F-4F60-86EB-3EFCBEE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0" y="1411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1480" y="1411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2640" y="5634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2720" y="563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4906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34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2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30DF-6C1F-4961-BE6B-E0B9A2B35A1A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17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56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CD0-0A75-4E65-BB23-9EB868AA756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01F-5847-466C-8922-241794BB0EBA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7B2E-FB75-4A10-B75A-F81BF641DD49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58600"/>
            <a:ext cx="91440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La programmazione</a:t>
            </a:r>
            <a:br>
              <a:rPr sz="4400"/>
            </a:b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 strutturata -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1440" y="276660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Stefano Mizzar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matematica e informatic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i Udin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imi.uniud.it/mizza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zzaro@dimi.uniud.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rammazione, lezion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1 ottobre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976320"/>
            <a:ext cx="8729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tampare solo i numeri pari da 1 a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936800" y="1571760"/>
            <a:ext cx="5359320" cy="185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i &lt;= 10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f (i % 2 == 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i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722760"/>
            <a:ext cx="38815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pp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peggio!): codice ripet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4680" y="3749760"/>
            <a:ext cx="5359320" cy="274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i &lt;= 10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f (i % 2 != 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else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i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141-9DB7-4E23-90A3-11E6A68A3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tampare solo i numeri pari da 1 a 10, ancora megli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iù sinte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iù effi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4052880"/>
            <a:ext cx="5216760" cy="155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i &lt;= 10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i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i +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6E0-FC3F-4B55-A2FF-EA1C7C763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unto della situ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5000" y="1828440"/>
            <a:ext cx="87296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rutture di controllo della programmazione struttur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que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le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, if/else, switch/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terazione (ripeti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, </a:t>
            </a:r>
            <a:r>
              <a:rPr b="1" lang="it-IT" sz="2400" spc="-1" strike="noStrike">
                <a:solidFill>
                  <a:srgbClr val="6666ff"/>
                </a:solidFill>
                <a:latin typeface="Courier New"/>
              </a:rPr>
              <a:t>do/while,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Courier New"/>
              </a:rPr>
              <a:t>(break, contin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E02-6B2A-4F8F-9692-B905A29E2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viluppo increment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e si scrive un programm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“di getto dalla prima rig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 per raffinamenti successi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Versioni intermed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seudocodice (misto di Java e alt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gni versione raffina alcuni aspetti della preced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9C5-AEE1-404E-AD36-90A7ABA786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affinamenti successi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Cloud"/>
          <p:cNvSpPr/>
          <p:nvPr/>
        </p:nvSpPr>
        <p:spPr>
          <a:xfrm>
            <a:off x="195120" y="988920"/>
            <a:ext cx="2449800" cy="164160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9480" y="3394080"/>
            <a:ext cx="1973520" cy="1271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7680" y="4362480"/>
            <a:ext cx="927000" cy="1125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1120" y="5167440"/>
            <a:ext cx="1725840" cy="1495440"/>
          </a:xfrm>
          <a:prstGeom prst="foldedCorner">
            <a:avLst>
              <a:gd name="adj" fmla="val 1913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ass …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blic …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4"/>
            <a:endCxn id="173" idx="0"/>
          </p:cNvCxnSpPr>
          <p:nvPr/>
        </p:nvCxnSpPr>
        <p:spPr>
          <a:xfrm>
            <a:off x="2643120" y="1809360"/>
            <a:ext cx="891360" cy="470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6"/>
            <a:endCxn id="170" idx="0"/>
          </p:cNvCxnSpPr>
          <p:nvPr/>
        </p:nvCxnSpPr>
        <p:spPr>
          <a:xfrm>
            <a:off x="6093000" y="4030560"/>
            <a:ext cx="468720" cy="3326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0" idx="3"/>
            <a:endCxn id="171" idx="0"/>
          </p:cNvCxnSpPr>
          <p:nvPr/>
        </p:nvCxnSpPr>
        <p:spPr>
          <a:xfrm>
            <a:off x="7024680" y="4925520"/>
            <a:ext cx="1000800" cy="2422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2548080" y="2279520"/>
            <a:ext cx="1466640" cy="146700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endCxn id="169" idx="0"/>
          </p:cNvCxnSpPr>
          <p:nvPr/>
        </p:nvCxnSpPr>
        <p:spPr>
          <a:xfrm>
            <a:off x="4057200" y="2892240"/>
            <a:ext cx="1050120" cy="501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350520" y="1168560"/>
            <a:ext cx="15426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79120" y="2365200"/>
            <a:ext cx="2397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Idea/Algorit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4920" y="4289400"/>
            <a:ext cx="3162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Versioni intermedi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(pseudocod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60960" y="5943600"/>
            <a:ext cx="1821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1a vers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F37-FB75-4E5D-AB1C-0877F8EC76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71760" y="24588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 POI editing-compilazione-esecu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958680"/>
            <a:ext cx="1987200" cy="1019520"/>
            <a:chOff x="0" y="958680"/>
            <a:chExt cx="1987200" cy="1019520"/>
          </a:xfrm>
        </p:grpSpPr>
        <p:sp>
          <p:nvSpPr>
            <p:cNvPr id="183" name=""/>
            <p:cNvSpPr/>
            <p:nvPr/>
          </p:nvSpPr>
          <p:spPr>
            <a:xfrm>
              <a:off x="0" y="961920"/>
              <a:ext cx="973080" cy="1016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5320" y="9586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Edi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73080" y="1469880"/>
            <a:ext cx="4237200" cy="1898640"/>
            <a:chOff x="973080" y="1469880"/>
            <a:chExt cx="4237200" cy="1898640"/>
          </a:xfrm>
        </p:grpSpPr>
        <p:sp>
          <p:nvSpPr>
            <p:cNvPr id="186" name=""/>
            <p:cNvSpPr/>
            <p:nvPr/>
          </p:nvSpPr>
          <p:spPr>
            <a:xfrm>
              <a:off x="1171440" y="1873080"/>
              <a:ext cx="1725840" cy="1495440"/>
            </a:xfrm>
            <a:prstGeom prst="foldedCorner">
              <a:avLst>
                <a:gd name="adj" fmla="val 1913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class …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public … {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  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92960" y="1925640"/>
              <a:ext cx="23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CiaoATutti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3" idx="6"/>
              <a:endCxn id="186" idx="0"/>
            </p:cNvCxnSpPr>
            <p:nvPr/>
          </p:nvCxnSpPr>
          <p:spPr>
            <a:xfrm>
              <a:off x="973080" y="1469880"/>
              <a:ext cx="1062720" cy="40392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2897280" y="2496960"/>
            <a:ext cx="4485600" cy="1444680"/>
            <a:chOff x="2897280" y="2496960"/>
            <a:chExt cx="4485600" cy="1444680"/>
          </a:xfrm>
        </p:grpSpPr>
        <p:sp>
          <p:nvSpPr>
            <p:cNvPr id="190" name=""/>
            <p:cNvSpPr/>
            <p:nvPr/>
          </p:nvSpPr>
          <p:spPr>
            <a:xfrm>
              <a:off x="3300480" y="2925720"/>
              <a:ext cx="973080" cy="10159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0320" y="2496960"/>
              <a:ext cx="329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Compilazio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&gt;javac CiaoATutti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86" idx="3"/>
              <a:endCxn id="190" idx="0"/>
            </p:cNvCxnSpPr>
            <p:nvPr/>
          </p:nvCxnSpPr>
          <p:spPr>
            <a:xfrm>
              <a:off x="2897280" y="2620440"/>
              <a:ext cx="891360" cy="3056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4273200" y="3433680"/>
            <a:ext cx="3930120" cy="1865520"/>
            <a:chOff x="4273200" y="3433680"/>
            <a:chExt cx="3930120" cy="1865520"/>
          </a:xfrm>
        </p:grpSpPr>
        <p:sp>
          <p:nvSpPr>
            <p:cNvPr id="194" name=""/>
            <p:cNvSpPr/>
            <p:nvPr/>
          </p:nvSpPr>
          <p:spPr>
            <a:xfrm>
              <a:off x="4570560" y="3774960"/>
              <a:ext cx="1319040" cy="1524240"/>
            </a:xfrm>
            <a:prstGeom prst="foldedCorner">
              <a:avLst>
                <a:gd name="adj" fmla="val 1913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0101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0101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73320" y="3657600"/>
              <a:ext cx="24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CiaoATutti.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0" idx="6"/>
              <a:endCxn id="194" idx="0"/>
            </p:cNvCxnSpPr>
            <p:nvPr/>
          </p:nvCxnSpPr>
          <p:spPr>
            <a:xfrm>
              <a:off x="4273200" y="3433680"/>
              <a:ext cx="957960" cy="3420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7" name=""/>
          <p:cNvGrpSpPr/>
          <p:nvPr/>
        </p:nvGrpSpPr>
        <p:grpSpPr>
          <a:xfrm>
            <a:off x="5889600" y="4183200"/>
            <a:ext cx="3277800" cy="1706040"/>
            <a:chOff x="5889600" y="4183200"/>
            <a:chExt cx="3277800" cy="1706040"/>
          </a:xfrm>
        </p:grpSpPr>
        <p:sp>
          <p:nvSpPr>
            <p:cNvPr id="198" name=""/>
            <p:cNvSpPr/>
            <p:nvPr/>
          </p:nvSpPr>
          <p:spPr>
            <a:xfrm>
              <a:off x="6186600" y="4873680"/>
              <a:ext cx="973080" cy="1015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79440" y="4183200"/>
              <a:ext cx="248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Esecuzio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&gt;java CiaoATut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3"/>
              <a:endCxn id="198" idx="0"/>
            </p:cNvCxnSpPr>
            <p:nvPr/>
          </p:nvCxnSpPr>
          <p:spPr>
            <a:xfrm>
              <a:off x="5889600" y="4437000"/>
              <a:ext cx="784800" cy="437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7159320" y="5481360"/>
            <a:ext cx="2045880" cy="1379880"/>
            <a:chOff x="7159320" y="5481360"/>
            <a:chExt cx="2045880" cy="1379880"/>
          </a:xfrm>
        </p:grpSpPr>
        <p:sp>
          <p:nvSpPr>
            <p:cNvPr id="202" name=""/>
            <p:cNvSpPr/>
            <p:nvPr/>
          </p:nvSpPr>
          <p:spPr>
            <a:xfrm>
              <a:off x="7430400" y="6035760"/>
              <a:ext cx="17748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Risulta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esecu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198" idx="6"/>
              <a:endCxn id="202" idx="0"/>
            </p:cNvCxnSpPr>
            <p:nvPr/>
          </p:nvCxnSpPr>
          <p:spPr>
            <a:xfrm>
              <a:off x="7159320" y="5481360"/>
              <a:ext cx="1159560" cy="5547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4" name=""/>
          <p:cNvSpPr/>
          <p:nvPr/>
        </p:nvSpPr>
        <p:spPr>
          <a:xfrm>
            <a:off x="14400" y="6227640"/>
            <a:ext cx="296064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79520" y="1978200"/>
            <a:ext cx="7038720" cy="5136120"/>
            <a:chOff x="479520" y="1978200"/>
            <a:chExt cx="7038720" cy="5136120"/>
          </a:xfrm>
        </p:grpSpPr>
        <p:grpSp>
          <p:nvGrpSpPr>
            <p:cNvPr id="206" name=""/>
            <p:cNvGrpSpPr/>
            <p:nvPr/>
          </p:nvGrpSpPr>
          <p:grpSpPr>
            <a:xfrm>
              <a:off x="493200" y="4198680"/>
              <a:ext cx="6183720" cy="2291760"/>
              <a:chOff x="493200" y="4198680"/>
              <a:chExt cx="6183720" cy="229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93200" y="4198680"/>
                <a:ext cx="6183720" cy="1959480"/>
                <a:chOff x="493200" y="4198680"/>
                <a:chExt cx="6183720" cy="1959480"/>
              </a:xfrm>
            </p:grpSpPr>
            <p:cxnSp>
              <p:nvCxnSpPr>
                <p:cNvPr id="208" name=""/>
                <p:cNvCxnSpPr>
                  <a:stCxn id="198" idx="4"/>
                </p:cNvCxnSpPr>
                <p:nvPr/>
              </p:nvCxnSpPr>
              <p:spPr>
                <a:xfrm>
                  <a:off x="6673320" y="5760720"/>
                  <a:ext cx="3960" cy="38340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9" name=""/>
                <p:cNvCxnSpPr/>
                <p:nvPr/>
              </p:nvCxnSpPr>
              <p:spPr>
                <a:xfrm flipH="1">
                  <a:off x="507600" y="6157440"/>
                  <a:ext cx="6169680" cy="108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10" name=""/>
                <p:cNvCxnSpPr/>
                <p:nvPr/>
              </p:nvCxnSpPr>
              <p:spPr>
                <a:xfrm flipV="1">
                  <a:off x="493200" y="4198680"/>
                  <a:ext cx="1080" cy="194544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11" name=""/>
              <p:cNvSpPr/>
              <p:nvPr/>
            </p:nvSpPr>
            <p:spPr>
              <a:xfrm>
                <a:off x="1758960" y="5686560"/>
                <a:ext cx="2481120" cy="803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ahoma"/>
                  </a:rPr>
                  <a:t>Errori esecuzi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86720" y="1978200"/>
              <a:ext cx="3301200" cy="2713320"/>
              <a:chOff x="486720" y="1978200"/>
              <a:chExt cx="3301200" cy="27133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86720" y="1978200"/>
                <a:ext cx="3301200" cy="2449440"/>
                <a:chOff x="486720" y="1978200"/>
                <a:chExt cx="3301200" cy="2449440"/>
              </a:xfrm>
            </p:grpSpPr>
            <p:cxnSp>
              <p:nvCxnSpPr>
                <p:cNvPr id="214" name=""/>
                <p:cNvCxnSpPr>
                  <a:stCxn id="190" idx="4"/>
                </p:cNvCxnSpPr>
                <p:nvPr/>
              </p:nvCxnSpPr>
              <p:spPr>
                <a:xfrm flipV="1" rot="10800000">
                  <a:off x="3787200" y="3941280"/>
                  <a:ext cx="1080" cy="456480"/>
                </a:xfrm>
                <a:prstGeom prst="bentConnector2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15" name=""/>
                <p:cNvCxnSpPr/>
                <p:nvPr/>
              </p:nvCxnSpPr>
              <p:spPr>
                <a:xfrm rot="10800000">
                  <a:off x="507240" y="4411080"/>
                  <a:ext cx="3266280" cy="2160"/>
                </a:xfrm>
                <a:prstGeom prst="bentConnector3">
                  <a:avLst>
                    <a:gd name="adj1" fmla="val 49966"/>
                  </a:avLst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16" name=""/>
                <p:cNvCxnSpPr>
                  <a:endCxn id="183" idx="4"/>
                </p:cNvCxnSpPr>
                <p:nvPr/>
              </p:nvCxnSpPr>
              <p:spPr>
                <a:xfrm flipH="1" flipV="1">
                  <a:off x="486720" y="1978200"/>
                  <a:ext cx="6840" cy="244980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17" name=""/>
              <p:cNvSpPr/>
              <p:nvPr/>
            </p:nvSpPr>
            <p:spPr>
              <a:xfrm>
                <a:off x="709560" y="3887640"/>
                <a:ext cx="2814840" cy="803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ahoma"/>
                  </a:rPr>
                  <a:t>Errori compilazi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79520" y="6100560"/>
              <a:ext cx="7038720" cy="1013760"/>
              <a:chOff x="479520" y="6100560"/>
              <a:chExt cx="7038720" cy="1013760"/>
            </a:xfrm>
          </p:grpSpPr>
          <p:cxnSp>
            <p:nvCxnSpPr>
              <p:cNvPr id="219" name=""/>
              <p:cNvCxnSpPr/>
              <p:nvPr/>
            </p:nvCxnSpPr>
            <p:spPr>
              <a:xfrm flipV="1">
                <a:off x="488520" y="6100560"/>
                <a:ext cx="5400" cy="6955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220" name=""/>
              <p:cNvSpPr/>
              <p:nvPr/>
            </p:nvSpPr>
            <p:spPr>
              <a:xfrm flipV="1">
                <a:off x="479520" y="6748200"/>
                <a:ext cx="7038720" cy="12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52720" y="6310440"/>
                <a:ext cx="2481120" cy="803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ahoma"/>
                  </a:rPr>
                  <a:t>Errori “semantici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F6F-DB39-4D67-9DA5-E40D7D1F5E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ltra-semplice, m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asse di 10 studenti, e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o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 (ottimo):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 (buono)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 (sufficiente):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 (insufficiente):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lcolare la media aritme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Cloud"/>
          <p:cNvSpPr/>
          <p:nvPr/>
        </p:nvSpPr>
        <p:spPr>
          <a:xfrm>
            <a:off x="7267680" y="5391000"/>
            <a:ext cx="1790640" cy="120024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615-1D35-4A66-88A3-DBFB8585B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’idea/L’algorit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o una variabil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cui aggiungo man mano i vo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 poi divido per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5168880"/>
            <a:ext cx="1466640" cy="146700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385-BDB1-42C9-8895-E6467853B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 prima versione 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(pseudocodic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366920" y="2651040"/>
            <a:ext cx="6406920" cy="155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"ci sono ancora voti"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Leggi il prossimo voto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Aggiungi a media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Stampa media / 10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8480" y="5383080"/>
            <a:ext cx="1538280" cy="990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64B-D98A-4ACE-8DB4-D5AE3807AB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 seconda vers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6040" y="1157400"/>
            <a:ext cx="8788680" cy="56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class Voti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public static void main (String[] ar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        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throws IOException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azzera media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inizializza i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i &lt;= 10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Leggi voto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f (voto == 'O'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Aggiungi 10 a media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else if (voto == 'B'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Aggiungi 8 a media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else if (voto == 'S'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Aggiungi 6 a media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else if (voto == 'I'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Aggiungi 4 a media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incrementa i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Stampa media / 10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40600" y="5494320"/>
            <a:ext cx="927360" cy="1125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1F4-C71E-4585-8A2D-2F10583F18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9760" y="1089000"/>
            <a:ext cx="812448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ttoni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troduzione alle strutture di controllo della programmazione struttu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que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le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Itera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531-5894-42C9-A08D-CFBAF7AE2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8532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 terza vers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76040" y="728640"/>
            <a:ext cx="8788680" cy="601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* Programma per calcolare la media dei vot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Voti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nt voto, media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voto = System.in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O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S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I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/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("Media =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medi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18520" y="5362560"/>
            <a:ext cx="1725480" cy="1495440"/>
          </a:xfrm>
          <a:prstGeom prst="foldedCorner">
            <a:avLst>
              <a:gd name="adj" fmla="val 1913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ass …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blic …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252-5D03-484C-AE10-45CFAB0A69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e si scrive un program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ima si riflette su carta (schemi, disegni, riferimenti ad altri programmi già scritti,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I ci si mette davanti al calcolatore e si incomincia il ciclo editing-compilazione-esecu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volte si deve tornare indietr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È più scomodo ragionare a basso livello (linguaggio di programmazio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104-B02C-40C0-B976-DFB46ACAD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affinamenti successiv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Cloud"/>
          <p:cNvSpPr/>
          <p:nvPr/>
        </p:nvSpPr>
        <p:spPr>
          <a:xfrm>
            <a:off x="195120" y="988920"/>
            <a:ext cx="2449800" cy="164160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9480" y="3394080"/>
            <a:ext cx="1973520" cy="1271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7680" y="4362480"/>
            <a:ext cx="927000" cy="1125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1120" y="5167440"/>
            <a:ext cx="1725840" cy="1495440"/>
          </a:xfrm>
          <a:prstGeom prst="foldedCorner">
            <a:avLst>
              <a:gd name="adj" fmla="val 1913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ass …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ublic …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0" idx="4"/>
            <a:endCxn id="245" idx="0"/>
          </p:cNvCxnSpPr>
          <p:nvPr/>
        </p:nvCxnSpPr>
        <p:spPr>
          <a:xfrm>
            <a:off x="2643120" y="1809360"/>
            <a:ext cx="891360" cy="470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1" idx="6"/>
            <a:endCxn id="242" idx="0"/>
          </p:cNvCxnSpPr>
          <p:nvPr/>
        </p:nvCxnSpPr>
        <p:spPr>
          <a:xfrm>
            <a:off x="6093000" y="4030560"/>
            <a:ext cx="468720" cy="3326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2" idx="3"/>
            <a:endCxn id="243" idx="0"/>
          </p:cNvCxnSpPr>
          <p:nvPr/>
        </p:nvCxnSpPr>
        <p:spPr>
          <a:xfrm>
            <a:off x="7024680" y="4925520"/>
            <a:ext cx="1000800" cy="2422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2548080" y="2279520"/>
            <a:ext cx="1466640" cy="146700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1" idx="0"/>
          </p:cNvCxnSpPr>
          <p:nvPr/>
        </p:nvCxnSpPr>
        <p:spPr>
          <a:xfrm>
            <a:off x="4014720" y="3182400"/>
            <a:ext cx="1092960" cy="212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" name=""/>
          <p:cNvGrpSpPr/>
          <p:nvPr/>
        </p:nvGrpSpPr>
        <p:grpSpPr>
          <a:xfrm>
            <a:off x="1420200" y="2628360"/>
            <a:ext cx="5740920" cy="3286800"/>
            <a:chOff x="1420200" y="2628360"/>
            <a:chExt cx="5740920" cy="3286800"/>
          </a:xfrm>
        </p:grpSpPr>
        <p:cxnSp>
          <p:nvCxnSpPr>
            <p:cNvPr id="250" name=""/>
            <p:cNvCxnSpPr/>
            <p:nvPr/>
          </p:nvCxnSpPr>
          <p:spPr>
            <a:xfrm rot="10800000">
              <a:off x="6560280" y="5487120"/>
              <a:ext cx="600840" cy="42804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/>
            <p:nvPr/>
          </p:nvCxnSpPr>
          <p:spPr>
            <a:xfrm rot="10800000">
              <a:off x="5106240" y="4664880"/>
              <a:ext cx="2054880" cy="12502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/>
            <p:nvPr/>
          </p:nvCxnSpPr>
          <p:spPr>
            <a:xfrm rot="10800000">
              <a:off x="1420200" y="2628360"/>
              <a:ext cx="2699280" cy="140220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/>
            <p:nvPr/>
          </p:nvCxnSpPr>
          <p:spPr>
            <a:xfrm rot="10800000">
              <a:off x="3123360" y="3745800"/>
              <a:ext cx="2974320" cy="1180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/>
            <p:nvPr/>
          </p:nvCxnSpPr>
          <p:spPr>
            <a:xfrm rot="10800000">
              <a:off x="1420200" y="2628360"/>
              <a:ext cx="1127880" cy="23724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/>
            <p:nvPr/>
          </p:nvCxnSpPr>
          <p:spPr>
            <a:xfrm rot="10800000">
              <a:off x="3123360" y="3745800"/>
              <a:ext cx="996120" cy="28440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/>
            <p:nvPr/>
          </p:nvCxnSpPr>
          <p:spPr>
            <a:xfrm rot="10800000">
              <a:off x="1420200" y="2628360"/>
              <a:ext cx="4677480" cy="22975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/>
            <p:nvPr/>
          </p:nvCxnSpPr>
          <p:spPr>
            <a:xfrm rot="10800000">
              <a:off x="3123360" y="3745800"/>
              <a:ext cx="4037760" cy="216936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/>
            <p:nvPr/>
          </p:nvCxnSpPr>
          <p:spPr>
            <a:xfrm rot="10800000">
              <a:off x="5106240" y="4664880"/>
              <a:ext cx="991440" cy="26100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/>
            <p:nvPr/>
          </p:nvCxnSpPr>
          <p:spPr>
            <a:xfrm rot="10800000">
              <a:off x="1420200" y="2628360"/>
              <a:ext cx="5740920" cy="328680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583-216D-479C-AADC-1E04E9AE34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ai accontentarsi della prima versione di un program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nche se siete riusciti a scrivere un programma funzionante, lo si può (quasi) sicuramente miglior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8520" y="3106800"/>
            <a:ext cx="3984840" cy="22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O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S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I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0560" y="3106800"/>
            <a:ext cx="4348080" cy="33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witch (voto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ase 'O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ase 'S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ase 'I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9E3-B2EB-4F0B-8E3A-5C776B6357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20320" y="24588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ncora su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e incolonna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8040" y="1261800"/>
            <a:ext cx="227304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gl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gg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184560" y="1217520"/>
            <a:ext cx="3984480" cy="22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O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S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voto == 'I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84560" y="3605040"/>
            <a:ext cx="5959440" cy="292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O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S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voto == 'I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media = media +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C97-DBFA-4E6A-B364-2568A76D2C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 ed eserci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crivete un programma che visualizza tutti i numeri da 10 a 1 (in ordine decrescen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crivete un programma che visualizza tutti i numeri da 1 a 10, ma usando i letterali 0 e 9 anziché 1 e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088-D70C-4535-83DC-4D1A6AC32F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rc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sa fa il programma seguente? (attenzione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76040" y="2224080"/>
            <a:ext cx="8788680" cy="333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class CicloWhile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public static void main (String[] args) 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nt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i &lt;= 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i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"Fine stampa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236-D1F0-4FD2-92D0-8118798EBB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trutture di controllo della programmazione struttu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que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le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, if/else, switch/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terazione (ripeti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, </a:t>
            </a:r>
            <a:r>
              <a:rPr b="1" lang="it-IT" sz="2400" spc="-1" strike="noStrike">
                <a:solidFill>
                  <a:srgbClr val="6666ff"/>
                </a:solidFill>
                <a:latin typeface="Courier New"/>
              </a:rPr>
              <a:t>do/while,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Courier New"/>
              </a:rPr>
              <a:t>(break, contin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viluppo increment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7E9-9215-4472-9411-DE0EDB0D11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ssima le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amo con la programmazione struttu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terazione (ripeti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, </a:t>
            </a:r>
            <a:r>
              <a:rPr b="1" lang="it-IT" sz="2400" spc="-1" strike="noStrike">
                <a:solidFill>
                  <a:srgbClr val="6666ff"/>
                </a:solidFill>
                <a:latin typeface="Courier New"/>
              </a:rPr>
              <a:t>do/while,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Courier New"/>
              </a:rPr>
              <a:t>(break, contin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728-6AF5-479E-99FA-1786281147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g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Leggi.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ncora programmazione struttu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era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viluppo increment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58F-E95B-4134-BDAE-BB976364DD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’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e inserire dati durante l’esecu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ystem.in.read(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non è il massi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ge un solo caratt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 restituisce il codice ASCII/Uni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È possibile “estendere” il Java con istruzioni di input più co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o abbiamo fatto per voi… scaricate il fil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eggi.jav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sul sito Web del co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F0B-8E86-489E-B39A-BA739C8897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74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so di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Leggi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147680"/>
            <a:ext cx="434484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eggi.jav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va messo (per ora) </a:t>
            </a: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nella stessa director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el programma che lo usa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t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scrivere nei vostri programmi nuove istruzioni per la lettura d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oolean, byte, short, int, long, float, double, char,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51480" y="797040"/>
            <a:ext cx="4592520" cy="571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byte 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hort 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nt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long 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float f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double d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boolean 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char c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tring x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b = Leggi.unByte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 = Leggi.unoSho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Leggi.unIn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l = Leggi.unLong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f = Leggi.unFloa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d = Leggi.unDouble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t = Leggi.unBoolean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c = Leggi.unChar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x = Leggi.unoString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1D4-E024-4E53-9417-F527A86615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gramma per trovare il massimo fra due numeri int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10960" y="2674800"/>
            <a:ext cx="8715600" cy="333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urier New"/>
              </a:rPr>
              <a:t>int a, 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urier New"/>
              </a:rPr>
              <a:t>a = Leggi.unIn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urier New"/>
              </a:rPr>
              <a:t>b = Leggi.unInt(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f (a&gt;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 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Il massimo e’ il primo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"Il massimo e’ il secondo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E00-9FA4-4D2B-97FE-10935CCE5B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ter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struzioni ripet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ipeti “questo” mentre la condizione è v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esto”, al solito, è un’istruzione, che può anche essere compo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while (C)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peti l’istruzion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mentre la condizion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è v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è composta, bisogna usare le graf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09E-99BC-47D4-B410-0F5DF48E36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88920" y="1606680"/>
            <a:ext cx="8961480" cy="363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class CicloWhile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public static void main (String[] args) 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nt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while (i &lt;= 10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System.out.println(i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i 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System.out.println("Fine stampa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7200" y="3048120"/>
            <a:ext cx="3499200" cy="3261960"/>
            <a:chOff x="367200" y="3048120"/>
            <a:chExt cx="3499200" cy="3261960"/>
          </a:xfrm>
        </p:grpSpPr>
        <p:sp>
          <p:nvSpPr>
            <p:cNvPr id="118" name=""/>
            <p:cNvSpPr/>
            <p:nvPr/>
          </p:nvSpPr>
          <p:spPr>
            <a:xfrm>
              <a:off x="367200" y="5643720"/>
              <a:ext cx="3499200" cy="666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333399"/>
                  </a:solidFill>
                  <a:latin typeface="Arial"/>
                </a:rPr>
                <a:t>condizion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333399"/>
                  </a:solidFill>
                  <a:latin typeface="Arial"/>
                </a:rPr>
                <a:t>(espressione booleana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93920" y="3048120"/>
              <a:ext cx="1406520" cy="385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8" idx="0"/>
              <a:endCxn id="119" idx="2"/>
            </p:cNvCxnSpPr>
            <p:nvPr/>
          </p:nvCxnSpPr>
          <p:spPr>
            <a:xfrm flipH="1" flipV="1" rot="5400000">
              <a:off x="1456920" y="4103280"/>
              <a:ext cx="2201040" cy="880200"/>
            </a:xfrm>
            <a:prstGeom prst="curvedConnector5">
              <a:avLst>
                <a:gd name="adj1" fmla="val 50204"/>
                <a:gd name="adj2" fmla="val 50000"/>
                <a:gd name="adj3" fmla="val 50204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1" name=""/>
          <p:cNvGrpSpPr/>
          <p:nvPr/>
        </p:nvGrpSpPr>
        <p:grpSpPr>
          <a:xfrm>
            <a:off x="880920" y="3085920"/>
            <a:ext cx="7130520" cy="3179520"/>
            <a:chOff x="880920" y="3085920"/>
            <a:chExt cx="7130520" cy="3179520"/>
          </a:xfrm>
        </p:grpSpPr>
        <p:sp>
          <p:nvSpPr>
            <p:cNvPr id="122" name=""/>
            <p:cNvSpPr/>
            <p:nvPr/>
          </p:nvSpPr>
          <p:spPr>
            <a:xfrm>
              <a:off x="4809240" y="5896080"/>
              <a:ext cx="3202200" cy="369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333399"/>
                  </a:solidFill>
                  <a:latin typeface="Arial"/>
                </a:rPr>
                <a:t>istruzione (composta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80920" y="3085920"/>
              <a:ext cx="4859640" cy="1270080"/>
              <a:chOff x="880920" y="3085920"/>
              <a:chExt cx="4859640" cy="1270080"/>
            </a:xfrm>
          </p:grpSpPr>
          <p:sp>
            <p:nvSpPr>
              <p:cNvPr id="124" name=""/>
              <p:cNvSpPr/>
              <p:nvPr/>
            </p:nvSpPr>
            <p:spPr>
              <a:xfrm>
                <a:off x="880920" y="3433680"/>
                <a:ext cx="4859640" cy="92232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022640" y="3085560"/>
                <a:ext cx="287280" cy="3474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6" name=""/>
            <p:cNvCxnSpPr>
              <a:stCxn id="122" idx="0"/>
              <a:endCxn id="124" idx="2"/>
            </p:cNvCxnSpPr>
            <p:nvPr/>
          </p:nvCxnSpPr>
          <p:spPr>
            <a:xfrm flipV="1" rot="16200000">
              <a:off x="4095000" y="3580920"/>
              <a:ext cx="1531080" cy="3099240"/>
            </a:xfrm>
            <a:prstGeom prst="curvedConnector5">
              <a:avLst>
                <a:gd name="adj1" fmla="val 50305"/>
                <a:gd name="adj2" fmla="val 50000"/>
                <a:gd name="adj3" fmla="val 5030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8D3-A75E-4438-9A5F-03C5D3018D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iagramma di flus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fferenze fr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20600" y="3725640"/>
            <a:ext cx="2752920" cy="2538720"/>
            <a:chOff x="1020600" y="3725640"/>
            <a:chExt cx="2752920" cy="2538720"/>
          </a:xfrm>
        </p:grpSpPr>
        <p:sp>
          <p:nvSpPr>
            <p:cNvPr id="130" name=""/>
            <p:cNvSpPr/>
            <p:nvPr/>
          </p:nvSpPr>
          <p:spPr>
            <a:xfrm>
              <a:off x="2741400" y="4856400"/>
              <a:ext cx="1032120" cy="785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3320" y="4030920"/>
              <a:ext cx="1160640" cy="7412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3"/>
              <a:endCxn id="130" idx="0"/>
            </p:cNvCxnSpPr>
            <p:nvPr/>
          </p:nvCxnSpPr>
          <p:spPr>
            <a:xfrm>
              <a:off x="2793600" y="4402080"/>
              <a:ext cx="464040" cy="45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0" idx="2"/>
            </p:cNvCxnSpPr>
            <p:nvPr/>
          </p:nvCxnSpPr>
          <p:spPr>
            <a:xfrm rot="5400000">
              <a:off x="2586960" y="5294520"/>
              <a:ext cx="322920" cy="101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endCxn id="131" idx="0"/>
            </p:cNvCxnSpPr>
            <p:nvPr/>
          </p:nvCxnSpPr>
          <p:spPr>
            <a:xfrm>
              <a:off x="2212920" y="3725640"/>
              <a:ext cx="21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2096280" y="4206960"/>
              <a:ext cx="2347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10760" y="5110200"/>
              <a:ext cx="2347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160" y="4027680"/>
              <a:ext cx="8622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tru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0600" y="4797720"/>
              <a:ext cx="11811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fal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1" idx="2"/>
            </p:cNvCxnSpPr>
            <p:nvPr/>
          </p:nvCxnSpPr>
          <p:spPr>
            <a:xfrm>
              <a:off x="2214000" y="4771800"/>
              <a:ext cx="2520" cy="14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4844880" y="3726000"/>
            <a:ext cx="3167280" cy="2538360"/>
            <a:chOff x="4844880" y="3726000"/>
            <a:chExt cx="3167280" cy="2538360"/>
          </a:xfrm>
        </p:grpSpPr>
        <p:sp>
          <p:nvSpPr>
            <p:cNvPr id="141" name=""/>
            <p:cNvSpPr/>
            <p:nvPr/>
          </p:nvSpPr>
          <p:spPr>
            <a:xfrm>
              <a:off x="6566040" y="4856040"/>
              <a:ext cx="1031760" cy="785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7960" y="4030560"/>
              <a:ext cx="1160280" cy="74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42" idx="3"/>
              <a:endCxn id="141" idx="0"/>
            </p:cNvCxnSpPr>
            <p:nvPr/>
          </p:nvCxnSpPr>
          <p:spPr>
            <a:xfrm>
              <a:off x="6618240" y="4401720"/>
              <a:ext cx="464400" cy="45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1" idx="2"/>
            </p:cNvCxnSpPr>
            <p:nvPr/>
          </p:nvCxnSpPr>
          <p:spPr>
            <a:xfrm flipH="1" rot="16200000">
              <a:off x="7396920" y="5326560"/>
              <a:ext cx="293040" cy="923040"/>
            </a:xfrm>
            <a:prstGeom prst="bentConnector2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endCxn id="142" idx="0"/>
            </p:cNvCxnSpPr>
            <p:nvPr/>
          </p:nvCxnSpPr>
          <p:spPr>
            <a:xfrm>
              <a:off x="6036840" y="3726000"/>
              <a:ext cx="252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5920560" y="4206960"/>
              <a:ext cx="2347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5040" y="5110200"/>
              <a:ext cx="2347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3800" y="4027320"/>
              <a:ext cx="861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tru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44880" y="4797360"/>
              <a:ext cx="11811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333399"/>
                  </a:solidFill>
                  <a:latin typeface="Courier New"/>
                </a:rPr>
                <a:t>fal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2" idx="2"/>
            </p:cNvCxnSpPr>
            <p:nvPr/>
          </p:nvCxnSpPr>
          <p:spPr>
            <a:xfrm>
              <a:off x="6039000" y="4771800"/>
              <a:ext cx="2160" cy="14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/>
            <p:nvPr/>
          </p:nvCxnSpPr>
          <p:spPr>
            <a:xfrm flipV="1">
              <a:off x="7997400" y="3903840"/>
              <a:ext cx="1080" cy="2032200"/>
            </a:xfrm>
            <a:prstGeom prst="bentConnector2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/>
            <p:nvPr/>
          </p:nvCxnSpPr>
          <p:spPr>
            <a:xfrm flipH="1">
              <a:off x="6036840" y="3903480"/>
              <a:ext cx="197568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1770120" y="2763720"/>
            <a:ext cx="1252440" cy="6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f (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1960" y="2763720"/>
            <a:ext cx="1833480" cy="6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while (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600" spc="-1" strike="noStrike">
                <a:solidFill>
                  <a:srgbClr val="333399"/>
                </a:solidFill>
                <a:latin typeface="Courier New"/>
              </a:rPr>
              <a:t>I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Prog. strutt.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3FE-B856-4472-AF8B-FD16BCE03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fano Mizzaro</cp:lastModifiedBy>
  <cp:lastPrinted>2000-05-05T17:23:50Z</cp:lastPrinted>
  <dcterms:modified xsi:type="dcterms:W3CDTF">2004-10-11T07:17:37Z</dcterms:modified>
  <cp:revision>1458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gua">
    <vt:lpwstr>Italiano</vt:lpwstr>
  </property>
</Properties>
</file>