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5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097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4022640" y="0"/>
            <a:ext cx="3076560" cy="5097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991800" y="766800"/>
            <a:ext cx="5116680" cy="383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944640" y="4860720"/>
            <a:ext cx="5209920" cy="46069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0" y="9724680"/>
            <a:ext cx="3076560" cy="5094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4022640" y="9724680"/>
            <a:ext cx="3076560" cy="5094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CF634D8A-4D04-4A85-8242-CA2172684F33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992160" y="766800"/>
            <a:ext cx="5116680" cy="383688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44640" y="4860720"/>
            <a:ext cx="5209920" cy="46069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 provare a mettere System.exit(0) in windowClosing()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992160" y="766800"/>
            <a:ext cx="5116680" cy="383688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44640" y="4860720"/>
            <a:ext cx="5209920" cy="46069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gramma unico: ci si perde? Se sapete/seguite le convenzioni Java sui nomi ci si perde meno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992160" y="766800"/>
            <a:ext cx="5116680" cy="383688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44640" y="4860720"/>
            <a:ext cx="5209920" cy="46069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egare perche’ il pan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992160" y="766800"/>
            <a:ext cx="5116680" cy="383688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44640" y="4860720"/>
            <a:ext cx="5209920" cy="46069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empre tutto in un fi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992160" y="766800"/>
            <a:ext cx="5116680" cy="383688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44640" y="4860720"/>
            <a:ext cx="5209920" cy="46069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 i link non funzionano: (ditemelo e) google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992160" y="766800"/>
            <a:ext cx="5116680" cy="383688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44640" y="4860720"/>
            <a:ext cx="5209920" cy="46069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ento sui commenti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0691F-B7C2-4E62-B58D-487DE2AA9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4588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5000" y="1538280"/>
            <a:ext cx="872964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225000" y="3938040"/>
            <a:ext cx="872964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1D95A-CF29-4ECC-B714-D103B434D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4588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25000" y="1538280"/>
            <a:ext cx="425988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98360" y="1538280"/>
            <a:ext cx="425988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225000" y="3938040"/>
            <a:ext cx="425988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98360" y="3938040"/>
            <a:ext cx="425988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85196-A32F-4511-8978-6780E3B8F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4588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25000" y="1538280"/>
            <a:ext cx="281088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176640" y="1538280"/>
            <a:ext cx="281088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28640" y="1538280"/>
            <a:ext cx="281088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225000" y="3938040"/>
            <a:ext cx="281088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176640" y="3938040"/>
            <a:ext cx="281088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28640" y="3938040"/>
            <a:ext cx="281088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04089-DE68-476D-A767-F69A4505A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73CD6-EE25-4406-A66D-68F495BC5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4588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225000" y="1538280"/>
            <a:ext cx="872964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61C8E-B567-4D17-A673-D05C622F8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4588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5000" y="1538280"/>
            <a:ext cx="8729640" cy="45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7831A-D749-4BCC-9566-E4318939B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4588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5000" y="1538280"/>
            <a:ext cx="4259880" cy="45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8360" y="1538280"/>
            <a:ext cx="4259880" cy="45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B8493-D8C7-49F5-9707-A0DBE2484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4588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04830-38BC-4170-AFE4-17FA14F9B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4588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C9206-14ED-40AA-8D04-5A289AC9D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4588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5000" y="1538280"/>
            <a:ext cx="425988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98360" y="1538280"/>
            <a:ext cx="4259880" cy="45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25000" y="3938040"/>
            <a:ext cx="425988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1B584-939D-45AB-AC5F-ECA954D55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4588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225000" y="1538280"/>
            <a:ext cx="872964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68BD8-6319-4E76-B8E3-52E718DCB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4588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25000" y="1538280"/>
            <a:ext cx="4259880" cy="45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98360" y="1538280"/>
            <a:ext cx="425988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98360" y="3938040"/>
            <a:ext cx="425988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F7C67-82B7-49BE-B49A-45A4D5C3A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4588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25000" y="1538280"/>
            <a:ext cx="425988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98360" y="1538280"/>
            <a:ext cx="425988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225000" y="3938040"/>
            <a:ext cx="872964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2D04B-90AB-4DEF-873C-47B2ADE6D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4588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5000" y="1538280"/>
            <a:ext cx="872964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225000" y="3938040"/>
            <a:ext cx="872964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42353-3D3B-485F-A689-3FA5065C7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4588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5000" y="1538280"/>
            <a:ext cx="425988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98360" y="1538280"/>
            <a:ext cx="425988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225000" y="3938040"/>
            <a:ext cx="425988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98360" y="3938040"/>
            <a:ext cx="425988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6028B-2A51-4AC6-9FB1-8752D4047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4588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5000" y="1538280"/>
            <a:ext cx="281088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176640" y="1538280"/>
            <a:ext cx="281088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128640" y="1538280"/>
            <a:ext cx="281088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225000" y="3938040"/>
            <a:ext cx="281088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176640" y="3938040"/>
            <a:ext cx="281088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128640" y="3938040"/>
            <a:ext cx="281088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C3368-5E8E-48AF-A467-4F7D63FC8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4588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5000" y="1538280"/>
            <a:ext cx="8729640" cy="45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E0377-C71B-4724-9B21-F960E3338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4588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25000" y="1538280"/>
            <a:ext cx="4259880" cy="45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98360" y="1538280"/>
            <a:ext cx="4259880" cy="45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A7C59-FCC9-40AC-9FAA-7E7CA8C10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4588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A8CE5-867C-4148-8551-B9208D9D5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4588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FD613-0C19-46B4-B600-0134234DB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4588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5000" y="1538280"/>
            <a:ext cx="425988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98360" y="1538280"/>
            <a:ext cx="4259880" cy="45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5000" y="3938040"/>
            <a:ext cx="425988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B6AD7-7807-456A-BF0C-2D85666FF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4588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5000" y="1538280"/>
            <a:ext cx="4259880" cy="45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98360" y="1538280"/>
            <a:ext cx="425988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98360" y="3938040"/>
            <a:ext cx="425988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5B08B-0658-48A9-B5D1-3927487BA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4588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5000" y="1538280"/>
            <a:ext cx="425988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98360" y="1538280"/>
            <a:ext cx="425988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5000" y="3938040"/>
            <a:ext cx="872964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32868-63E0-46C8-A8F5-D4FDFE20F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8800" y="141120"/>
            <a:ext cx="438120" cy="474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1480" y="141120"/>
            <a:ext cx="3286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12640" y="56340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82720" y="56340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98280" y="490680"/>
            <a:ext cx="56052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533520" y="3348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22392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4588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225000" y="1538280"/>
            <a:ext cx="8729640" cy="45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6050E-E62D-4FF1-BA5C-5A3ADADD2D73}" type="datetime">
              <a:rPr b="0" lang="it-IT" sz="1400" spc="-1" strike="noStrike">
                <a:solidFill>
                  <a:srgbClr val="000000"/>
                </a:solidFill>
                <a:latin typeface="Tahoma"/>
              </a:rPr>
              <a:t>29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261720" y="6324480"/>
            <a:ext cx="3809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5636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69C85-F5CA-46D3-A14A-5E8E6DA32D5C}" type="slidenum">
              <a:rPr b="0" lang="it-IT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27FF0-E2E1-4E4B-968B-10DC48195B80}" type="datetime">
              <a:rPr b="0" lang="it-IT" sz="1400" spc="-1" strike="noStrike">
                <a:solidFill>
                  <a:srgbClr val="1c1c1c"/>
                </a:solidFill>
                <a:latin typeface="Tahoma"/>
              </a:rPr>
              <a:t>29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12E87-2EAD-4A72-8833-425A44C60501}" type="slidenum">
              <a:rPr b="0" lang="it-IT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307440"/>
            <a:ext cx="9144000" cy="19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333399"/>
                </a:solidFill>
                <a:latin typeface="Tahoma"/>
              </a:rPr>
              <a:t>GUI in Java con l’AWT – 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-1440" y="2766600"/>
            <a:ext cx="91440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33cc"/>
                </a:solidFill>
                <a:latin typeface="Tahoma"/>
              </a:rPr>
              <a:t>Stefano Mizzaro</a:t>
            </a:r>
            <a:r>
              <a:rPr b="0" lang="it-IT" sz="2800" spc="-1" strike="noStrike">
                <a:solidFill>
                  <a:srgbClr val="3333cc"/>
                </a:solidFill>
                <a:latin typeface="Tahoma"/>
              </a:rPr>
              <a:t> </a:t>
            </a:r>
            <a:br>
              <a:rPr sz="2800"/>
            </a:br>
            <a:br>
              <a:rPr sz="2800"/>
            </a:b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ipartimento di matematica e informatica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Università di Udine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http://www.dimi.uniud.it/mizzaro/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mizzaro@dimi.uniud.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Programmazione, lezione 2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 febbraio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200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24588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333399"/>
                </a:solidFill>
                <a:latin typeface="Tahoma"/>
              </a:rPr>
              <a:t>Ascoltatore (1/3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"/>
          <p:cNvSpPr/>
          <p:nvPr/>
        </p:nvSpPr>
        <p:spPr>
          <a:xfrm>
            <a:off x="189000" y="1758960"/>
            <a:ext cx="8769240" cy="3309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import java.awt.*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public class GUI</a:t>
            </a:r>
            <a:r>
              <a:rPr b="1" lang="it-IT" sz="2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 extends Frame {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public GUI</a:t>
            </a:r>
            <a:r>
              <a:rPr b="1" lang="it-IT" sz="2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 (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it-IT" sz="2400" spc="-1" strike="noStrike">
                <a:solidFill>
                  <a:srgbClr val="0000ff"/>
                </a:solidFill>
                <a:latin typeface="Courier New"/>
              </a:rPr>
              <a:t>Ascoltatore asc = new Ascoltatore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setBounds(100,100,300,200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setTitle("GUI</a:t>
            </a:r>
            <a:r>
              <a:rPr b="1" lang="it-IT" sz="2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"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setVisible(tru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it-IT" sz="2400" spc="-1" strike="noStrike">
                <a:solidFill>
                  <a:srgbClr val="0000ff"/>
                </a:solidFill>
                <a:latin typeface="Courier New"/>
              </a:rPr>
              <a:t>addWindowListener(asc);</a:t>
            </a: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 //Aggiung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                            </a:t>
            </a: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//l'ascoltat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43040" y="3724200"/>
            <a:ext cx="4616280" cy="581040"/>
          </a:xfrm>
          <a:prstGeom prst="ellipse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0" name=""/>
          <p:cNvCxnSpPr>
            <a:stCxn id="131" idx="0"/>
            <a:endCxn id="129" idx="5"/>
          </p:cNvCxnSpPr>
          <p:nvPr/>
        </p:nvCxnSpPr>
        <p:spPr>
          <a:xfrm flipH="1" flipV="1">
            <a:off x="4682520" y="4233600"/>
            <a:ext cx="959400" cy="1480320"/>
          </a:xfrm>
          <a:prstGeom prst="straightConnector1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2878200" y="5713560"/>
            <a:ext cx="5526000" cy="38628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ff"/>
                </a:solidFill>
                <a:latin typeface="Courier New"/>
              </a:rPr>
              <a:t>this.addWindowListener(asc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fano Mizzaro - AWT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67B00-F806-475F-B13A-4CF767AB3D2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24588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333399"/>
                </a:solidFill>
                <a:latin typeface="Tahoma"/>
              </a:rPr>
              <a:t>Ascoltatore (2/3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1530360"/>
            <a:ext cx="9140760" cy="3601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import java.awt.event.*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public class Ascoltatore extends WindowAdapter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public void windowClosing (WindowEvent e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e.getWindow().dispose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System.out.println(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public void windowClosed (WindowEvent e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System.out.println(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System.exit(0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25000" y="5252760"/>
            <a:ext cx="872964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(Ex.: Provare a rimuovere i due metodi uno alla volta…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fano Mizzaro - AWT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CF33B-8968-4CFF-98D6-8D0E031A636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24588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333399"/>
                </a:solidFill>
                <a:latin typeface="Tahoma"/>
              </a:rPr>
              <a:t>Ascoltatore (3/3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25000" y="1538280"/>
            <a:ext cx="8729640" cy="45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(quasi nessuna modifica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"/>
          <p:cNvSpPr/>
          <p:nvPr/>
        </p:nvSpPr>
        <p:spPr>
          <a:xfrm>
            <a:off x="3465360" y="4876920"/>
            <a:ext cx="4152960" cy="520560"/>
          </a:xfrm>
          <a:prstGeom prst="rect">
            <a:avLst/>
          </a:prstGeom>
          <a:solidFill>
            <a:srgbClr val="1c1c1c"/>
          </a:solidFill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Courier New"/>
              </a:rPr>
              <a:t>&gt;java ProvaGUI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85760" y="2365200"/>
            <a:ext cx="8769240" cy="1847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public class ProvaGUI</a:t>
            </a:r>
            <a:r>
              <a:rPr b="1" lang="it-IT" sz="2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public static void main (String[] args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GUI</a:t>
            </a:r>
            <a:r>
              <a:rPr b="1" lang="it-IT" sz="2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 finestraPrincipale = new GUI</a:t>
            </a:r>
            <a:r>
              <a:rPr b="1" lang="it-IT" sz="2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System.out.println("Fine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803160" y="2940120"/>
            <a:ext cx="3346560" cy="3159720"/>
            <a:chOff x="803160" y="2940120"/>
            <a:chExt cx="3346560" cy="3159720"/>
          </a:xfrm>
        </p:grpSpPr>
        <p:sp>
          <p:nvSpPr>
            <p:cNvPr id="140" name=""/>
            <p:cNvSpPr/>
            <p:nvPr/>
          </p:nvSpPr>
          <p:spPr>
            <a:xfrm>
              <a:off x="803160" y="2940120"/>
              <a:ext cx="1092240" cy="365040"/>
            </a:xfrm>
            <a:prstGeom prst="ellipse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1" name=""/>
            <p:cNvCxnSpPr>
              <a:stCxn id="142" idx="0"/>
              <a:endCxn id="140" idx="5"/>
            </p:cNvCxnSpPr>
            <p:nvPr/>
          </p:nvCxnSpPr>
          <p:spPr>
            <a:xfrm flipH="1" flipV="1">
              <a:off x="1734480" y="3265200"/>
              <a:ext cx="1827720" cy="2448720"/>
            </a:xfrm>
            <a:prstGeom prst="straightConnector1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142" name=""/>
            <p:cNvSpPr/>
            <p:nvPr/>
          </p:nvSpPr>
          <p:spPr>
            <a:xfrm>
              <a:off x="2973240" y="5713560"/>
              <a:ext cx="1176480" cy="3862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0000ff"/>
                  </a:solidFill>
                  <a:latin typeface="Courier New"/>
                </a:rPr>
                <a:t>Fra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fano Mizzaro - AWT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D6E70-0CBA-49EA-BF99-B20A2F55414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24588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333399"/>
                </a:solidFill>
                <a:latin typeface="Tahoma"/>
              </a:rPr>
              <a:t>Meccanismo di gestione event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25000" y="1538280"/>
            <a:ext cx="8729640" cy="45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Azione utente </a:t>
            </a:r>
            <a:r>
              <a:rPr b="0" lang="it-IT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Creazione dell’istanza dell’evento opportuno (sottoclasse di </a:t>
            </a:r>
            <a:r>
              <a:rPr b="1" lang="it-IT" sz="2800" spc="-1" strike="noStrike">
                <a:solidFill>
                  <a:srgbClr val="000000"/>
                </a:solidFill>
                <a:latin typeface="Courier New"/>
              </a:rPr>
              <a:t>AWTEvent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it-IT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Invocazione (</a:t>
            </a:r>
            <a:r>
              <a:rPr b="0" lang="it-IT" sz="2800" spc="-1" strike="noStrike">
                <a:solidFill>
                  <a:srgbClr val="0000ff"/>
                </a:solidFill>
                <a:latin typeface="Tahoma"/>
              </a:rPr>
              <a:t>automatica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) dei metodi dell’ascoltatore (un’istanza di </a:t>
            </a:r>
            <a:r>
              <a:rPr b="1" lang="it-IT" sz="2800" spc="-1" strike="noStrike">
                <a:solidFill>
                  <a:srgbClr val="000000"/>
                </a:solidFill>
                <a:latin typeface="Courier New"/>
              </a:rPr>
              <a:t>EventListener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L’ascoltatore deve essersi registrato in precedenza per quegli eventi (</a:t>
            </a: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addWindowListener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L’istanza-evento viene passata come argomento al metodo invocato automaticamen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È la JVM a invocare un metodo di un’istanza che noi scriviam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fano Mizzaro - AWT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2CAC1-CA6B-45C3-BE63-D004C54B984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225000" y="1538280"/>
            <a:ext cx="8729640" cy="45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rcRect l="0" t="2457" r="1668" b="0"/>
          <a:stretch/>
        </p:blipFill>
        <p:spPr>
          <a:xfrm>
            <a:off x="14400" y="671400"/>
            <a:ext cx="9129600" cy="619776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2"/>
          <p:cNvSpPr>
            <a:spLocks noGrp="1"/>
          </p:cNvSpPr>
          <p:nvPr>
            <p:ph type="title"/>
          </p:nvPr>
        </p:nvSpPr>
        <p:spPr>
          <a:xfrm>
            <a:off x="1150560" y="174600"/>
            <a:ext cx="779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scoltatori e adattator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fano Mizzaro - AWT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D9AD4-D6A5-4563-9D68-99BF57B86F4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225000" y="1538280"/>
            <a:ext cx="8729640" cy="45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830" t="814" r="1667" b="504"/>
          <a:stretch/>
        </p:blipFill>
        <p:spPr>
          <a:xfrm>
            <a:off x="76320" y="812880"/>
            <a:ext cx="9067680" cy="604512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2"/>
          <p:cNvSpPr>
            <a:spLocks noGrp="1"/>
          </p:cNvSpPr>
          <p:nvPr>
            <p:ph type="title"/>
          </p:nvPr>
        </p:nvSpPr>
        <p:spPr>
          <a:xfrm>
            <a:off x="1150560" y="24588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333399"/>
                </a:solidFill>
                <a:latin typeface="Tahoma"/>
              </a:rPr>
              <a:t>Gerarchia degli event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fano Mizzaro - AWT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118D0-A7AE-4FB8-B2DC-A0857418A0C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50560" y="24588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333399"/>
                </a:solidFill>
                <a:latin typeface="Tahoma"/>
              </a:rPr>
              <a:t>Tutto è un oggetto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5000" y="1538280"/>
            <a:ext cx="8729640" cy="45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3 istanz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La GUI (</a:t>
            </a:r>
            <a:r>
              <a:rPr b="1" lang="it-IT" sz="2800" spc="-1" strike="noStrike">
                <a:solidFill>
                  <a:srgbClr val="000000"/>
                </a:solidFill>
                <a:latin typeface="Courier New"/>
              </a:rPr>
              <a:t>Frame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L’evento generato dal click del mouse sul “pulsante” di chiusura finestra (</a:t>
            </a:r>
            <a:r>
              <a:rPr b="1" lang="it-IT" sz="2800" spc="-1" strike="noStrike">
                <a:solidFill>
                  <a:srgbClr val="000000"/>
                </a:solidFill>
                <a:latin typeface="Courier New"/>
              </a:rPr>
              <a:t>WindowEvent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L’ascoltatore con il codice eseguito per gestire l’evento (</a:t>
            </a:r>
            <a:r>
              <a:rPr b="1" lang="it-IT" sz="2800" spc="-1" strike="noStrike">
                <a:solidFill>
                  <a:srgbClr val="000000"/>
                </a:solidFill>
                <a:latin typeface="Courier New"/>
              </a:rPr>
              <a:t>WindowListener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acciamo un diagramma unic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4a istanza: il gestore della posizione degli oggetti che potrebbero esserci nella finestra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fano Mizzaro - AWT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CA921-7EDA-44EB-B68A-6373C2F0797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50560" y="24588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333399"/>
                </a:solidFill>
                <a:latin typeface="Tahoma"/>
              </a:rPr>
              <a:t>Senza l’adattatore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1052640"/>
            <a:ext cx="9140760" cy="4855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300" spc="-1" strike="noStrike">
                <a:solidFill>
                  <a:srgbClr val="333399"/>
                </a:solidFill>
                <a:latin typeface="Courier New"/>
              </a:rPr>
              <a:t>import java.awt.event.*;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300" spc="-1" strike="noStrike">
                <a:solidFill>
                  <a:srgbClr val="333399"/>
                </a:solidFill>
                <a:latin typeface="Courier New"/>
              </a:rPr>
              <a:t>public class Ascoltator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300" spc="-1" strike="noStrike">
                <a:solidFill>
                  <a:srgbClr val="333399"/>
                </a:solidFill>
                <a:latin typeface="Courier New"/>
              </a:rPr>
              <a:t>                      </a:t>
            </a:r>
            <a:r>
              <a:rPr b="1" lang="it-IT" sz="2300" spc="-1" strike="noStrike">
                <a:solidFill>
                  <a:srgbClr val="333399"/>
                </a:solidFill>
                <a:latin typeface="Courier New"/>
              </a:rPr>
              <a:t>implements WindowListener {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3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1" lang="it-IT" sz="2300" spc="-1" strike="noStrike">
                <a:solidFill>
                  <a:srgbClr val="333399"/>
                </a:solidFill>
                <a:latin typeface="Courier New"/>
              </a:rPr>
              <a:t>public void windowOpened(WindowEvent e) {}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3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1" lang="it-IT" sz="2300" spc="-1" strike="noStrike">
                <a:solidFill>
                  <a:srgbClr val="333399"/>
                </a:solidFill>
                <a:latin typeface="Courier New"/>
              </a:rPr>
              <a:t>public void windowIconified(WindowEvent e) {}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3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1" lang="it-IT" sz="2300" spc="-1" strike="noStrike">
                <a:solidFill>
                  <a:srgbClr val="333399"/>
                </a:solidFill>
                <a:latin typeface="Courier New"/>
              </a:rPr>
              <a:t>public void windowDeiconified(WindowEvent e) {}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3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1" lang="it-IT" sz="2300" spc="-1" strike="noStrike">
                <a:solidFill>
                  <a:srgbClr val="333399"/>
                </a:solidFill>
                <a:latin typeface="Courier New"/>
              </a:rPr>
              <a:t>public void windowActivated(WindowEvent e) {}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3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1" lang="it-IT" sz="2300" spc="-1" strike="noStrike">
                <a:solidFill>
                  <a:srgbClr val="333399"/>
                </a:solidFill>
                <a:latin typeface="Courier New"/>
              </a:rPr>
              <a:t>public void windowDeactivated(WindowEvent e) {}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3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1" lang="it-IT" sz="2300" spc="-1" strike="noStrike">
                <a:solidFill>
                  <a:srgbClr val="333399"/>
                </a:solidFill>
                <a:latin typeface="Courier New"/>
              </a:rPr>
              <a:t>public void windowClosed (WindowEvent e) {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3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it-IT" sz="2300" spc="-1" strike="noStrike">
                <a:solidFill>
                  <a:srgbClr val="333399"/>
                </a:solidFill>
                <a:latin typeface="Courier New"/>
              </a:rPr>
              <a:t>System.out.println(e);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3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it-IT" sz="2300" spc="-1" strike="noStrike">
                <a:solidFill>
                  <a:srgbClr val="333399"/>
                </a:solidFill>
                <a:latin typeface="Courier New"/>
              </a:rPr>
              <a:t>System.exit(0);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3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1" lang="it-IT" sz="2300" spc="-1" strike="noStrike">
                <a:solidFill>
                  <a:srgbClr val="333399"/>
                </a:solidFill>
                <a:latin typeface="Courier New"/>
              </a:rPr>
              <a:t>}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3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1" lang="it-IT" sz="2300" spc="-1" strike="noStrike">
                <a:solidFill>
                  <a:srgbClr val="333399"/>
                </a:solidFill>
                <a:latin typeface="Courier New"/>
              </a:rPr>
              <a:t>public void windowClosing (WindowEvent e) {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3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it-IT" sz="2300" spc="-1" strike="noStrike">
                <a:solidFill>
                  <a:srgbClr val="333399"/>
                </a:solidFill>
                <a:latin typeface="Courier New"/>
              </a:rPr>
              <a:t>e.getWindow().dispose();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3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it-IT" sz="2300" spc="-1" strike="noStrike">
                <a:solidFill>
                  <a:srgbClr val="333399"/>
                </a:solidFill>
                <a:latin typeface="Courier New"/>
              </a:rPr>
              <a:t>System.out.println(e);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3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1" lang="it-IT" sz="2300" spc="-1" strike="noStrike">
                <a:solidFill>
                  <a:srgbClr val="333399"/>
                </a:solidFill>
                <a:latin typeface="Courier New"/>
              </a:rPr>
              <a:t>}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300" spc="-1" strike="noStrike">
                <a:solidFill>
                  <a:srgbClr val="333399"/>
                </a:solidFill>
                <a:latin typeface="Courier New"/>
              </a:rPr>
              <a:t>}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fano Mizzaro - AWT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95DE2-3D35-48C6-9A10-22F02995F74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50560" y="24588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scoltatori e classi inter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25000" y="1538280"/>
            <a:ext cx="8729640" cy="45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Meglio estendere un Adapter che implementare un Liste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Però c’è eredità singola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… 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e poi è scomodo creare tante classi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… 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e poi come accedo agli attributi privati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Soluzione: classi interne per gli ascoltator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ahoma"/>
              </a:rPr>
              <a:t>Membro (“dentro la classe”) (usate questa!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Locali (“dentro un metodo”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Anonime (“dentro un metodo e senza nome”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fano Mizzaro - AWT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3C10E-0504-40ED-A21C-4E88C95184E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0560" y="24588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333399"/>
                </a:solidFill>
                <a:latin typeface="Tahoma"/>
              </a:rPr>
              <a:t>Ascoltatore e classe membr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8" name=""/>
          <p:cNvSpPr/>
          <p:nvPr/>
        </p:nvSpPr>
        <p:spPr>
          <a:xfrm>
            <a:off x="262080" y="2301840"/>
            <a:ext cx="8616960" cy="3017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import java.awt.*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import java.awt.event.*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public class GUI2 extends Frame {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1" lang="it-IT" sz="2400" spc="-1" strike="noStrike">
                <a:solidFill>
                  <a:srgbClr val="0000ff"/>
                </a:solidFill>
                <a:latin typeface="Courier New"/>
              </a:rPr>
              <a:t>class Ascoltatore extends WindowAdapter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ff"/>
                </a:solidFill>
                <a:latin typeface="Courier New"/>
              </a:rPr>
              <a:t>    </a:t>
            </a:r>
            <a:r>
              <a:rPr b="1" lang="it-IT" sz="2400" spc="-1" strike="noStrike">
                <a:solidFill>
                  <a:srgbClr val="0000ff"/>
                </a:solidFill>
                <a:latin typeface="Courier New"/>
              </a:rPr>
              <a:t>// idem come pri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ff"/>
                </a:solidFill>
                <a:latin typeface="Courier New"/>
              </a:rPr>
              <a:t>  </a:t>
            </a:r>
            <a:r>
              <a:rPr b="1" lang="it-IT" sz="2400" spc="-1" strike="noStrike">
                <a:solidFill>
                  <a:srgbClr val="0000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public GUI2 (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// idem come pri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fano Mizzaro - AWT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D9EF5-0CFD-48DB-A9B0-B420E272DC4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4588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iassunt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5000" y="1538280"/>
            <a:ext cx="8729640" cy="45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grammazione strutturat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O: TDA, scambio messaggi, eredi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à, polimorfismo, OO in Jav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assegna AP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, String, Math,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ccezion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zione Javadoc delle 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fano Mizzaro - AWT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06C5B-0482-435E-B482-6E59FF8877F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50560" y="24588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333399"/>
                </a:solidFill>
                <a:latin typeface="Tahoma"/>
              </a:rPr>
              <a:t>Ascoltatore e classe loca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"/>
          <p:cNvSpPr/>
          <p:nvPr/>
        </p:nvSpPr>
        <p:spPr>
          <a:xfrm>
            <a:off x="262080" y="2301840"/>
            <a:ext cx="8616960" cy="3017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import java.awt.*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import java.awt.event.*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public class GUI2 extends Frame {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public GUI2 (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it-IT" sz="2400" spc="-1" strike="noStrike">
                <a:solidFill>
                  <a:srgbClr val="0000ff"/>
                </a:solidFill>
                <a:latin typeface="Courier New"/>
              </a:rPr>
              <a:t>class Ascoltatore extends WindowAdapter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ff"/>
                </a:solidFill>
                <a:latin typeface="Courier New"/>
              </a:rPr>
              <a:t>      </a:t>
            </a:r>
            <a:r>
              <a:rPr b="1" lang="it-IT" sz="2400" spc="-1" strike="noStrike">
                <a:solidFill>
                  <a:srgbClr val="0000ff"/>
                </a:solidFill>
                <a:latin typeface="Courier New"/>
              </a:rPr>
              <a:t>// idem come pri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ff"/>
                </a:solidFill>
                <a:latin typeface="Courier New"/>
              </a:rPr>
              <a:t>    </a:t>
            </a:r>
            <a:r>
              <a:rPr b="1" lang="it-IT" sz="2400" spc="-1" strike="noStrike">
                <a:solidFill>
                  <a:srgbClr val="0000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// idem come pri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fano Mizzaro - AWT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F5F51-B923-43DD-A520-D790750B2C0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50560" y="24588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333399"/>
                </a:solidFill>
                <a:latin typeface="Tahoma"/>
              </a:rPr>
              <a:t>Ascoltatore e classe anonim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262080" y="1547640"/>
            <a:ext cx="8616960" cy="3309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import java.awt.*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import java.awt.event.*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public class GUI2 extends Frame {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public GUI2 (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it-IT" sz="2400" spc="-1" strike="noStrike">
                <a:solidFill>
                  <a:srgbClr val="0000ff"/>
                </a:solidFill>
                <a:latin typeface="Courier New"/>
              </a:rPr>
              <a:t>WindowAdapter asc = (new WindowAdapter(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ff"/>
                </a:solidFill>
                <a:latin typeface="Courier New"/>
              </a:rPr>
              <a:t>      </a:t>
            </a:r>
            <a:r>
              <a:rPr b="1" lang="it-IT" sz="2400" spc="-1" strike="noStrike">
                <a:solidFill>
                  <a:srgbClr val="0000ff"/>
                </a:solidFill>
                <a:latin typeface="Courier New"/>
              </a:rPr>
              <a:t>// idem come pri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ff"/>
                </a:solidFill>
                <a:latin typeface="Courier New"/>
              </a:rPr>
              <a:t>    </a:t>
            </a:r>
            <a:r>
              <a:rPr b="1" lang="it-IT" sz="2400" spc="-1" strike="noStrike">
                <a:solidFill>
                  <a:srgbClr val="0000ff"/>
                </a:solidFill>
                <a:latin typeface="Courier New"/>
              </a:rPr>
              <a:t>}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// idem come pri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60400" y="5153040"/>
            <a:ext cx="7950240" cy="970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ff"/>
                </a:solidFill>
                <a:latin typeface="Courier New"/>
              </a:rPr>
              <a:t>addWindowListener(new WindowAdapter(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ff"/>
                </a:solidFill>
                <a:latin typeface="Courier New"/>
              </a:rPr>
              <a:t>  </a:t>
            </a:r>
            <a:r>
              <a:rPr b="1" lang="it-IT" sz="2400" spc="-1" strike="noStrike">
                <a:solidFill>
                  <a:srgbClr val="0000ff"/>
                </a:solidFill>
                <a:latin typeface="Courier New"/>
              </a:rPr>
              <a:t>// idem come pri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ff"/>
                </a:solidFill>
                <a:latin typeface="Courier New"/>
              </a:rPr>
              <a:t>}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fano Mizzaro - AWT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ECB71-8DC6-42FE-8680-1247D324D85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50560" y="24588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333399"/>
                </a:solidFill>
                <a:latin typeface="Tahoma"/>
              </a:rPr>
              <a:t>Aggiungiamo qualcosa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25000" y="1538280"/>
            <a:ext cx="8729640" cy="45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Ok, ora l’interfaccia fa qualcosa, ma è vuota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Aggiungiamo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un’etichetta (</a:t>
            </a:r>
            <a:r>
              <a:rPr b="1" lang="it-IT" sz="2800" spc="-1" strike="noStrike">
                <a:solidFill>
                  <a:srgbClr val="000000"/>
                </a:solidFill>
                <a:latin typeface="Courier New"/>
              </a:rPr>
              <a:t>Label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un pulsante (</a:t>
            </a:r>
            <a:r>
              <a:rPr b="1" lang="it-IT" sz="2800" spc="-1" strike="noStrike">
                <a:solidFill>
                  <a:srgbClr val="000000"/>
                </a:solidFill>
                <a:latin typeface="Courier New"/>
              </a:rPr>
              <a:t>Button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Courier New"/>
              </a:rPr>
              <a:t>add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, definito in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Cont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fano Mizzaro - AWT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E617A-D4B4-40C4-A0A0-30F8104C959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50560" y="24588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333399"/>
                </a:solidFill>
                <a:latin typeface="Tahoma"/>
              </a:rPr>
              <a:t>Etichetta e pulsante (1/5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7" name=""/>
          <p:cNvSpPr/>
          <p:nvPr/>
        </p:nvSpPr>
        <p:spPr>
          <a:xfrm>
            <a:off x="262080" y="1344600"/>
            <a:ext cx="8616960" cy="4771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import java.awt.*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class GUI</a:t>
            </a:r>
            <a:r>
              <a:rPr b="1" lang="it-IT" sz="2400" spc="-1" strike="noStrike">
                <a:solidFill>
                  <a:srgbClr val="0000ff"/>
                </a:solidFill>
                <a:latin typeface="Courier New"/>
              </a:rPr>
              <a:t>3</a:t>
            </a: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 extends Fram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public GUI</a:t>
            </a:r>
            <a:r>
              <a:rPr b="1" lang="it-IT" sz="2400" spc="-1" strike="noStrike">
                <a:solidFill>
                  <a:srgbClr val="0000ff"/>
                </a:solidFill>
                <a:latin typeface="Courier New"/>
              </a:rPr>
              <a:t>3</a:t>
            </a: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 (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Ascoltatore asc = new Ascoltatore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setBounds(100,100,300,200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setTitle("GUI3"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it-IT" sz="2400" spc="-1" strike="noStrike">
                <a:solidFill>
                  <a:srgbClr val="0000ff"/>
                </a:solidFill>
                <a:latin typeface="Courier New"/>
              </a:rPr>
              <a:t>this.add(new Label("Premi il pulsante!")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ff"/>
                </a:solidFill>
                <a:latin typeface="Courier New"/>
              </a:rPr>
              <a:t>                       </a:t>
            </a:r>
            <a:r>
              <a:rPr b="1" lang="it-IT" sz="2400" spc="-1" strike="noStrike">
                <a:solidFill>
                  <a:srgbClr val="0000ff"/>
                </a:solidFill>
                <a:latin typeface="Courier New"/>
              </a:rPr>
              <a:t>BorderLayout.NORTH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ff"/>
                </a:solidFill>
                <a:latin typeface="Courier New"/>
              </a:rPr>
              <a:t>    </a:t>
            </a:r>
            <a:r>
              <a:rPr b="1" lang="it-IT" sz="2400" spc="-1" strike="noStrike">
                <a:solidFill>
                  <a:srgbClr val="0000ff"/>
                </a:solidFill>
                <a:latin typeface="Courier New"/>
              </a:rPr>
              <a:t>Button b = new Button("Premimi!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ff"/>
                </a:solidFill>
                <a:latin typeface="Courier New"/>
              </a:rPr>
              <a:t>    </a:t>
            </a:r>
            <a:r>
              <a:rPr b="1" lang="it-IT" sz="2400" spc="-1" strike="noStrike">
                <a:solidFill>
                  <a:srgbClr val="0000ff"/>
                </a:solidFill>
                <a:latin typeface="Courier New"/>
              </a:rPr>
              <a:t>Panel p = new Panel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ff"/>
                </a:solidFill>
                <a:latin typeface="Courier New"/>
              </a:rPr>
              <a:t>    </a:t>
            </a:r>
            <a:r>
              <a:rPr b="1" lang="it-IT" sz="2400" spc="-1" strike="noStrike">
                <a:solidFill>
                  <a:srgbClr val="0000ff"/>
                </a:solidFill>
                <a:latin typeface="Courier New"/>
              </a:rPr>
              <a:t>p.add(b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ff"/>
                </a:solidFill>
                <a:latin typeface="Courier New"/>
              </a:rPr>
              <a:t>    </a:t>
            </a:r>
            <a:r>
              <a:rPr b="1" lang="it-IT" sz="2400" spc="-1" strike="noStrike">
                <a:solidFill>
                  <a:srgbClr val="0000ff"/>
                </a:solidFill>
                <a:latin typeface="Courier New"/>
              </a:rPr>
              <a:t>this.add(p, BorderLayout.SOUTH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this.addWindowListener(asc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setVisible(tru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fano Mizzaro - AWT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C84C2-88B0-448B-B34C-029CD8E70CB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50560" y="24588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333399"/>
                </a:solidFill>
                <a:latin typeface="Tahoma"/>
              </a:rPr>
              <a:t>Etichetta e pulsante (2/5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25000" y="4136760"/>
            <a:ext cx="8729640" cy="19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Eh, il pulsante non fa nulla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… 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perché manca l’ascoltatore! Aggiungiamo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Click su pulsante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ActionEv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Gestito da </a:t>
            </a: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ActionListe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"/>
          <p:cNvSpPr/>
          <p:nvPr/>
        </p:nvSpPr>
        <p:spPr>
          <a:xfrm>
            <a:off x="4322880" y="3333600"/>
            <a:ext cx="4152960" cy="520560"/>
          </a:xfrm>
          <a:prstGeom prst="rect">
            <a:avLst/>
          </a:prstGeom>
          <a:solidFill>
            <a:srgbClr val="1c1c1c"/>
          </a:solidFill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Courier New"/>
              </a:rPr>
              <a:t>&gt;java ProvaGUI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62080" y="1487520"/>
            <a:ext cx="8616960" cy="1555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public class ProvaGUI</a:t>
            </a:r>
            <a:r>
              <a:rPr b="1" lang="it-IT" sz="2400" spc="-1" strike="noStrike">
                <a:solidFill>
                  <a:srgbClr val="0000ff"/>
                </a:solidFill>
                <a:latin typeface="Courier New"/>
              </a:rPr>
              <a:t>3</a:t>
            </a: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public static void main (String[] args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GUI</a:t>
            </a:r>
            <a:r>
              <a:rPr b="1" lang="it-IT" sz="2400" spc="-1" strike="noStrike">
                <a:solidFill>
                  <a:srgbClr val="0000ff"/>
                </a:solidFill>
                <a:latin typeface="Courier New"/>
              </a:rPr>
              <a:t>3</a:t>
            </a: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 finestraPrincipale = new GUI</a:t>
            </a:r>
            <a:r>
              <a:rPr b="1" lang="it-IT" sz="2400" spc="-1" strike="noStrike">
                <a:solidFill>
                  <a:srgbClr val="0000ff"/>
                </a:solidFill>
                <a:latin typeface="Courier New"/>
              </a:rPr>
              <a:t>3</a:t>
            </a: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fano Mizzaro - AWT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6B8FC-BB3D-45DC-AD1C-3D9645EE760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50560" y="24588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333399"/>
                </a:solidFill>
                <a:latin typeface="Tahoma"/>
              </a:rPr>
              <a:t>Etichetta e pulsante (3/5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3" name=""/>
          <p:cNvSpPr/>
          <p:nvPr/>
        </p:nvSpPr>
        <p:spPr>
          <a:xfrm>
            <a:off x="-3240" y="2135160"/>
            <a:ext cx="9147240" cy="27248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import java.awt.event.*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class AscoltatorePulsan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                      </a:t>
            </a: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implements </a:t>
            </a:r>
            <a:r>
              <a:rPr b="1" lang="it-IT" sz="2400" spc="-1" strike="noStrike">
                <a:solidFill>
                  <a:srgbClr val="0000ff"/>
                </a:solidFill>
                <a:latin typeface="Courier New"/>
              </a:rPr>
              <a:t>ActionListener</a:t>
            </a: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public void </a:t>
            </a:r>
            <a:r>
              <a:rPr b="1" lang="it-IT" sz="2400" spc="-1" strike="noStrike">
                <a:solidFill>
                  <a:srgbClr val="0000ff"/>
                </a:solidFill>
                <a:latin typeface="Courier New"/>
              </a:rPr>
              <a:t>actionPerformed</a:t>
            </a: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(</a:t>
            </a:r>
            <a:r>
              <a:rPr b="1" lang="it-IT" sz="2400" spc="-1" strike="noStrike">
                <a:solidFill>
                  <a:srgbClr val="0000ff"/>
                </a:solidFill>
                <a:latin typeface="Courier New"/>
              </a:rPr>
              <a:t>ActionEvent</a:t>
            </a: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 e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System.out.println(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                     </a:t>
            </a: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"Hai premuto il pulsante!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System.out.println(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fano Mizzaro - AWT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139BC-FEBE-40E1-B9F3-9FB984D099A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4588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333399"/>
                </a:solidFill>
                <a:latin typeface="Tahoma"/>
              </a:rPr>
              <a:t>Etichetta e pulsante (4/5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0" y="1116000"/>
            <a:ext cx="9147240" cy="56480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import java.awt.*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class GUI</a:t>
            </a:r>
            <a:r>
              <a:rPr b="1" lang="it-IT" sz="2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 extends Fram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public GUI</a:t>
            </a:r>
            <a:r>
              <a:rPr b="1" lang="it-IT" sz="2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 (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Ascoltatore asc = new Ascoltatore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it-IT" sz="2400" spc="-1" strike="noStrike">
                <a:solidFill>
                  <a:srgbClr val="0033ff"/>
                </a:solidFill>
                <a:latin typeface="Courier New"/>
              </a:rPr>
              <a:t>AscoltatorePulsante ap =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33ff"/>
                </a:solidFill>
                <a:latin typeface="Courier New"/>
              </a:rPr>
              <a:t>                           </a:t>
            </a:r>
            <a:r>
              <a:rPr b="1" lang="it-IT" sz="2400" spc="-1" strike="noStrike">
                <a:solidFill>
                  <a:srgbClr val="0033ff"/>
                </a:solidFill>
                <a:latin typeface="Courier New"/>
              </a:rPr>
              <a:t>AscoltatorePulsante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setBounds(100,100,300,200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setTitle("GUI4");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this.add(new Label("Premi il pulsante!")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           </a:t>
            </a: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BorderLayout.NORTH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Button b = new Button("Premimi!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Panel p = new Panel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p.add(b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this.add(p, BorderLayout.SOUTH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this.addWindowListener(asc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it-IT" sz="2400" spc="-1" strike="noStrike">
                <a:solidFill>
                  <a:srgbClr val="0000ff"/>
                </a:solidFill>
                <a:latin typeface="Courier New"/>
              </a:rPr>
              <a:t>b.</a:t>
            </a:r>
            <a:r>
              <a:rPr b="1" lang="it-IT" sz="2400" spc="-1" strike="noStrike">
                <a:solidFill>
                  <a:srgbClr val="0033ff"/>
                </a:solidFill>
                <a:latin typeface="Courier New"/>
              </a:rPr>
              <a:t>addActionListener</a:t>
            </a:r>
            <a:r>
              <a:rPr b="1" lang="it-IT" sz="2400" spc="-1" strike="noStrike">
                <a:solidFill>
                  <a:srgbClr val="0000ff"/>
                </a:solidFill>
                <a:latin typeface="Courier New"/>
              </a:rPr>
              <a:t>(ap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setVisible(true);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fano Mizzaro - AWT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FDBD9-DFF9-42B5-B8E7-33A0265D0284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24588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333399"/>
                </a:solidFill>
                <a:latin typeface="Tahoma"/>
              </a:rPr>
              <a:t>Etichetta e pulsante (5/5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4381560" y="4557600"/>
            <a:ext cx="4152960" cy="520560"/>
          </a:xfrm>
          <a:prstGeom prst="rect">
            <a:avLst/>
          </a:prstGeom>
          <a:solidFill>
            <a:srgbClr val="1c1c1c"/>
          </a:solidFill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Courier New"/>
              </a:rPr>
              <a:t>&gt;java ProvaGUI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17440" y="2573280"/>
            <a:ext cx="8712360" cy="1555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public class ProvaGUI</a:t>
            </a:r>
            <a:r>
              <a:rPr b="1" lang="it-IT" sz="2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public static void main (String[] args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GUI</a:t>
            </a:r>
            <a:r>
              <a:rPr b="1" lang="it-IT" sz="2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 finestraPrincipale = new GUI</a:t>
            </a:r>
            <a:r>
              <a:rPr b="1" lang="it-IT" sz="2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fano Mizzaro - AWT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00F41-0303-42A6-BD89-40B673340952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50560" y="24588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333399"/>
                </a:solidFill>
                <a:latin typeface="Tahoma"/>
              </a:rPr>
              <a:t>Scaletta: AW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25000" y="1537920"/>
            <a:ext cx="8729640" cy="488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666666"/>
                </a:solidFill>
                <a:latin typeface="Tahoma"/>
              </a:rPr>
              <a:t>Esempi, concetti e princ</a:t>
            </a:r>
            <a:r>
              <a:rPr b="0" lang="it-IT" sz="3200" spc="-1" strike="noStrike">
                <a:solidFill>
                  <a:srgbClr val="666666"/>
                </a:solidFill>
                <a:latin typeface="Tahoma"/>
                <a:ea typeface="ＭＳ Ｐゴシック"/>
              </a:rPr>
              <a:t>î</a:t>
            </a:r>
            <a:r>
              <a:rPr b="0" lang="it-IT" sz="3200" spc="-1" strike="noStrike">
                <a:solidFill>
                  <a:srgbClr val="666666"/>
                </a:solidFill>
                <a:latin typeface="Tahoma"/>
              </a:rPr>
              <a:t>pi alla ba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666666"/>
                </a:solidFill>
                <a:latin typeface="Tahoma"/>
              </a:rPr>
              <a:t>Component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666666"/>
                </a:solidFill>
                <a:latin typeface="Tahoma"/>
              </a:rPr>
              <a:t>Event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666666"/>
                </a:solidFill>
                <a:latin typeface="Tahoma"/>
              </a:rPr>
              <a:t>Gestori eventi (ascoltator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666666"/>
                </a:solidFill>
                <a:latin typeface="Tahoma"/>
              </a:rPr>
              <a:t>Classi inter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Layout e layout manager (cenn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Da fare e da non fa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666666"/>
                </a:solidFill>
                <a:latin typeface="Tahoma"/>
              </a:rPr>
              <a:t>Le API dell’AW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fano Mizzaro - AWT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60E16-B23C-420F-87D2-1ABF1FC3A5DC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50560" y="24588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333399"/>
                </a:solidFill>
                <a:latin typeface="Tahoma"/>
              </a:rPr>
              <a:t>Layout (cenni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25000" y="1538280"/>
            <a:ext cx="8729640" cy="45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Come disporre gli oggetti dentro un </a:t>
            </a:r>
            <a:r>
              <a:rPr b="1" lang="it-IT" sz="3200" spc="-1" strike="noStrike">
                <a:solidFill>
                  <a:srgbClr val="000000"/>
                </a:solidFill>
                <a:latin typeface="Courier New"/>
              </a:rPr>
              <a:t>Container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(“contenitore”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Courier New"/>
              </a:rPr>
              <a:t>LayoutManager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: gestore di layou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Ogni sottoclasse di </a:t>
            </a:r>
            <a:r>
              <a:rPr b="1" lang="it-IT" sz="3200" spc="-1" strike="noStrike">
                <a:solidFill>
                  <a:srgbClr val="000000"/>
                </a:solidFill>
                <a:latin typeface="Courier New"/>
              </a:rPr>
              <a:t>Container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ha associata un’istanza di </a:t>
            </a:r>
            <a:r>
              <a:rPr b="1" lang="it-IT" sz="3200" spc="-1" strike="noStrike">
                <a:solidFill>
                  <a:srgbClr val="000000"/>
                </a:solidFill>
                <a:latin typeface="Courier New"/>
              </a:rPr>
              <a:t>LayoutManag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estore di layout di default</a:t>
            </a:r>
            <a:r>
              <a:rPr b="0" i="1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it-IT" sz="3200" spc="-1" strike="noStrike">
                <a:solidFill>
                  <a:srgbClr val="000000"/>
                </a:solidFill>
                <a:latin typeface="Courier New"/>
              </a:rPr>
              <a:t>BorderLayout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per </a:t>
            </a:r>
            <a:r>
              <a:rPr b="1" lang="it-IT" sz="3200" spc="-1" strike="noStrike">
                <a:solidFill>
                  <a:srgbClr val="000000"/>
                </a:solidFill>
                <a:latin typeface="Courier New"/>
              </a:rPr>
              <a:t>Frame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Ne riparleremo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fano Mizzaro - AWT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4C0C0-D5C6-42D2-9014-304CE0DEBB0B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4588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333399"/>
                </a:solidFill>
                <a:latin typeface="Tahoma"/>
              </a:rPr>
              <a:t>Oggi: GUI in Java, l’AW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5000" y="1537920"/>
            <a:ext cx="8729640" cy="488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Esempi, concetti e princ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î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pi alla ba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Component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Event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Gestori eventi (ascoltator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Classi inter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Layout e layout manager (cenn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Da fare e da non fa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Le API dell’AW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fano Mizzaro - AWT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5B5C3-B87B-471C-8394-DE3EDA209B8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4588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333399"/>
                </a:solidFill>
                <a:latin typeface="Tahoma"/>
              </a:rPr>
              <a:t>Da fare e da non fa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25000" y="1538280"/>
            <a:ext cx="8729640" cy="45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Finestra con due botton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Classe “</a:t>
            </a:r>
            <a:r>
              <a:rPr b="1" lang="it-IT" sz="3200" spc="-1" strike="noStrike">
                <a:solidFill>
                  <a:srgbClr val="000000"/>
                </a:solidFill>
                <a:latin typeface="Courier New"/>
              </a:rPr>
              <a:t>MyFrame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” ch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Estende </a:t>
            </a:r>
            <a:r>
              <a:rPr b="1" lang="it-IT" sz="2800" spc="-1" strike="noStrike">
                <a:solidFill>
                  <a:srgbClr val="000000"/>
                </a:solidFill>
                <a:latin typeface="Courier New"/>
              </a:rPr>
              <a:t>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Implementa uno o più listen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Si può fare in due modi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M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Be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Vediamo il codice “male” (tutto in un file)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fano Mizzaro - AWT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DC9B6-8E35-4FDE-BC7C-542F29736C5B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50560" y="24588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333399"/>
                </a:solidFill>
                <a:latin typeface="Courier New"/>
              </a:rPr>
              <a:t>MalFatto.java</a:t>
            </a:r>
            <a:r>
              <a:rPr b="0" lang="it-IT" sz="4400" spc="-1" strike="noStrike">
                <a:solidFill>
                  <a:srgbClr val="333399"/>
                </a:solidFill>
                <a:latin typeface="Tahoma"/>
              </a:rPr>
              <a:t> (1/3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6" name=""/>
          <p:cNvSpPr/>
          <p:nvPr/>
        </p:nvSpPr>
        <p:spPr>
          <a:xfrm>
            <a:off x="214200" y="1197000"/>
            <a:ext cx="8712360" cy="3894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import java.awt.*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import java.awt.event.*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public class MalFatto </a:t>
            </a:r>
            <a:r>
              <a:rPr b="1" lang="it-IT" sz="2400" spc="-1" strike="noStrike">
                <a:solidFill>
                  <a:srgbClr val="0000ff"/>
                </a:solidFill>
                <a:latin typeface="Courier New"/>
              </a:rPr>
              <a:t>extends Fram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ff"/>
                </a:solidFill>
                <a:latin typeface="Courier New"/>
              </a:rPr>
              <a:t>    </a:t>
            </a:r>
            <a:r>
              <a:rPr b="1" lang="it-IT" sz="2400" spc="-1" strike="noStrike">
                <a:solidFill>
                  <a:srgbClr val="0000ff"/>
                </a:solidFill>
                <a:latin typeface="Courier New"/>
              </a:rPr>
              <a:t>implements ActionListener, WindowListener</a:t>
            </a: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Button b1 = new Button("Pulsante 1")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         </a:t>
            </a: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b2 = new Button("Pulsante 2"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public MalFatto() {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..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add(b1); add(b2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it-IT" sz="2400" spc="-1" strike="noStrike">
                <a:solidFill>
                  <a:srgbClr val="0000ff"/>
                </a:solidFill>
                <a:latin typeface="Courier New"/>
              </a:rPr>
              <a:t>b1.addActionListener(this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ff"/>
                </a:solidFill>
                <a:latin typeface="Courier New"/>
              </a:rPr>
              <a:t>    </a:t>
            </a:r>
            <a:r>
              <a:rPr b="1" lang="it-IT" sz="2400" spc="-1" strike="noStrike">
                <a:solidFill>
                  <a:srgbClr val="0000ff"/>
                </a:solidFill>
                <a:latin typeface="Courier New"/>
              </a:rPr>
              <a:t>b2.addActionListener(this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ff"/>
                </a:solidFill>
                <a:latin typeface="Courier New"/>
              </a:rPr>
              <a:t>    </a:t>
            </a:r>
            <a:r>
              <a:rPr b="1" lang="it-IT" sz="2400" spc="-1" strike="noStrike">
                <a:solidFill>
                  <a:srgbClr val="0000ff"/>
                </a:solidFill>
                <a:latin typeface="Courier New"/>
              </a:rPr>
              <a:t>addWindowListener(this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fano Mizzaro - AWT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CED97-FAB5-4A62-8C16-E5D04D7238F2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50560" y="24588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333399"/>
                </a:solidFill>
                <a:latin typeface="Courier New"/>
              </a:rPr>
              <a:t>MalFatto.java</a:t>
            </a:r>
            <a:r>
              <a:rPr b="0" lang="it-IT" sz="4400" spc="-1" strike="noStrike">
                <a:solidFill>
                  <a:srgbClr val="333399"/>
                </a:solidFill>
                <a:latin typeface="Tahoma"/>
              </a:rPr>
              <a:t> (2/3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8" name=""/>
          <p:cNvSpPr/>
          <p:nvPr/>
        </p:nvSpPr>
        <p:spPr>
          <a:xfrm>
            <a:off x="0" y="1425600"/>
            <a:ext cx="9140760" cy="27248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public void actionPerformed(ActionEvent e) {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Object source = e.getSource(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if (source == b1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      </a:t>
            </a: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System.out.println("Premuto Pulsante 1"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else if (source == b2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      </a:t>
            </a: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System.out.println("Premuto Pulsante 2"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      </a:t>
            </a: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System.out.println("Qualcos'altro..."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}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fano Mizzaro - AWT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E8D34-7845-4379-B411-3780DBAA303C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4588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333399"/>
                </a:solidFill>
                <a:latin typeface="Courier New"/>
              </a:rPr>
              <a:t>MalFatto.java</a:t>
            </a:r>
            <a:r>
              <a:rPr b="0" lang="it-IT" sz="4400" spc="-1" strike="noStrike">
                <a:solidFill>
                  <a:srgbClr val="333399"/>
                </a:solidFill>
                <a:latin typeface="Tahoma"/>
              </a:rPr>
              <a:t> (3/3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1530360"/>
            <a:ext cx="9144000" cy="4431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90000" tIns="0" bIns="46800" anchor="t">
            <a:spAutoFit/>
          </a:bodyPr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public void windowClosing(WindowEvent e) {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System.out.println("Window Closing"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System.exit(0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}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public void windowClosed(WindowEvent e) {}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public void windowDeiconified(WindowEvent e){}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public void windowIconified(WindowEvent e) {}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public void windowActivated(WindowEvent e) {}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public void windowDeactivated(WindowEvent e){}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public void windowOpened(WindowEvent e) {}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public static void main(String[] args) {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Frame finestra = new MalFatto(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}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fano Mizzaro - AWT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DF622-8BB3-4C2E-9C40-24658E2DA47B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50560" y="24588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333399"/>
                </a:solidFill>
                <a:latin typeface="Tahoma"/>
              </a:rPr>
              <a:t>Perché è fatto ma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5000" y="1538280"/>
            <a:ext cx="8729640" cy="45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Classe che fa 2 co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Costruisce la GU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Gestisce gli event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Tanti metodi vuoti inutil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Tanto codice inutile, scritto per nien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Catene di if/el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N.B. Purtroppo molti libri usa(va)no questa tecnica…</a:t>
            </a:r>
            <a:r>
              <a:rPr b="0" lang="it-IT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Vediamo il “bene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fano Mizzaro - AWT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B49DE-EAA7-4166-90D4-632EDB236492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50560" y="24588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333399"/>
                </a:solidFill>
                <a:latin typeface="Courier New"/>
              </a:rPr>
              <a:t>BenFatto.java</a:t>
            </a:r>
            <a:r>
              <a:rPr b="0" lang="it-IT" sz="4400" spc="-1" strike="noStrike">
                <a:solidFill>
                  <a:srgbClr val="333399"/>
                </a:solidFill>
                <a:latin typeface="Tahoma"/>
              </a:rPr>
              <a:t> (1/2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4" name=""/>
          <p:cNvSpPr/>
          <p:nvPr/>
        </p:nvSpPr>
        <p:spPr>
          <a:xfrm>
            <a:off x="3240" y="933480"/>
            <a:ext cx="9140760" cy="53060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import java.awt.*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import java.awt.event.*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public class BenFatto </a:t>
            </a:r>
            <a:r>
              <a:rPr b="1" lang="it-IT" sz="2400" spc="-1" strike="noStrike">
                <a:solidFill>
                  <a:srgbClr val="0000ff"/>
                </a:solidFill>
                <a:latin typeface="Courier New"/>
              </a:rPr>
              <a:t>extends Frame</a:t>
            </a: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 {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public BenFatto() {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Button b1 = new Button("Pulsante 1")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           </a:t>
            </a: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b2 = new Button("Pulsante 2"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add(b1); add(b2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..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b1.addActionListener(new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                       </a:t>
            </a: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AscoltatorePulsante1()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b2.addActionListener(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                       </a:t>
            </a: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AscoltatorePulsante2()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addWindowListener( new WindowAdapter(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      </a:t>
            </a: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public void windowClosing(WindowEvent e){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        </a:t>
            </a: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System.out.println("Window Closing"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        </a:t>
            </a: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System.exit(0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      </a:t>
            </a: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}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}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}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fano Mizzaro - AWT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C34E1-A009-43FD-B9FA-A2C66D2A4F6E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4588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333399"/>
                </a:solidFill>
                <a:latin typeface="Courier New"/>
              </a:rPr>
              <a:t>BenFatto.java</a:t>
            </a:r>
            <a:r>
              <a:rPr b="0" lang="it-IT" sz="4400" spc="-1" strike="noStrike">
                <a:solidFill>
                  <a:srgbClr val="333399"/>
                </a:solidFill>
                <a:latin typeface="Tahoma"/>
              </a:rPr>
              <a:t> (2/2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"/>
          <p:cNvSpPr/>
          <p:nvPr/>
        </p:nvSpPr>
        <p:spPr>
          <a:xfrm>
            <a:off x="3240" y="1123920"/>
            <a:ext cx="9140760" cy="4771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public class AscoltatorePulsante1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               </a:t>
            </a: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implements ActionListener {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public void actionPerformed(ActionEvent e){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      </a:t>
            </a: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System.out.println("Premuto Pulsante 1"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}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}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public class AscoltatorePulsante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               </a:t>
            </a: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implements ActionListener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public void actionPerformed(ActionEvent e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      </a:t>
            </a: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System.out.println("Premuto Pulsante 2"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}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}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public static void main(String[] args) {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Frame finestra = new BenFatto(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}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}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fano Mizzaro - AWT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89206-D73F-4EC3-BA20-C47032D05DC7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150560" y="24588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333399"/>
                </a:solidFill>
                <a:latin typeface="Tahoma"/>
              </a:rPr>
              <a:t>Perché è fatto be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25000" y="1538280"/>
            <a:ext cx="8729640" cy="45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Evito codice inut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Uso variabili locali anziché d’istanza (</a:t>
            </a:r>
            <a:r>
              <a:rPr b="1" lang="it-IT" sz="3200" spc="-1" strike="noStrike">
                <a:solidFill>
                  <a:srgbClr val="000000"/>
                </a:solidFill>
                <a:latin typeface="Courier New"/>
              </a:rPr>
              <a:t>b1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it-IT" sz="3200" spc="-1" strike="noStrike">
                <a:solidFill>
                  <a:srgbClr val="000000"/>
                </a:solidFill>
                <a:latin typeface="Courier New"/>
              </a:rPr>
              <a:t>b2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Ogni classe fa un’unica cosa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Evito catene di if/else, uso l’eredità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Ascoltatori con classi intern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ff"/>
                </a:solidFill>
                <a:latin typeface="Tahoma"/>
              </a:rPr>
              <a:t>Una classe, una responsabilità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fano Mizzaro - AWT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8B130-BE8C-47E6-A7BB-7A445CD32031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150560" y="24588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333399"/>
                </a:solidFill>
                <a:latin typeface="Tahoma"/>
              </a:rPr>
              <a:t>Oggi: GUI in Java, l’AW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25000" y="1537920"/>
            <a:ext cx="8729640" cy="488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666666"/>
                </a:solidFill>
                <a:latin typeface="Tahoma"/>
              </a:rPr>
              <a:t>Esempi, concetti e princ</a:t>
            </a:r>
            <a:r>
              <a:rPr b="0" lang="it-IT" sz="3200" spc="-1" strike="noStrike">
                <a:solidFill>
                  <a:srgbClr val="666666"/>
                </a:solidFill>
                <a:latin typeface="Tahoma"/>
                <a:ea typeface="ＭＳ Ｐゴシック"/>
              </a:rPr>
              <a:t>î</a:t>
            </a:r>
            <a:r>
              <a:rPr b="0" lang="it-IT" sz="3200" spc="-1" strike="noStrike">
                <a:solidFill>
                  <a:srgbClr val="666666"/>
                </a:solidFill>
                <a:latin typeface="Tahoma"/>
              </a:rPr>
              <a:t>pi alla ba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666666"/>
                </a:solidFill>
                <a:latin typeface="Tahoma"/>
              </a:rPr>
              <a:t>Component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666666"/>
                </a:solidFill>
                <a:latin typeface="Tahoma"/>
              </a:rPr>
              <a:t>Event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666666"/>
                </a:solidFill>
                <a:latin typeface="Tahoma"/>
              </a:rPr>
              <a:t>Gestori eventi (ascoltator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666666"/>
                </a:solidFill>
                <a:latin typeface="Tahoma"/>
              </a:rPr>
              <a:t>Classi inter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666666"/>
                </a:solidFill>
                <a:latin typeface="Tahoma"/>
              </a:rPr>
              <a:t>Layout e layout manager (cenn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666666"/>
                </a:solidFill>
                <a:latin typeface="Tahoma"/>
              </a:rPr>
              <a:t>Da fare e da non fa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Le API dell’AW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fano Mizzaro - AWT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F0D7F-9055-4153-8B69-982D4684DB39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4588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alisi API: 2 packag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25000" y="1538280"/>
            <a:ext cx="8729640" cy="45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Courier New"/>
              </a:rPr>
              <a:t>java.awt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(93 classi + 16 interfacc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Contiene le classi per i componenti (finestre, pulsanti, menu, …) e i lay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(e altro: </a:t>
            </a:r>
            <a:r>
              <a:rPr b="1" lang="it-IT" sz="2800" spc="-1" strike="noStrike">
                <a:solidFill>
                  <a:srgbClr val="000000"/>
                </a:solidFill>
                <a:latin typeface="Courier New"/>
              </a:rPr>
              <a:t>Font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it-IT" sz="2800" spc="-1" strike="noStrike">
                <a:solidFill>
                  <a:srgbClr val="000000"/>
                </a:solidFill>
                <a:latin typeface="Courier New"/>
              </a:rPr>
              <a:t>Color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, …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Courier New"/>
              </a:rPr>
              <a:t>java.awt.event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(25 + 18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Contiene le classi per gli event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Rappresentazione event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Gestione event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fano Mizzaro - AWT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58F36-34ED-4BED-B580-23921A6CC6F4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4588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333399"/>
                </a:solidFill>
                <a:latin typeface="Tahoma"/>
              </a:rPr>
              <a:t>Cos’è una GU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25000" y="1538280"/>
            <a:ext cx="8729640" cy="45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Graphical User Interfac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Interfaccia Utente Grafic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Interazione utente-programma basata s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Linea di comando (shell Unix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Solo testo, tastiera, curso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GUI (Mozilla, MSWord, XEmacs, …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Grafica, finestre, pulsanti, puntatore/mouse, men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Finora solo linea di comando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Si fanno le GUI in Java? Come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fano Mizzaro - AWT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924B0-CDB3-4952-9F31-9965C341358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rcRect l="23493" t="0" r="0" b="0"/>
          <a:stretch/>
        </p:blipFill>
        <p:spPr>
          <a:xfrm>
            <a:off x="0" y="76320"/>
            <a:ext cx="8591400" cy="6715080"/>
          </a:xfrm>
          <a:prstGeom prst="rect">
            <a:avLst/>
          </a:prstGeom>
          <a:ln w="0">
            <a:noFill/>
          </a:ln>
        </p:spPr>
      </p:pic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0560" y="245880"/>
            <a:ext cx="457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ourier New"/>
              </a:rPr>
              <a:t>java.awt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(1/2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fano Mizzaro - AWT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2AF45-6F1F-419B-8569-102DAF26CFD3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" descr=""/>
          <p:cNvPicPr/>
          <p:nvPr/>
        </p:nvPicPr>
        <p:blipFill>
          <a:blip r:embed="rId1"/>
          <a:srcRect l="21579" t="1939" r="0" b="3995"/>
          <a:stretch/>
        </p:blipFill>
        <p:spPr>
          <a:xfrm>
            <a:off x="565200" y="538200"/>
            <a:ext cx="8010360" cy="631980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ourier New"/>
              </a:rPr>
              <a:t>java.awt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(2/2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fano Mizzaro - AWT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895C4-9977-4068-8C04-025400C51BB9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4588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ourier New"/>
              </a:rPr>
              <a:t>java.awt.event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(1/2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rcRect l="7777" t="0" r="1762" b="0"/>
          <a:stretch/>
        </p:blipFill>
        <p:spPr>
          <a:xfrm>
            <a:off x="0" y="1546200"/>
            <a:ext cx="9140760" cy="377496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6881760" y="1539720"/>
            <a:ext cx="2247840" cy="465120"/>
          </a:xfrm>
          <a:prstGeom prst="rect">
            <a:avLst/>
          </a:prstGeom>
          <a:solidFill>
            <a:srgbClr val="dddddd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fano Mizzaro - AWT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0B263-4A30-45D0-A661-CF9CF3C8EF58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ourier New"/>
              </a:rPr>
              <a:t>java.awt.event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(2/2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0" y="752400"/>
            <a:ext cx="9144000" cy="609624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2322360" y="6364440"/>
            <a:ext cx="2248200" cy="465120"/>
          </a:xfrm>
          <a:prstGeom prst="rect">
            <a:avLst/>
          </a:prstGeom>
          <a:solidFill>
            <a:srgbClr val="dddddd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fano Mizzaro - AWT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EFFA8-5C46-4EF6-B794-86ACE32E979D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150560" y="24588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333399"/>
                </a:solidFill>
                <a:latin typeface="Tahoma"/>
              </a:rPr>
              <a:t>Riassunto: GUI in Java, l’AW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225000" y="1537920"/>
            <a:ext cx="8729640" cy="488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Esemp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Concetti e princ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î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pi alla ba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Component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Event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Gestori eventi (ascoltator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Classi inter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Layout e layout manager (cenn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Da fare e da non fa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Le API dell’AW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(prox. lezione: analisi pi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ù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sistematic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fano Mizzaro - AWT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B37B7-A3A3-4CE1-B229-BEE37AED5B02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150560" y="24588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333399"/>
                </a:solidFill>
                <a:latin typeface="Tahoma"/>
              </a:rPr>
              <a:t>Riferiment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4560" y="1538280"/>
            <a:ext cx="9109080" cy="45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Libri &amp; lucid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Javadoc AP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tocopi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Tutorial SUN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http://java.sun.com/docs/books/tutorial/information/download.htm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ttp://java.sun.com/docs/books/tutorial/index.htm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fano Mizzaro - AWT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6E747-7B15-4451-BE43-14DC06B2E70B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4588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333399"/>
                </a:solidFill>
                <a:latin typeface="Tahoma"/>
              </a:rPr>
              <a:t>GUI in Jav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5000" y="1538280"/>
            <a:ext cx="8729640" cy="45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Tahoma"/>
              </a:rPr>
              <a:t>Tutto è un oggetto (istanz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Finestre, pulsanti, … (component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Azioni dell’utente! (event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Gestori degli event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Gestori del posizionament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AWT (Abstract Window Toolkit): classi predefinite (</a:t>
            </a:r>
            <a:r>
              <a:rPr b="1" lang="it-IT" sz="2800" spc="-1" strike="noStrike">
                <a:solidFill>
                  <a:srgbClr val="000000"/>
                </a:solidFill>
                <a:latin typeface="Courier New"/>
              </a:rPr>
              <a:t>java.awt.*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it-IT" sz="2800" spc="-1" strike="noStrike">
                <a:solidFill>
                  <a:srgbClr val="000000"/>
                </a:solidFill>
                <a:latin typeface="Courier New"/>
              </a:rPr>
              <a:t>java.awt.event.*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, …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WT: 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GUI indipendenti dalla piattaforma (lo stesso codice funziona su varie piattaforme HW/SW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fano Mizzaro - AWT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B38FD-B6E2-45F8-977B-25B7A7FAE94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4588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333399"/>
                </a:solidFill>
                <a:latin typeface="Tahoma"/>
              </a:rPr>
              <a:t>Un esempi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5360" y="1006560"/>
            <a:ext cx="8918640" cy="35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La nostra prima GUI: una finestra vuota che non fa null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e di prov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1420920"/>
            <a:ext cx="9147240" cy="27248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import java.awt.*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public class GUI1 extends Fram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public GUI1 (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super();  // (inutile... super("GUI1");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setBounds(100,100,300,200); //Dimensio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setTitle("GUI1");           //Titolo finest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setVisible(true);           //Rende visib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85760" y="4638600"/>
            <a:ext cx="8769240" cy="1847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public class ProvaGUI1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public static void main (String[] args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GUI1 finestraPrincipale =  new GUI1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System.out.println("Fine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991040" y="5986440"/>
            <a:ext cx="4152960" cy="520560"/>
          </a:xfrm>
          <a:prstGeom prst="rect">
            <a:avLst/>
          </a:prstGeom>
          <a:solidFill>
            <a:srgbClr val="1c1c1c"/>
          </a:solidFill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Courier New"/>
              </a:rPr>
              <a:t>&gt;java ProvaGUI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fano Mizzaro - AWT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0AA43-64DB-4D7E-A244-06E65D45A86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4588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333399"/>
                </a:solidFill>
                <a:latin typeface="Tahoma"/>
              </a:rPr>
              <a:t>Come funziona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25000" y="1538280"/>
            <a:ext cx="8729640" cy="45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In </a:t>
            </a:r>
            <a:r>
              <a:rPr b="1" lang="it-IT" sz="3200" spc="-1" strike="noStrike">
                <a:solidFill>
                  <a:srgbClr val="000000"/>
                </a:solidFill>
                <a:latin typeface="Courier New"/>
              </a:rPr>
              <a:t>GUI1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c’è solo il costrutt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che viene chiamato nel mai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e, usando opportunamente i metodi delle sopraclassi, crea (“costruisce”) la finestr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Notate che </a:t>
            </a:r>
            <a:r>
              <a:rPr b="0" lang="it-IT" sz="32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1" lang="it-IT" sz="3200" spc="-1" strike="noStrike">
                <a:solidFill>
                  <a:srgbClr val="000000"/>
                </a:solidFill>
                <a:latin typeface="Courier New"/>
              </a:rPr>
              <a:t>Fine</a:t>
            </a:r>
            <a:r>
              <a:rPr b="0" lang="it-IT" sz="3200" spc="-1" strike="noStrike">
                <a:solidFill>
                  <a:srgbClr val="000000"/>
                </a:solidFill>
                <a:latin typeface="Courier New"/>
              </a:rPr>
              <a:t>”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viene visualizzato subito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Potrei invocare i metodi anche dal mai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Ex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Cosa c’è in </a:t>
            </a:r>
            <a:r>
              <a:rPr b="1" lang="it-IT" sz="3200" spc="-1" strike="noStrike">
                <a:solidFill>
                  <a:srgbClr val="000000"/>
                </a:solidFill>
                <a:latin typeface="Courier New"/>
              </a:rPr>
              <a:t>Frame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e nelle superclassi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fano Mizzaro - AWT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76DAF-A66B-46A4-A204-90EC16AA51D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9080" y="7920"/>
            <a:ext cx="8591400" cy="684216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877840" y="-360"/>
            <a:ext cx="6065640" cy="12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333399"/>
                </a:solidFill>
                <a:latin typeface="Tahoma"/>
              </a:rPr>
              <a:t>Le classi usat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fano Mizzaro - AWT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7FC59-CBF5-426C-842F-6A4755DDD2E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4588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333399"/>
                </a:solidFill>
                <a:latin typeface="Tahoma"/>
              </a:rPr>
              <a:t>Gestione event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25000" y="1001880"/>
            <a:ext cx="8729640" cy="55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Così com’è </a:t>
            </a:r>
            <a:r>
              <a:rPr b="1" lang="it-IT" sz="3200" spc="-1" strike="noStrike">
                <a:solidFill>
                  <a:srgbClr val="000000"/>
                </a:solidFill>
                <a:latin typeface="Courier New"/>
              </a:rPr>
              <a:t>GUI1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non </a:t>
            </a:r>
            <a:r>
              <a:rPr b="0" lang="it-IT" sz="3200" spc="-1" strike="noStrike">
                <a:solidFill>
                  <a:srgbClr val="0000ff"/>
                </a:solidFill>
                <a:latin typeface="Tahoma"/>
              </a:rPr>
              <a:t>fa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nulla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Ci sono solo componenti, non gestori di event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Modifichiamo la nostra GUI per gestire un evento (chiusura finestra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Click su “X” </a:t>
            </a:r>
            <a:r>
              <a:rPr b="0" lang="it-IT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evento </a:t>
            </a:r>
            <a:r>
              <a:rPr b="0" lang="it-IT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che codice eseguire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Invocazioni </a:t>
            </a:r>
            <a:r>
              <a:rPr b="0" lang="it-IT" sz="3200" spc="-1" strike="noStrike">
                <a:solidFill>
                  <a:srgbClr val="0000ff"/>
                </a:solidFill>
                <a:latin typeface="Tahoma"/>
              </a:rPr>
              <a:t>implicite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: il programmator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scrive il metodo, non la chiam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mette il metodo in un oggetto (ascoltator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associa” l’oggetto all’azi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fano Mizzaro - AWT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887F8-E16D-4A5D-8173-9E953D55A97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9:24:48Z</dcterms:created>
  <dc:creator/>
  <dc:description/>
  <dc:language>en-US</dc:language>
  <cp:lastModifiedBy>Stefano Mizzaro</cp:lastModifiedBy>
  <cp:lastPrinted>2000-05-05T17:23:50Z</cp:lastPrinted>
  <dcterms:modified xsi:type="dcterms:W3CDTF">2007-02-08T09:55:47Z</dcterms:modified>
  <cp:revision>1587</cp:revision>
  <dc:subject/>
  <dc:title>Presentazione di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ingua">
    <vt:lpwstr>Italiano</vt:lpwstr>
  </property>
</Properties>
</file>