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991800" y="766800"/>
            <a:ext cx="511668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54280A-5E89-45BA-A848-638B2F808E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I AL 14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sub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e poi vai al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te vedere quelli degli anni scorsi per farvi un’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8E4-B940-4596-A3A1-1515D8B9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DC4-262A-4FAB-A99F-EE56013F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E6D-C2F6-4B6B-BB9D-16EA8AA8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524-34ED-4AF4-9BEA-329E8BF9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1289-0727-4ED6-BE14-EBAC0BE7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F4F-848F-446F-9886-99540855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3947-89CA-4BAB-AF15-B6BDB6AC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6A3-3C5C-4DCD-A08F-378163E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3492-B2CC-4036-8CE8-BC89AF21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0946-C6EE-433E-8639-A7A99460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BB98-3F33-4CF6-8410-52A50F7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A9E-1F68-47E7-A8C4-5304A95C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9C4A-4D24-4187-BB6B-D1601C7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85B8-E795-465D-B652-1485C94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13EC-58FA-4F52-868B-7403159F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E6EE-97D1-4561-827D-8928B056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F0CF-17EB-4861-864D-B9DBBBCF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8E95-A6C0-4B64-9FA1-D1B711C2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32C3-5013-4CA9-91C1-6AA5E180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D56D-2518-431C-80B3-03435B76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C980-040F-4635-A6AE-B45F17C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C918-08F4-4506-821C-3341718A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F05-0F12-4EB8-A33C-DA906621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DCCB-5F37-49A7-B32D-5D9879CE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D09E-BF4D-44DE-8D9A-77E71818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0498-CA06-444D-86F9-9B02A5BB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BC1C-5878-4792-84A2-8117CCD1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1A76-47D5-460D-970E-137058D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8202-1F93-42FB-AA4D-221E292A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EE12-9BEB-41FE-A0EB-CEE2FF06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EEC8-C6A5-4047-B85C-BEA2935E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766D-5DBB-454A-AC50-E97FEEA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74EC-37BB-4C8D-B59D-5AA6EBBA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4F2-8DFB-4EC2-8CA3-B784D5E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59CE-4BBA-436F-A89C-5E9AB52C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80A2-E709-4B0F-9D83-48010500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C1B7-E685-4225-BEFC-5CACA42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A96D-CC1B-4936-AEDE-5327623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C45B-FCD8-4FC4-A08C-D764CA74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DEEA-9DAB-4C9C-BA54-A3E97BB4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B45B-6FBD-448B-89F8-4043B1A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E35E-7EFA-40FE-B10B-AC576661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FA74-0C03-4D91-8747-47120940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C92-A9AF-41E2-8C48-AE84E875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F48-ADDC-4E3F-B861-8754E49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DB6-750B-44B0-9385-1E859146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FB3-ADD5-4E7C-BB40-E832EA6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8F1-BF8B-4C69-9AC9-1EA620BE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0" y="1411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1480" y="1411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2640" y="5634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2720" y="563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4906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34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2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498-20C4-4E48-9BF0-4D4622EDF1A9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17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56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2E5-DA52-4B64-9D35-B5904842B8A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AB57-68A3-4465-B65A-01F2CEAA4A64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82E-DC90-449C-9D97-A3F916E15DF3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189F-7281-4F0B-9C4F-BFBBC4145A1B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4AA4-4929-4C74-95A8-29995E35145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810-185A-4D50-85BF-DD58F1F07276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E63-F8D1-47E2-8336-E98315DB2C0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7440"/>
            <a:ext cx="91440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ni di computabilit</a:t>
            </a: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à</a:t>
            </a:r>
            <a:br>
              <a:rPr sz="4400"/>
            </a:b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Applet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1440" y="276660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Stefano Mizzar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matematica e informatic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i Udin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imi.uniud.it/mizzaro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zzaro@dimi.uniud.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rammazione, lezione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2 febbraio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efinizioni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Rispost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(a una domanda) = “soluzione di un’istanz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Soluzione di un problem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= metodo generale che permette di fornire in modo uniforme la risposta a tutte le istanze di un problema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Algoritmo risolv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995-D07C-4DD1-AEA4-A753907BA0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lgoritmi e program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o”, “procedimento”, “sequenza di passi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tra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n si può toccare/ved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gra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ppresentazione precisa di un algoritmo in un certo </a:t>
            </a: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linguaggio di program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eseguire/comunicare un algoritmo bisogna rappresentarlo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40C-F88E-44B5-B66E-01228CA10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i e 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lgorit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913200" y="297000"/>
            <a:ext cx="5230800" cy="8090280"/>
            <a:chOff x="3913200" y="297000"/>
            <a:chExt cx="5230800" cy="8090280"/>
          </a:xfrm>
        </p:grpSpPr>
        <p:grpSp>
          <p:nvGrpSpPr>
            <p:cNvPr id="231" name=""/>
            <p:cNvGrpSpPr/>
            <p:nvPr/>
          </p:nvGrpSpPr>
          <p:grpSpPr>
            <a:xfrm>
              <a:off x="3981600" y="297000"/>
              <a:ext cx="4895640" cy="2762280"/>
              <a:chOff x="3981600" y="297000"/>
              <a:chExt cx="4895640" cy="2762280"/>
            </a:xfrm>
          </p:grpSpPr>
          <p:sp>
            <p:nvSpPr>
              <p:cNvPr id="232" name=""/>
              <p:cNvSpPr/>
              <p:nvPr/>
            </p:nvSpPr>
            <p:spPr>
              <a:xfrm>
                <a:off x="3981600" y="297000"/>
                <a:ext cx="4895640" cy="27622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2600" y="855720"/>
                <a:ext cx="164520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70520" y="515520"/>
                <a:ext cx="153324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utti i problem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48080" y="1029960"/>
                <a:ext cx="83232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1 (sqrt(N)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82480" y="1348920"/>
                <a:ext cx="56268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qrt(12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70080" y="1260720"/>
                <a:ext cx="56268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qrt(3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27400" y="1394280"/>
                <a:ext cx="4824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24600" y="14918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19360" y="14918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90760" y="945000"/>
                <a:ext cx="164520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78760" y="1119240"/>
                <a:ext cx="1002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2 (mcd(X,Y)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17840" y="1438200"/>
                <a:ext cx="723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cd(12,4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07240" y="1348920"/>
                <a:ext cx="723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cd(36,5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45200" y="1483560"/>
                <a:ext cx="486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42400" y="158076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37520" y="158076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53720" y="1876320"/>
                <a:ext cx="164484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83280" y="2050560"/>
                <a:ext cx="51984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3 (…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08160" y="2415240"/>
                <a:ext cx="486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05360" y="25124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00120" y="25124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248000" y="3693960"/>
              <a:ext cx="4896000" cy="2762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40440" y="4253040"/>
              <a:ext cx="16444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56640" y="3913200"/>
              <a:ext cx="169776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tti gli algorit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76960" y="4427640"/>
              <a:ext cx="1108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 (alg. per P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84240" y="474660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71840" y="465768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94520" y="4791240"/>
              <a:ext cx="4752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1360" y="488952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6480" y="488952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7880" y="4341960"/>
              <a:ext cx="1644840" cy="9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2960" y="4516560"/>
              <a:ext cx="1108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 (alg. per P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00600" y="483552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89640" y="474660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11960" y="488160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08800" y="497844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04280" y="497844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19760" y="5273640"/>
              <a:ext cx="16462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0400" y="5448240"/>
              <a:ext cx="5198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3 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75640" y="581184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72480" y="591012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67600" y="59101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645880" y="1509840"/>
              <a:ext cx="1683000" cy="68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13200" y="1382040"/>
              <a:ext cx="1682280" cy="70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58040" y="5986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97720" y="583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19880" y="6062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8120" y="5003640"/>
              <a:ext cx="493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D1D-6911-4E82-BF37-D1252A86E1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lgoritmi e 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981600" y="272880"/>
            <a:ext cx="4895640" cy="27622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3680" y="831960"/>
            <a:ext cx="164448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89880" y="492120"/>
            <a:ext cx="1697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tti gli algorit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0200" y="1006560"/>
            <a:ext cx="1108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(alg. per P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17840" y="1325520"/>
            <a:ext cx="292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05080" y="1236600"/>
            <a:ext cx="292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65920" y="1370160"/>
            <a:ext cx="47520" cy="4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9840" y="1468440"/>
            <a:ext cx="4896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19720" y="1468440"/>
            <a:ext cx="493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91480" y="920880"/>
            <a:ext cx="1644480" cy="9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6200" y="1095480"/>
            <a:ext cx="1108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(alg. per P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33840" y="1414440"/>
            <a:ext cx="292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2880" y="1325520"/>
            <a:ext cx="292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45560" y="1460520"/>
            <a:ext cx="4896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42400" y="1557360"/>
            <a:ext cx="4896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37520" y="1557360"/>
            <a:ext cx="4896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53000" y="1852560"/>
            <a:ext cx="164628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83640" y="2027160"/>
            <a:ext cx="519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08880" y="2390760"/>
            <a:ext cx="4752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1080" bIns="-1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2489040"/>
            <a:ext cx="4896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1800" bIns="-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0840" y="2489040"/>
            <a:ext cx="475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1800" bIns="-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91280" y="2565360"/>
            <a:ext cx="475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0960" y="2413080"/>
            <a:ext cx="475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53120" y="2641680"/>
            <a:ext cx="475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51360" y="1582560"/>
            <a:ext cx="493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1800" bIns="-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248000" y="-2001600"/>
            <a:ext cx="4896000" cy="8581680"/>
            <a:chOff x="4248000" y="-2001600"/>
            <a:chExt cx="4896000" cy="8581680"/>
          </a:xfrm>
        </p:grpSpPr>
        <p:sp>
          <p:nvSpPr>
            <p:cNvPr id="307" name=""/>
            <p:cNvSpPr/>
            <p:nvPr/>
          </p:nvSpPr>
          <p:spPr>
            <a:xfrm>
              <a:off x="4248000" y="3817800"/>
              <a:ext cx="4896000" cy="2762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40440" y="4376880"/>
              <a:ext cx="16444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29280" y="4037040"/>
              <a:ext cx="174960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tti i program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3040" y="4551480"/>
              <a:ext cx="10152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. per a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4520" y="4915080"/>
              <a:ext cx="4752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91360" y="501336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86480" y="501336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57880" y="4465800"/>
              <a:ext cx="1644840" cy="9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39400" y="4640400"/>
              <a:ext cx="10152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. per a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11960" y="500544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08800" y="510228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04280" y="510228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9760" y="5397480"/>
              <a:ext cx="16462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16000" y="5572080"/>
              <a:ext cx="1890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75640" y="593568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72480" y="603396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67600" y="60339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4281480" y="-2001600"/>
              <a:ext cx="1682280" cy="667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6015960" y="-1963440"/>
              <a:ext cx="1682280" cy="667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92B-82D7-46D0-B9B9-F3CD31B40B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Problemi, algoritmi, programm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1209600"/>
            <a:ext cx="8090280" cy="5230800"/>
            <a:chOff x="0" y="1209600"/>
            <a:chExt cx="8090280" cy="5230800"/>
          </a:xfrm>
        </p:grpSpPr>
        <p:grpSp>
          <p:nvGrpSpPr>
            <p:cNvPr id="328" name=""/>
            <p:cNvGrpSpPr/>
            <p:nvPr/>
          </p:nvGrpSpPr>
          <p:grpSpPr>
            <a:xfrm>
              <a:off x="0" y="1476360"/>
              <a:ext cx="2762280" cy="4895640"/>
              <a:chOff x="0" y="1476360"/>
              <a:chExt cx="2762280" cy="4895640"/>
            </a:xfrm>
          </p:grpSpPr>
          <p:sp>
            <p:nvSpPr>
              <p:cNvPr id="329" name=""/>
              <p:cNvSpPr/>
              <p:nvPr/>
            </p:nvSpPr>
            <p:spPr>
              <a:xfrm rot="16200000">
                <a:off x="-1066320" y="2543040"/>
                <a:ext cx="4895640" cy="27622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185400" y="4208760"/>
                <a:ext cx="164520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-434160" y="3539880"/>
                <a:ext cx="153324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utti i problem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20120" y="4580640"/>
                <a:ext cx="83232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1 (sqrt(N)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875160" y="4885200"/>
                <a:ext cx="56268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qrt(12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200000">
                <a:off x="786960" y="4197600"/>
                <a:ext cx="56268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qrt(3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1097280" y="4377600"/>
                <a:ext cx="4824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200000">
                <a:off x="1194480" y="428040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200000">
                <a:off x="1194480" y="49856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200000">
                <a:off x="274680" y="2190600"/>
                <a:ext cx="164520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421920" y="2564280"/>
                <a:ext cx="1002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2 (mcd(X,Y)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883800" y="2869200"/>
                <a:ext cx="723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cd(12,4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794520" y="2179800"/>
                <a:ext cx="723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cd(36,5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200000">
                <a:off x="1186560" y="2359800"/>
                <a:ext cx="486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1283400" y="226260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200000">
                <a:off x="1283400" y="296748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6200000">
                <a:off x="1206360" y="3528000"/>
                <a:ext cx="164484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00000">
                <a:off x="1598040" y="3905640"/>
                <a:ext cx="51984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3 (…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200000">
                <a:off x="2118240" y="3696840"/>
                <a:ext cx="486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200000">
                <a:off x="2215080" y="35996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200000">
                <a:off x="2215080" y="430488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16200000">
              <a:off x="2329920" y="2276280"/>
              <a:ext cx="4896000" cy="2762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3583080" y="3941640"/>
              <a:ext cx="16444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2906280" y="3309120"/>
              <a:ext cx="169776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tti gli algorit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3668040" y="4292640"/>
              <a:ext cx="1108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 (alg. per P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4407840" y="461844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4317480" y="392760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494960" y="4110840"/>
              <a:ext cx="4752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591800" y="401400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591440" y="471852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3672360" y="1923120"/>
              <a:ext cx="1644840" cy="9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756960" y="2276280"/>
              <a:ext cx="1108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 (alg. per P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200000">
              <a:off x="4496760" y="260208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4407840" y="191304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583520" y="209304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680360" y="199620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4680720" y="270108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4602600" y="3261240"/>
              <a:ext cx="16462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4995720" y="3638520"/>
              <a:ext cx="5198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3 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5515560" y="342936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6200000">
              <a:off x="5612400" y="333252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5613120" y="40381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16200000">
              <a:off x="3784320" y="452520"/>
              <a:ext cx="1683000" cy="68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3746520" y="2096640"/>
              <a:ext cx="1682280" cy="70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5689440" y="3848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5537160" y="37083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5765760" y="3886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4705920" y="4286880"/>
              <a:ext cx="493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348240" y="1571400"/>
            <a:ext cx="2762280" cy="4895640"/>
            <a:chOff x="6348240" y="1571400"/>
            <a:chExt cx="2762280" cy="4895640"/>
          </a:xfrm>
        </p:grpSpPr>
        <p:sp>
          <p:nvSpPr>
            <p:cNvPr id="378" name=""/>
            <p:cNvSpPr/>
            <p:nvPr/>
          </p:nvSpPr>
          <p:spPr>
            <a:xfrm rot="16200000">
              <a:off x="5281560" y="2638080"/>
              <a:ext cx="4895640" cy="2762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6534000" y="4303440"/>
              <a:ext cx="16444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5831280" y="3672360"/>
              <a:ext cx="174960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tti i program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6678360" y="4679640"/>
              <a:ext cx="10152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. per a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7445880" y="447228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542720" y="437364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7542720" y="507852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23640" y="2284920"/>
              <a:ext cx="1644480" cy="9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6767280" y="2663640"/>
              <a:ext cx="10152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. per a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7535160" y="2452680"/>
              <a:ext cx="4860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7632000" y="2355840"/>
              <a:ext cx="4860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632000" y="3060720"/>
              <a:ext cx="4860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7554240" y="3621600"/>
              <a:ext cx="164592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8112600" y="3999960"/>
              <a:ext cx="1890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8466480" y="379116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6200000">
              <a:off x="8563680" y="3692520"/>
              <a:ext cx="4860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6200000">
              <a:off x="8564400" y="440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V="1" rot="16200000">
            <a:off x="3729240" y="2993040"/>
            <a:ext cx="1682280" cy="522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6" y="247"/>
                </a:moveTo>
                <a:arcTo wR="10800" hR="10800" stAng="-4663569" swAng="4663569"/>
                <a:lnTo>
                  <a:pt x="10800" y="10800"/>
                </a:lnTo>
                <a:close/>
              </a:path>
              <a:path fill="none" w="21600" h="21600">
                <a:moveTo>
                  <a:pt x="13096" y="247"/>
                </a:moveTo>
                <a:arcTo wR="10800" hR="10800" stAng="-4663569" swAng="46635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 rot="16200000">
            <a:off x="3767040" y="1257120"/>
            <a:ext cx="1682280" cy="522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6" y="247"/>
                </a:moveTo>
                <a:arcTo wR="10800" hR="10800" stAng="-4663569" swAng="4663569"/>
                <a:lnTo>
                  <a:pt x="10800" y="10800"/>
                </a:lnTo>
                <a:close/>
              </a:path>
              <a:path fill="none" w="21600" h="21600">
                <a:moveTo>
                  <a:pt x="13096" y="247"/>
                </a:moveTo>
                <a:arcTo wR="10800" hR="10800" stAng="-4663569" swAng="46635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FB2-916B-4459-A513-2148E959C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l calcolat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È u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cutore di algorit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ppresentati da program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diante un linguaggio di program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ecutore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universal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di algorit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n algoritmo va eseguito su d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.: calcola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sqrt(89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4D1-4BCE-4769-B716-14FDC0833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alcolatore, programma e da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07160" y="1173240"/>
            <a:ext cx="107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37560" y="2422440"/>
            <a:ext cx="610200" cy="61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0" y="915"/>
                </a:moveTo>
                <a:arcTo wR="10800" hR="10800" stAng="-6825183" swAng="2848228"/>
                <a:lnTo>
                  <a:pt x="10800" y="10800"/>
                </a:lnTo>
                <a:close/>
              </a:path>
              <a:path fill="none" w="21600" h="21600">
                <a:moveTo>
                  <a:pt x="6450" y="915"/>
                </a:moveTo>
                <a:arcTo wR="10800" hR="10800" stAng="-6825183" swAng="2848228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41760" y="1573200"/>
            <a:ext cx="1800" cy="10144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7800" y="2822760"/>
            <a:ext cx="6112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33" y="781"/>
                </a:moveTo>
                <a:arcTo wR="10800" hR="10800" stAng="-4084490" swAng="2878971"/>
                <a:lnTo>
                  <a:pt x="10800" y="10800"/>
                </a:lnTo>
                <a:close/>
              </a:path>
              <a:path fill="none" w="21600" h="21600">
                <a:moveTo>
                  <a:pt x="14833" y="781"/>
                </a:moveTo>
                <a:arcTo wR="10800" hR="10800" stAng="-4084490" swAng="2878971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867040" y="1550880"/>
            <a:ext cx="1504800" cy="14842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8400" y="3152880"/>
            <a:ext cx="79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Ist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58560" y="272880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Algorit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37560" y="3624120"/>
            <a:ext cx="610200" cy="61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0" y="915"/>
                </a:moveTo>
                <a:arcTo wR="10800" hR="10800" stAng="-6825183" swAng="2848228"/>
                <a:lnTo>
                  <a:pt x="10800" y="10800"/>
                </a:lnTo>
                <a:close/>
              </a:path>
              <a:path fill="none" w="21600" h="21600">
                <a:moveTo>
                  <a:pt x="6450" y="915"/>
                </a:moveTo>
                <a:arcTo wR="10800" hR="10800" stAng="-6825183" swAng="2848228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41760" y="3105000"/>
            <a:ext cx="1800" cy="68436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91600" y="3930480"/>
            <a:ext cx="130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Program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6840" y="4873680"/>
            <a:ext cx="611640" cy="61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9" y="911"/>
                </a:moveTo>
                <a:arcTo wR="10800" hR="10800" stAng="-6821898" swAng="2841662"/>
                <a:lnTo>
                  <a:pt x="10800" y="10800"/>
                </a:lnTo>
                <a:close/>
              </a:path>
              <a:path fill="none" w="21600" h="21600">
                <a:moveTo>
                  <a:pt x="6459" y="911"/>
                </a:moveTo>
                <a:arcTo wR="10800" hR="10800" stAng="-6821898" swAng="2841662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41760" y="4307040"/>
            <a:ext cx="1800" cy="7300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48000" y="5191200"/>
            <a:ext cx="2587680" cy="1084320"/>
          </a:xfrm>
          <a:prstGeom prst="rect">
            <a:avLst/>
          </a:prstGeom>
          <a:noFill/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99160" y="5508720"/>
            <a:ext cx="12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Calcola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2280" y="5391360"/>
            <a:ext cx="612360" cy="61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3" y="15146"/>
                </a:moveTo>
                <a:arcTo wR="10800" hR="10800" stAng="9376438" swAng="2847123"/>
                <a:lnTo>
                  <a:pt x="10800" y="10800"/>
                </a:lnTo>
                <a:close/>
              </a:path>
              <a:path fill="none" w="21600" h="21600">
                <a:moveTo>
                  <a:pt x="913" y="15146"/>
                </a:moveTo>
                <a:arcTo wR="10800" hR="10800" stAng="9376438" swAng="2847123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185560" y="5697360"/>
            <a:ext cx="1011240" cy="180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79520" y="5273640"/>
            <a:ext cx="48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D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7520" y="4919760"/>
            <a:ext cx="612720" cy="61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9" y="911"/>
                </a:moveTo>
                <a:arcTo wR="10800" hR="10800" stAng="-6821898" swAng="2841662"/>
                <a:lnTo>
                  <a:pt x="10800" y="10800"/>
                </a:lnTo>
                <a:close/>
              </a:path>
              <a:path fill="none" w="21600" h="21600">
                <a:moveTo>
                  <a:pt x="6459" y="911"/>
                </a:moveTo>
                <a:arcTo wR="10800" hR="10800" stAng="-6821898" swAng="2841662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3483000"/>
            <a:ext cx="1440" cy="160164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12040" y="5438880"/>
            <a:ext cx="612360" cy="6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" y="15139"/>
                </a:moveTo>
                <a:arcTo wR="10800" hR="10800" stAng="9378571" swAng="2844991"/>
                <a:lnTo>
                  <a:pt x="10800" y="10800"/>
                </a:lnTo>
                <a:close/>
              </a:path>
              <a:path fill="none" w="21600" h="21600">
                <a:moveTo>
                  <a:pt x="910" y="15139"/>
                </a:moveTo>
                <a:arcTo wR="10800" hR="10800" stAng="9378571" swAng="2844991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24520" y="5745240"/>
            <a:ext cx="752400" cy="144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35440" y="5202360"/>
            <a:ext cx="94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Risult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378-96E6-457A-AA7E-5D6C29ABE7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Finitezza, univocità, effettivit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n programma/algoritmo deve ess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inito (# finito di istruzio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f (x == 0) return 1;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else if (x == 1) return 2;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else if (x == 2) return 3;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else if (x == 3) return 4;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else if (x == 4) return 5;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oco, non ambiguo (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x = x + “un po’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ffettivo: deve esistere un calcolatore in grado di eseguire le istru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prossimaVincitaAlLotto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082-DC74-4C79-A970-5734B0C6D4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uriosità legittim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 con gli algoritmi si può fare tut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 se no, che cos’è che si può f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 quello che si può fare dipende dal linguaggio di programmazione scel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queste domande risponde la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teoria della computabilità (calcolabilità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pproccio formale, matematico, prec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16B-7231-4A79-905C-3C9EACB8D0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Fun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unzione = legge che associa a un elemento di un insieme (dominio) un elemento di un insieme (codomini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2792520"/>
            <a:ext cx="3065400" cy="3346200"/>
          </a:xfrm>
          <a:prstGeom prst="ellipse">
            <a:avLst/>
          </a:prstGeom>
          <a:noFill/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35760" y="2530440"/>
            <a:ext cx="3065400" cy="3348000"/>
          </a:xfrm>
          <a:prstGeom prst="ellipse">
            <a:avLst/>
          </a:prstGeom>
          <a:noFill/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2160" y="386244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96760" y="551196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9760" y="317196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2040" y="518472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49840" y="358920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59680" y="3434040"/>
            <a:ext cx="688680" cy="67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8" y="14512"/>
                </a:moveTo>
                <a:arcTo wR="10800" hR="10800" stAng="9593893" swAng="2863897"/>
                <a:lnTo>
                  <a:pt x="10800" y="10800"/>
                </a:lnTo>
                <a:close/>
              </a:path>
              <a:path fill="none" w="21600" h="21600">
                <a:moveTo>
                  <a:pt x="658" y="14512"/>
                </a:moveTo>
                <a:arcTo wR="10800" hR="10800" stAng="9593893" swAng="2863897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49320" y="3354480"/>
            <a:ext cx="5494320" cy="4190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86680" y="4950720"/>
            <a:ext cx="684720" cy="67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7" y="13185"/>
                </a:moveTo>
                <a:arcTo wR="10800" hR="10800" stAng="10034651" swAng="2872007"/>
                <a:lnTo>
                  <a:pt x="10800" y="10800"/>
                </a:lnTo>
                <a:close/>
              </a:path>
              <a:path fill="none" w="21600" h="21600">
                <a:moveTo>
                  <a:pt x="267" y="13185"/>
                </a:moveTo>
                <a:arcTo wR="10800" hR="10800" stAng="10034651" swAng="2872007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33640" y="4075200"/>
            <a:ext cx="6237000" cy="12016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59680" y="5028840"/>
            <a:ext cx="688680" cy="67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3" y="15675"/>
                </a:moveTo>
                <a:arcTo wR="10800" hR="10800" stAng="9190070" swAng="2847631"/>
                <a:lnTo>
                  <a:pt x="10800" y="10800"/>
                </a:lnTo>
                <a:close/>
              </a:path>
              <a:path fill="none" w="21600" h="21600">
                <a:moveTo>
                  <a:pt x="1163" y="15675"/>
                </a:moveTo>
                <a:arcTo wR="10800" hR="10800" stAng="9190070" swAng="2847631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876320" y="5367240"/>
            <a:ext cx="5467320" cy="3398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32240" y="31449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18360" y="4321080"/>
            <a:ext cx="643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ff"/>
                </a:solidFill>
                <a:latin typeface="Times New Roman"/>
              </a:rPr>
              <a:t>f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48280" y="511020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32160" y="31719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1560" y="400860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84360" y="547200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88160" y="358920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20280" y="518472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8600" y="5048280"/>
            <a:ext cx="10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domin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96240" y="4297320"/>
            <a:ext cx="13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codomin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D14-E41B-4DB9-AD94-D69880C0D1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putabili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blemi, domande, rispo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goritmi, programmi, linguaggi di program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goritmi che calcolano fun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unzioni computabili e 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pp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ine cor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609-BFF1-490F-B51E-D00E33630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16480" y="245880"/>
            <a:ext cx="542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omini e codomi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241280" y="371520"/>
            <a:ext cx="2363760" cy="2584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0600" y="1844640"/>
            <a:ext cx="2363760" cy="2584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84240" y="120816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33600" y="245916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13080" y="66348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32440" y="389268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70520" y="223848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95520" y="2620800"/>
            <a:ext cx="2320920" cy="1857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29480" y="663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20080" y="13096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70880" y="2440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53760" y="2238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76160" y="38926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39160" y="608328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59680" y="5648400"/>
            <a:ext cx="109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62160" y="3378240"/>
            <a:ext cx="2363760" cy="2584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421488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54120" y="546732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3600" y="367020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50360" y="3670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40600" y="4316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9960" y="5446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516040" y="4478400"/>
            <a:ext cx="2238480" cy="1130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46960" y="3791880"/>
            <a:ext cx="529560" cy="52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8" y="17030"/>
                </a:moveTo>
                <a:arcTo wR="10800" hR="10800" stAng="8686114" swAng="2883894"/>
                <a:lnTo>
                  <a:pt x="10800" y="10800"/>
                </a:lnTo>
                <a:close/>
              </a:path>
              <a:path fill="none" w="21600" h="21600">
                <a:moveTo>
                  <a:pt x="1978" y="17030"/>
                </a:moveTo>
                <a:arcTo wR="10800" hR="10800" stAng="8686114" swAng="2883894"/>
              </a:path>
            </a:pathLst>
          </a:cu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75040" y="4075200"/>
            <a:ext cx="1914840" cy="40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65240" y="1370160"/>
            <a:ext cx="2320920" cy="1857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986120" y="3227400"/>
            <a:ext cx="2239920" cy="1130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84960" y="2945520"/>
            <a:ext cx="529560" cy="52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4" y="15148"/>
                </a:moveTo>
                <a:arcTo wR="10800" hR="10800" stAng="9375753" swAng="2846006"/>
                <a:lnTo>
                  <a:pt x="10800" y="10800"/>
                </a:lnTo>
                <a:close/>
              </a:path>
              <a:path fill="none" w="21600" h="21600">
                <a:moveTo>
                  <a:pt x="914" y="15148"/>
                </a:moveTo>
                <a:arcTo wR="10800" hR="10800" stAng="9375753" swAng="2846006"/>
              </a:path>
            </a:pathLst>
          </a:cu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86160" y="3206880"/>
            <a:ext cx="22399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89880" y="304488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71320" y="2963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87600" y="839880"/>
            <a:ext cx="2320920" cy="1857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35120" y="2682720"/>
            <a:ext cx="2239920" cy="1130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86480" y="2158560"/>
            <a:ext cx="53028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9" y="16340"/>
                </a:moveTo>
                <a:arcTo wR="10800" hR="10800" stAng="8948401" swAng="2867843"/>
                <a:lnTo>
                  <a:pt x="10800" y="10800"/>
                </a:lnTo>
                <a:close/>
              </a:path>
              <a:path fill="none" w="21600" h="21600">
                <a:moveTo>
                  <a:pt x="1529" y="16340"/>
                </a:moveTo>
                <a:arcTo wR="10800" hR="10800" stAng="8948401" swAng="2867843"/>
              </a:path>
            </a:pathLst>
          </a:cu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95920" y="2419200"/>
            <a:ext cx="1832040" cy="26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35440" y="433692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84640" y="306540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4920" y="254016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73E-67A1-42F1-94C0-593A28AA6A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lgoritmi calcolano fun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goritmo per calcolare la radice quadrata calcola la funzione che associa a un numero la sua radice quad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goritmo di Euclide calcola la funzione che dati 2 numeri restituisce il loro M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dific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AE8-F327-4851-BB70-429AB3652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Quali funzion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unzioni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f: R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: analisi matema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 teoria della computabilità si occupa delle funzioni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f: N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d esempio programma con un ciclo infinito che non dà nessun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unzione “non defini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537-8B05-46CD-BB5B-68848A4CFB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e funzioni f: N </a:t>
            </a:r>
            <a:r>
              <a:rPr b="0" lang="it-IT" sz="4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622440" y="1266840"/>
            <a:ext cx="8113680" cy="451152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4800" y="314784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61920" y="429588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22560" y="325440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54480" y="432288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67640" y="39225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73840" y="41083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08720" y="290844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16720" y="3094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67080" y="39765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73280" y="41623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20960" y="282744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8960" y="30146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5040" y="1573200"/>
            <a:ext cx="1445400" cy="381240"/>
            <a:chOff x="3875040" y="1573200"/>
            <a:chExt cx="1445400" cy="381240"/>
          </a:xfrm>
        </p:grpSpPr>
        <p:sp>
          <p:nvSpPr>
            <p:cNvPr id="509" name=""/>
            <p:cNvSpPr/>
            <p:nvPr/>
          </p:nvSpPr>
          <p:spPr>
            <a:xfrm>
              <a:off x="3875040" y="1573200"/>
              <a:ext cx="27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500" spc="-1" strike="noStrike">
                  <a:solidFill>
                    <a:srgbClr val="000000"/>
                  </a:solidFill>
                  <a:latin typeface="Times New Roman"/>
                </a:rPr>
                <a:t>f: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42880" y="157320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38440" y="157320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45360" y="1573200"/>
              <a:ext cx="25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40200" y="157320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19400" y="157320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14600" y="157320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93800" y="17874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880-8CA9-40C7-8C63-B36BF45DF9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uriosità legittim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f.: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Funzione calcolabile (computabile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= funzione per cui esiste un algoritmo che la calco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ra, finalmente, possiamo porci una domanda precisa: 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Le funzioni f: N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 N sono tutte calcolabil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ta una qualsiasi funzione, esiste sempre un algoritmo che la calcol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20C-F549-49A7-B0E9-D52D0E495B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039760" y="1870200"/>
            <a:ext cx="7069320" cy="3906720"/>
          </a:xfrm>
          <a:prstGeom prst="ellipse">
            <a:avLst/>
          </a:prstGeom>
          <a:solidFill>
            <a:srgbClr val="ffff99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3086280"/>
            <a:ext cx="4749840" cy="22222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No! Funzioni calcolabili e n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4280040" y="3417840"/>
            <a:ext cx="1400040" cy="6494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82920" y="3476520"/>
            <a:ext cx="9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11680" y="4470480"/>
            <a:ext cx="9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85040" y="3592440"/>
            <a:ext cx="9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58200" y="4516560"/>
            <a:ext cx="9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94400" y="4170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487640" y="4332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97120" y="3290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90720" y="3454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55720" y="41925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47520" y="435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95360" y="31989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88600" y="3362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37640" y="3384720"/>
            <a:ext cx="106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un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38720" y="3706920"/>
            <a:ext cx="1163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lcolabi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5240" y="5140440"/>
            <a:ext cx="1556640" cy="74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unzioni n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lcolabi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843200" y="4262400"/>
            <a:ext cx="909360" cy="370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9440" y="4632480"/>
            <a:ext cx="25704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142640" y="4656240"/>
            <a:ext cx="933480" cy="392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4944960" y="2043000"/>
            <a:ext cx="1261080" cy="335520"/>
            <a:chOff x="4944960" y="2043000"/>
            <a:chExt cx="1261080" cy="335520"/>
          </a:xfrm>
        </p:grpSpPr>
        <p:sp>
          <p:nvSpPr>
            <p:cNvPr id="542" name=""/>
            <p:cNvSpPr/>
            <p:nvPr/>
          </p:nvSpPr>
          <p:spPr>
            <a:xfrm>
              <a:off x="4944960" y="2043000"/>
              <a:ext cx="241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imes New Roman"/>
                </a:rPr>
                <a:t>f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78600" y="2043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35280" y="20430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29600" y="204300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84480" y="20430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54680" y="2043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1360" y="20430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82280" y="22287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A38-F698-468E-BD84-F995C19F6C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No? Voglio un esempio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problema della terminazione (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Halting problem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rovare un algoritmo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in grado di dirci se un qualsiasi algoritmo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su dati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term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un algoritmo potrebbe non terminare perché entra in un ciclo infin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972-8FE7-4D70-8A58-4F324AC7CE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l problema della termin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2752560" y="3114720"/>
            <a:ext cx="3611880" cy="2397240"/>
          </a:xfrm>
          <a:prstGeom prst="rect">
            <a:avLst/>
          </a:prstGeom>
          <a:noFill/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92160" y="4129200"/>
            <a:ext cx="146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Calcolat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55360" y="1811160"/>
            <a:ext cx="1734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Algoritmo </a:t>
            </a:r>
            <a:r>
              <a:rPr b="0" i="1" lang="it-IT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84360" y="3444840"/>
            <a:ext cx="139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Termina /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25600" y="3813120"/>
            <a:ext cx="159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Non termi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6480" y="3102120"/>
            <a:ext cx="199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Descrizione di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6800" y="3471840"/>
            <a:ext cx="1954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un algoritmo </a:t>
            </a:r>
            <a:r>
              <a:rPr b="0" i="1" lang="it-IT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it-IT" sz="25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17920" y="4367160"/>
            <a:ext cx="951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Dati d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5120" y="4735440"/>
            <a:ext cx="136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ff"/>
                </a:solidFill>
                <a:latin typeface="Times New Roman"/>
              </a:rPr>
              <a:t>ingresso </a:t>
            </a:r>
            <a:r>
              <a:rPr b="0" i="1" lang="it-IT" sz="25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71680" y="3601800"/>
            <a:ext cx="685800" cy="68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3" y="15145"/>
                </a:moveTo>
                <a:arcTo wR="10800" hR="10800" stAng="9376631" swAng="2844829"/>
                <a:lnTo>
                  <a:pt x="10800" y="10800"/>
                </a:lnTo>
                <a:close/>
              </a:path>
              <a:path fill="none" w="21600" h="21600">
                <a:moveTo>
                  <a:pt x="913" y="15145"/>
                </a:moveTo>
                <a:arcTo wR="10800" hR="10800" stAng="9376631" swAng="2844829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4840" y="3944880"/>
            <a:ext cx="2081160" cy="18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4680" y="4867920"/>
            <a:ext cx="685800" cy="6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5" y="15150"/>
                </a:moveTo>
                <a:arcTo wR="10800" hR="10800" stAng="9374767" swAng="2852379"/>
                <a:lnTo>
                  <a:pt x="10800" y="10800"/>
                </a:lnTo>
                <a:close/>
              </a:path>
              <a:path fill="none" w="21600" h="21600">
                <a:moveTo>
                  <a:pt x="915" y="15150"/>
                </a:moveTo>
                <a:arcTo wR="10800" hR="10800" stAng="9374767" swAng="2852379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840" y="5208480"/>
            <a:ext cx="2055600" cy="18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79160" y="2733840"/>
            <a:ext cx="686880" cy="68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61" y="910"/>
                </a:moveTo>
                <a:arcTo wR="10800" hR="10800" stAng="-6821273" swAng="2842546"/>
                <a:lnTo>
                  <a:pt x="10800" y="10800"/>
                </a:lnTo>
                <a:close/>
              </a:path>
              <a:path fill="none" w="21600" h="21600">
                <a:moveTo>
                  <a:pt x="6461" y="910"/>
                </a:moveTo>
                <a:arcTo wR="10800" hR="10800" stAng="-6821273" swAng="2842546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22600" y="2206800"/>
            <a:ext cx="1800" cy="7110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75720" y="3972600"/>
            <a:ext cx="684720" cy="68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" y="15139"/>
                </a:moveTo>
                <a:arcTo wR="10800" hR="10800" stAng="9378539" swAng="2844829"/>
                <a:lnTo>
                  <a:pt x="10800" y="10800"/>
                </a:lnTo>
                <a:close/>
              </a:path>
              <a:path fill="none" w="21600" h="21600">
                <a:moveTo>
                  <a:pt x="910" y="15139"/>
                </a:moveTo>
                <a:arcTo wR="10800" hR="10800" stAng="9378539" swAng="2844829"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50040" y="4313160"/>
            <a:ext cx="2609640" cy="18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CA0-66A6-4E99-8AE7-F2A0A98F08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na soluzion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Beh, potrei far eseguire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sui dati e attend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 termina so che term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 dopo 2 ore non ha terminato… so che non ha terminato in due ore… ma quanto devo aspettare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v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eorema: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non es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0FC-0E0E-4DCE-B2EC-DE0B56620C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484440" y="3336840"/>
            <a:ext cx="4924440" cy="272412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760" y="1127160"/>
            <a:ext cx="4924440" cy="272412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6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3399"/>
                </a:solidFill>
                <a:latin typeface="Tahoma"/>
              </a:rPr>
              <a:t>Funzioni non calcolabili e problemi non risolubili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1096920" y="1965240"/>
            <a:ext cx="3299040" cy="157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57600" y="4175280"/>
            <a:ext cx="3299040" cy="157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12960" y="49402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81360" y="50529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49400" y="4327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17800" y="4440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50880" y="49719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17480" y="5084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72840" y="4278240"/>
            <a:ext cx="540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1240" y="4392720"/>
            <a:ext cx="70920" cy="16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67720" y="4408560"/>
            <a:ext cx="8722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un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66280" y="4633920"/>
            <a:ext cx="9579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alcol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997440" y="5327640"/>
            <a:ext cx="177840" cy="611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997440" y="5859000"/>
            <a:ext cx="112680" cy="79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981240" y="5859360"/>
            <a:ext cx="128520" cy="466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56840" y="6188040"/>
            <a:ext cx="1419480" cy="67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442840" y="3586320"/>
            <a:ext cx="876240" cy="228600"/>
            <a:chOff x="5442840" y="3586320"/>
            <a:chExt cx="876240" cy="228600"/>
          </a:xfrm>
        </p:grpSpPr>
        <p:sp>
          <p:nvSpPr>
            <p:cNvPr id="592" name=""/>
            <p:cNvSpPr/>
            <p:nvPr/>
          </p:nvSpPr>
          <p:spPr>
            <a:xfrm>
              <a:off x="5442840" y="3586320"/>
              <a:ext cx="16524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f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05560" y="3586320"/>
              <a:ext cx="137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84840" y="3586320"/>
              <a:ext cx="47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48560" y="3586320"/>
              <a:ext cx="15480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27840" y="3586320"/>
              <a:ext cx="47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76800" y="3586320"/>
              <a:ext cx="137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56440" y="3586320"/>
              <a:ext cx="47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01440" y="3714840"/>
              <a:ext cx="17640" cy="76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03520" y="4471920"/>
            <a:ext cx="2991600" cy="938160"/>
            <a:chOff x="4403520" y="4471920"/>
            <a:chExt cx="2991600" cy="938160"/>
          </a:xfrm>
        </p:grpSpPr>
        <p:sp>
          <p:nvSpPr>
            <p:cNvPr id="601" name=""/>
            <p:cNvSpPr/>
            <p:nvPr/>
          </p:nvSpPr>
          <p:spPr>
            <a:xfrm>
              <a:off x="4403520" y="447192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28720" y="516564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79720" y="453708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7440" y="518148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828360" y="2200320"/>
            <a:ext cx="2991960" cy="936360"/>
            <a:chOff x="828360" y="2200320"/>
            <a:chExt cx="2991960" cy="936360"/>
          </a:xfrm>
        </p:grpSpPr>
        <p:sp>
          <p:nvSpPr>
            <p:cNvPr id="606" name=""/>
            <p:cNvSpPr/>
            <p:nvPr/>
          </p:nvSpPr>
          <p:spPr>
            <a:xfrm>
              <a:off x="828360" y="220032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53920" y="289224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04920" y="226368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52640" y="290808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192400" y="1297080"/>
            <a:ext cx="934920" cy="30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40160" y="2200320"/>
            <a:ext cx="8982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ble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40160" y="2425680"/>
            <a:ext cx="828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solu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925560" y="3230640"/>
            <a:ext cx="179280" cy="61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925560" y="3762000"/>
            <a:ext cx="114120" cy="81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909360" y="3762360"/>
            <a:ext cx="12996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3200" y="4262400"/>
            <a:ext cx="1446840" cy="67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blemi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solu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7000" y="2022480"/>
            <a:ext cx="2034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21880" y="2698920"/>
            <a:ext cx="2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40840" y="2085840"/>
            <a:ext cx="2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20240" y="2714760"/>
            <a:ext cx="2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0D1-BA0F-4C1D-BD00-15CCBF4835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ame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5000" y="1037880"/>
            <a:ext cx="872964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raccia esecuzione: condizione necess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ritto + progetto (facoltativo) + o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rale obbligatorio se &gt;26 o &lt;21; a nostra scelta negli altri c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Voto max. senza progetto: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dà incremento di 0-3 punt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lo se voto scritt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4!! (era: 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voto &lt;24, non consegnato, non presentat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rogetto annullato (come non fatt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 voto scritto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10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-5 all’appello succ.!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C4D-1CCC-49EC-A93F-982296B1BF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Problemi, algoritmi, programm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209600"/>
            <a:ext cx="8090280" cy="5230800"/>
            <a:chOff x="0" y="1209600"/>
            <a:chExt cx="8090280" cy="5230800"/>
          </a:xfrm>
        </p:grpSpPr>
        <p:grpSp>
          <p:nvGrpSpPr>
            <p:cNvPr id="623" name=""/>
            <p:cNvGrpSpPr/>
            <p:nvPr/>
          </p:nvGrpSpPr>
          <p:grpSpPr>
            <a:xfrm>
              <a:off x="0" y="1476360"/>
              <a:ext cx="2762280" cy="4895640"/>
              <a:chOff x="0" y="1476360"/>
              <a:chExt cx="2762280" cy="4895640"/>
            </a:xfrm>
          </p:grpSpPr>
          <p:sp>
            <p:nvSpPr>
              <p:cNvPr id="624" name=""/>
              <p:cNvSpPr/>
              <p:nvPr/>
            </p:nvSpPr>
            <p:spPr>
              <a:xfrm rot="16200000">
                <a:off x="-1066320" y="2543040"/>
                <a:ext cx="4895640" cy="27622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6200000">
                <a:off x="185400" y="4208760"/>
                <a:ext cx="164520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6200000">
                <a:off x="-437400" y="3534840"/>
                <a:ext cx="153324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utti i problem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6200000">
                <a:off x="420120" y="4580640"/>
                <a:ext cx="83232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1 (sqrt(N)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6200000">
                <a:off x="875160" y="4885200"/>
                <a:ext cx="56268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qrt(12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6200000">
                <a:off x="786960" y="4197600"/>
                <a:ext cx="56268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qrt(3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6200000">
                <a:off x="1097280" y="4377600"/>
                <a:ext cx="4824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6200000">
                <a:off x="1194480" y="428040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6200000">
                <a:off x="1194480" y="49856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6200000">
                <a:off x="274680" y="2190600"/>
                <a:ext cx="164520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6200000">
                <a:off x="421920" y="2564280"/>
                <a:ext cx="1002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2 (mcd(X,Y)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6200000">
                <a:off x="883800" y="2869200"/>
                <a:ext cx="723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cd(12,4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6200000">
                <a:off x="794520" y="2179800"/>
                <a:ext cx="72396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cd(36,5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6200000">
                <a:off x="1186560" y="2359800"/>
                <a:ext cx="486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6200000">
                <a:off x="1283400" y="226260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6200000">
                <a:off x="1283400" y="296748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200000">
                <a:off x="1206360" y="3528000"/>
                <a:ext cx="1644840" cy="89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6200000">
                <a:off x="1598040" y="3905640"/>
                <a:ext cx="51984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36000" bIns="360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3 (…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6200000">
                <a:off x="2118240" y="3696840"/>
                <a:ext cx="48600" cy="4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080" bIns="-1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6200000">
                <a:off x="2215080" y="359964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6200000">
                <a:off x="2215080" y="4304880"/>
                <a:ext cx="4860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 rot="16200000">
              <a:off x="2329920" y="2276280"/>
              <a:ext cx="4896000" cy="2762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6200000">
              <a:off x="3583080" y="3941640"/>
              <a:ext cx="16444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2906280" y="3309120"/>
              <a:ext cx="169776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tti gli algorit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3666600" y="4289400"/>
              <a:ext cx="1108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 (alg. per P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4407840" y="461844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4317480" y="392760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4494960" y="4110840"/>
              <a:ext cx="4752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4591800" y="401400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4591440" y="471852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3672360" y="1923120"/>
              <a:ext cx="1644840" cy="9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3755520" y="2273040"/>
              <a:ext cx="1108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 (alg. per P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4496760" y="260208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4407840" y="1913040"/>
              <a:ext cx="2926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4583520" y="209304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4680360" y="1996200"/>
              <a:ext cx="49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6200000">
              <a:off x="4680720" y="2701080"/>
              <a:ext cx="489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4602600" y="3261240"/>
              <a:ext cx="16462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4995720" y="3638520"/>
              <a:ext cx="5198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3 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5515560" y="342936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5612400" y="333252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6200000">
              <a:off x="5613120" y="40381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rot="16200000">
              <a:off x="3784320" y="452520"/>
              <a:ext cx="1683000" cy="68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200000">
              <a:off x="3746520" y="2096640"/>
              <a:ext cx="1682280" cy="70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96" y="247"/>
                  </a:moveTo>
                  <a:arcTo wR="10800" hR="10800" stAng="-4663569" swAng="466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96" y="247"/>
                  </a:moveTo>
                  <a:arcTo wR="10800" hR="10800" stAng="-4663569" swAng="46635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6200000">
              <a:off x="5689440" y="3848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5537160" y="37083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5765760" y="3886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6200000">
              <a:off x="4705920" y="4286880"/>
              <a:ext cx="493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348240" y="1571400"/>
            <a:ext cx="2762280" cy="4895640"/>
            <a:chOff x="6348240" y="1571400"/>
            <a:chExt cx="2762280" cy="4895640"/>
          </a:xfrm>
        </p:grpSpPr>
        <p:sp>
          <p:nvSpPr>
            <p:cNvPr id="673" name=""/>
            <p:cNvSpPr/>
            <p:nvPr/>
          </p:nvSpPr>
          <p:spPr>
            <a:xfrm rot="16200000">
              <a:off x="5281560" y="2638080"/>
              <a:ext cx="4895640" cy="2762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6534000" y="4303440"/>
              <a:ext cx="164448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5831280" y="3672360"/>
              <a:ext cx="174960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tti i program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6678360" y="4679640"/>
              <a:ext cx="10152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. per a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7445880" y="447228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7542720" y="437364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7542720" y="507852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23640" y="2284920"/>
              <a:ext cx="1644480" cy="9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6767280" y="2663640"/>
              <a:ext cx="10152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. per a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7535160" y="2452680"/>
              <a:ext cx="4860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6200000">
              <a:off x="7632000" y="2355840"/>
              <a:ext cx="4860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7632000" y="3060720"/>
              <a:ext cx="4860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6200000">
              <a:off x="7554240" y="3621600"/>
              <a:ext cx="1645920" cy="89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8112600" y="3999960"/>
              <a:ext cx="18900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8466480" y="3791160"/>
              <a:ext cx="4752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1080" bIns="-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8563680" y="3692520"/>
              <a:ext cx="4860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8564400" y="440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 flipV="1" rot="16200000">
            <a:off x="3729240" y="2993040"/>
            <a:ext cx="1682280" cy="522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6" y="247"/>
                </a:moveTo>
                <a:arcTo wR="10800" hR="10800" stAng="-4663569" swAng="4663569"/>
                <a:lnTo>
                  <a:pt x="10800" y="10800"/>
                </a:lnTo>
                <a:close/>
              </a:path>
              <a:path fill="none" w="21600" h="21600">
                <a:moveTo>
                  <a:pt x="13096" y="247"/>
                </a:moveTo>
                <a:arcTo wR="10800" hR="10800" stAng="-4663569" swAng="46635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6200000">
            <a:off x="3767040" y="1257120"/>
            <a:ext cx="1682280" cy="522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6" y="247"/>
                </a:moveTo>
                <a:arcTo wR="10800" hR="10800" stAng="-4663569" swAng="4663569"/>
                <a:lnTo>
                  <a:pt x="10800" y="10800"/>
                </a:lnTo>
                <a:close/>
              </a:path>
              <a:path fill="none" w="21600" h="21600">
                <a:moveTo>
                  <a:pt x="13096" y="247"/>
                </a:moveTo>
                <a:arcTo wR="10800" hR="10800" stAng="-4663569" swAng="46635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7D5-FF85-4574-9C73-1EB15F9822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i, 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lgoritmi e 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i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 rot="16200000">
            <a:off x="3284280" y="3193920"/>
            <a:ext cx="4089600" cy="2415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6027480" y="3277800"/>
            <a:ext cx="4038840" cy="2320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16200000">
            <a:off x="4013280" y="54867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4642560" y="4853160"/>
            <a:ext cx="1392120" cy="9972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3883680" y="4866120"/>
            <a:ext cx="1120680" cy="15048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3853080" y="4814640"/>
            <a:ext cx="116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Tutti gli algorit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27520" y="5342040"/>
            <a:ext cx="45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A1: gl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4776120" y="5263920"/>
            <a:ext cx="65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algoritm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5038200" y="5357520"/>
            <a:ext cx="42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er P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16200000">
            <a:off x="6683400" y="51087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7112160" y="2858760"/>
            <a:ext cx="1431720" cy="9111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8107920" y="3551400"/>
            <a:ext cx="4284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6200000">
            <a:off x="8097840" y="3007800"/>
            <a:ext cx="42840" cy="42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8139960" y="3373920"/>
            <a:ext cx="428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5439600" y="5769360"/>
            <a:ext cx="428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5364720" y="4880160"/>
            <a:ext cx="4284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6200000">
            <a:off x="5363640" y="549720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a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5142960" y="480672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a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5419080" y="5134320"/>
            <a:ext cx="10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16200000">
            <a:off x="4898880" y="1809360"/>
            <a:ext cx="1006200" cy="514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0" y="21599"/>
                </a:moveTo>
                <a:arcTo wR="10800" hR="10800" stAng="5441515" swAng="5358485"/>
                <a:lnTo>
                  <a:pt x="10800" y="10800"/>
                </a:lnTo>
                <a:close/>
              </a:path>
              <a:path fill="none" w="21600" h="21600">
                <a:moveTo>
                  <a:pt x="10670" y="21599"/>
                </a:moveTo>
                <a:arcTo wR="10800" hR="10800" stAng="5441515" swAng="5358485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6200000">
            <a:off x="5217840" y="2504520"/>
            <a:ext cx="358200" cy="519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74"/>
                </a:moveTo>
                <a:arcTo wR="10800" hR="10800" stAng="-8302" swAng="5496273"/>
                <a:lnTo>
                  <a:pt x="10800" y="10800"/>
                </a:lnTo>
                <a:close/>
              </a:path>
              <a:path fill="none" w="21600" h="21600">
                <a:moveTo>
                  <a:pt x="21600" y="10774"/>
                </a:moveTo>
                <a:arcTo wR="10800" hR="10800" stAng="-8302" swAng="5496273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5207040" y="2816640"/>
            <a:ext cx="495000" cy="541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21600"/>
                </a:moveTo>
                <a:arcTo wR="10800" hR="10800" stAng="5421203" swAng="5378797"/>
                <a:lnTo>
                  <a:pt x="10800" y="10800"/>
                </a:lnTo>
                <a:close/>
              </a:path>
              <a:path fill="none" w="21600" h="21600">
                <a:moveTo>
                  <a:pt x="10733" y="21600"/>
                </a:moveTo>
                <a:arcTo wR="10800" hR="10800" stAng="5421203" swAng="537879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5032440" y="3753000"/>
            <a:ext cx="888840" cy="499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7677000" y="5489280"/>
            <a:ext cx="1087200" cy="7002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8056440" y="3709800"/>
            <a:ext cx="42840" cy="42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7646040" y="4213440"/>
            <a:ext cx="1235160" cy="8049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6200000">
            <a:off x="8427240" y="4422960"/>
            <a:ext cx="10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7578000" y="5702040"/>
            <a:ext cx="109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rogrammi p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6200000">
            <a:off x="7753680" y="5732640"/>
            <a:ext cx="1033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l'algoritmo a1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7647840" y="4501800"/>
            <a:ext cx="109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rogrammi p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6200000">
            <a:off x="7826760" y="4528800"/>
            <a:ext cx="1033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l'algoritmo a1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00000">
            <a:off x="8480160" y="4767120"/>
            <a:ext cx="446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6200000">
            <a:off x="8470080" y="4221720"/>
            <a:ext cx="428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6200000">
            <a:off x="6554520" y="4039920"/>
            <a:ext cx="1121040" cy="1494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6508080" y="3993840"/>
            <a:ext cx="119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Tutti i program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6200000">
            <a:off x="7101000" y="310968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rogrammi p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6200000">
            <a:off x="7315560" y="3167280"/>
            <a:ext cx="9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l'algoritmo d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16200000">
            <a:off x="7692120" y="3360600"/>
            <a:ext cx="49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Eucli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8929800" y="44182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8405640" y="6022800"/>
            <a:ext cx="4464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8387640" y="5729400"/>
            <a:ext cx="10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6188760" y="4132440"/>
            <a:ext cx="7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253120" y="2703240"/>
            <a:ext cx="911160" cy="1431720"/>
            <a:chOff x="5253120" y="2703240"/>
            <a:chExt cx="911160" cy="1431720"/>
          </a:xfrm>
        </p:grpSpPr>
        <p:sp>
          <p:nvSpPr>
            <p:cNvPr id="736" name=""/>
            <p:cNvSpPr/>
            <p:nvPr/>
          </p:nvSpPr>
          <p:spPr>
            <a:xfrm rot="16200000">
              <a:off x="4992840" y="2963520"/>
              <a:ext cx="1431720" cy="9111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5162760" y="333072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Palatino"/>
                </a:rPr>
                <a:t>A2: gli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5212080" y="3254400"/>
              <a:ext cx="65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Palatino"/>
                </a:rPr>
                <a:t>algoritmi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473080" y="3355560"/>
              <a:ext cx="42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Palatino"/>
                </a:rPr>
                <a:t>per P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5988600" y="3658320"/>
              <a:ext cx="43920" cy="439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6200000">
              <a:off x="5978160" y="3115080"/>
              <a:ext cx="43920" cy="439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5572800" y="300528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Palatino"/>
                </a:rPr>
                <a:t>(Euclid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5861880" y="3825720"/>
              <a:ext cx="42120" cy="439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6021000" y="3480480"/>
              <a:ext cx="42480" cy="439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6200000">
              <a:off x="5522760" y="3908880"/>
              <a:ext cx="42480" cy="435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 rot="16200000">
            <a:off x="-538560" y="3288240"/>
            <a:ext cx="4008600" cy="277812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-349920" y="3620160"/>
            <a:ext cx="3610080" cy="2087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16200000">
            <a:off x="997560" y="4982040"/>
            <a:ext cx="1390680" cy="9950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200000">
            <a:off x="403920" y="3643920"/>
            <a:ext cx="1433520" cy="9111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16200000">
            <a:off x="405360" y="3992760"/>
            <a:ext cx="86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2(mcd(X,Y)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200000">
            <a:off x="1539000" y="5959800"/>
            <a:ext cx="42840" cy="41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6200000">
            <a:off x="1824120" y="5582880"/>
            <a:ext cx="4428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200000">
            <a:off x="1824840" y="5058360"/>
            <a:ext cx="428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105560" y="4473720"/>
            <a:ext cx="4284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200000">
            <a:off x="1349280" y="3709800"/>
            <a:ext cx="42840" cy="42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6200000">
            <a:off x="648720" y="4230360"/>
            <a:ext cx="73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mcd(21,6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802800" y="3756240"/>
            <a:ext cx="88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mcd(135,207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241280" y="5410800"/>
            <a:ext cx="167760" cy="188280"/>
            <a:chOff x="1241280" y="5410800"/>
            <a:chExt cx="167760" cy="188280"/>
          </a:xfrm>
        </p:grpSpPr>
        <p:sp>
          <p:nvSpPr>
            <p:cNvPr id="759" name=""/>
            <p:cNvSpPr/>
            <p:nvPr/>
          </p:nvSpPr>
          <p:spPr>
            <a:xfrm rot="16200000">
              <a:off x="1278360" y="53737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344240" y="5588640"/>
              <a:ext cx="1080" cy="1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344240" y="5556960"/>
              <a:ext cx="31680" cy="21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1259280" y="5526720"/>
              <a:ext cx="116640" cy="30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259280" y="5419800"/>
              <a:ext cx="1080" cy="10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 rot="16200000">
            <a:off x="1618200" y="582732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703520" y="6059160"/>
            <a:ext cx="1440" cy="1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703520" y="6038640"/>
            <a:ext cx="31680" cy="21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1617840" y="5997600"/>
            <a:ext cx="11736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617840" y="5870160"/>
            <a:ext cx="1440" cy="125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16200000">
            <a:off x="1869120" y="5434200"/>
            <a:ext cx="21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1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989000" y="5692320"/>
            <a:ext cx="1800" cy="1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989000" y="5671800"/>
            <a:ext cx="32040" cy="20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905120" y="5630760"/>
            <a:ext cx="11592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905120" y="5451480"/>
            <a:ext cx="1440" cy="179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1692720" y="4894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746360" y="5084280"/>
            <a:ext cx="0" cy="1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746360" y="5067000"/>
            <a:ext cx="31680" cy="1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1660680" y="5024520"/>
            <a:ext cx="11736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660680" y="4960800"/>
            <a:ext cx="1440" cy="61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6200000">
            <a:off x="1214280" y="5577120"/>
            <a:ext cx="21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1(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1284480" y="527328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16200000">
            <a:off x="459720" y="5272560"/>
            <a:ext cx="973080" cy="2984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312480" y="5286600"/>
            <a:ext cx="108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Tutti i problem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700920" y="5527440"/>
            <a:ext cx="6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risolubi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-298440" y="4609800"/>
            <a:ext cx="108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Tutti i problem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16200000">
            <a:off x="1675440" y="785880"/>
            <a:ext cx="3390840" cy="244008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1770480" y="1137240"/>
            <a:ext cx="3191040" cy="1738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16200000">
            <a:off x="2468520" y="2124000"/>
            <a:ext cx="587520" cy="33048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2701800" y="2374560"/>
            <a:ext cx="1392120" cy="9950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6200000">
            <a:off x="2458080" y="973440"/>
            <a:ext cx="136044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16200000">
            <a:off x="2512440" y="1135080"/>
            <a:ext cx="70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[mcd(X,Y)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3243960" y="3353040"/>
            <a:ext cx="4284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3529800" y="2978640"/>
            <a:ext cx="44280" cy="42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3530520" y="2453760"/>
            <a:ext cx="42840" cy="42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3137040" y="1722240"/>
            <a:ext cx="4428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16200000">
            <a:off x="3381120" y="958680"/>
            <a:ext cx="446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2828880" y="141768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(21,6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6200000">
            <a:off x="2975040" y="95112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(135,207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2983320" y="27730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200000">
            <a:off x="3252240" y="321480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(27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16200000">
            <a:off x="3512160" y="2860920"/>
            <a:ext cx="30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(14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6200000">
            <a:off x="3330000" y="236088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6200000">
            <a:off x="2982600" y="2668320"/>
            <a:ext cx="51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6200000">
            <a:off x="3216240" y="1368360"/>
            <a:ext cx="1296720" cy="487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6200000">
            <a:off x="3944160" y="1756080"/>
            <a:ext cx="10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3628800" y="1517760"/>
            <a:ext cx="20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[...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3848040" y="1764720"/>
            <a:ext cx="4428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6200000">
            <a:off x="3944160" y="1375200"/>
            <a:ext cx="4284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2994840" y="301788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6200000">
            <a:off x="3042360" y="29912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2984040" y="2900160"/>
            <a:ext cx="51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[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3344040" y="343512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200000">
            <a:off x="3394800" y="341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16200000">
            <a:off x="3633120" y="310968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6200000">
            <a:off x="3680640" y="3088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6200000">
            <a:off x="3380760" y="253368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6200000">
            <a:off x="3426480" y="251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16200000">
            <a:off x="2828160" y="162540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2872440" y="1603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6200000">
            <a:off x="2996640" y="174132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16200000">
            <a:off x="3042360" y="1718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6200000">
            <a:off x="3241080" y="133344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3288240" y="130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3709440" y="1761840"/>
            <a:ext cx="4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6200000">
            <a:off x="3755160" y="1737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Palatino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200000">
            <a:off x="2355480" y="21888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Funzion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2477160" y="2171520"/>
            <a:ext cx="68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calcolabi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6200000">
            <a:off x="2260080" y="2047680"/>
            <a:ext cx="12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f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16200000">
            <a:off x="2265120" y="19432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Palatino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6200000">
            <a:off x="2301840" y="18669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16200000">
            <a:off x="2262960" y="1783080"/>
            <a:ext cx="115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2301840" y="17067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6200000">
            <a:off x="2265120" y="16401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Palatino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2301840" y="15638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2342880" y="159912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027240" y="2950920"/>
            <a:ext cx="32040" cy="20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2952720" y="2921040"/>
            <a:ext cx="11592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952720" y="2817360"/>
            <a:ext cx="1440" cy="10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016080" y="2971440"/>
            <a:ext cx="1800" cy="1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6200000">
            <a:off x="4208400" y="3770280"/>
            <a:ext cx="1308240" cy="784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6200000">
            <a:off x="4511520" y="836640"/>
            <a:ext cx="491400" cy="542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4"/>
                </a:moveTo>
                <a:arcTo wR="10800" hR="10800" stAng="-10798030" swAng="5398030"/>
                <a:lnTo>
                  <a:pt x="10800" y="10800"/>
                </a:lnTo>
                <a:close/>
              </a:path>
              <a:path fill="none" w="21600" h="21600">
                <a:moveTo>
                  <a:pt x="0" y="10794"/>
                </a:moveTo>
                <a:arcTo wR="10800" hR="10800" stAng="-10798030" swAng="539803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6200000">
            <a:off x="4595400" y="1959840"/>
            <a:ext cx="374760" cy="519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54" y="6"/>
                </a:moveTo>
                <a:arcTo wR="10800" hR="10800" stAng="-5510219" swAng="5501901"/>
                <a:lnTo>
                  <a:pt x="10800" y="10800"/>
                </a:lnTo>
                <a:close/>
              </a:path>
              <a:path fill="none" w="21600" h="21600">
                <a:moveTo>
                  <a:pt x="10454" y="6"/>
                </a:moveTo>
                <a:arcTo wR="10800" hR="10800" stAng="-5510219" swAng="5501901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4287960" y="1255320"/>
            <a:ext cx="1002600" cy="514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4"/>
                </a:moveTo>
                <a:arcTo wR="10800" hR="10800" stAng="-10797993" swAng="5356662"/>
                <a:lnTo>
                  <a:pt x="10800" y="10800"/>
                </a:lnTo>
                <a:close/>
              </a:path>
              <a:path fill="none" w="21600" h="21600">
                <a:moveTo>
                  <a:pt x="0" y="10794"/>
                </a:moveTo>
                <a:arcTo wR="10800" hR="10800" stAng="-10797993" swAng="5356662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4333320" y="1773360"/>
            <a:ext cx="888840" cy="499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8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886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16200000">
            <a:off x="4610880" y="3945240"/>
            <a:ext cx="48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A3: gli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4659480" y="3866760"/>
            <a:ext cx="687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algoritmi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16200000">
            <a:off x="4921200" y="3968640"/>
            <a:ext cx="46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er P3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6200000">
            <a:off x="4931640" y="4318200"/>
            <a:ext cx="10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6200000">
            <a:off x="1303200" y="3809520"/>
            <a:ext cx="1297080" cy="6681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2080440" y="4295880"/>
            <a:ext cx="10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1558080" y="401040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Palatino"/>
              </a:rPr>
              <a:t>P3(..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1982880" y="4306680"/>
            <a:ext cx="44280" cy="442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200000">
            <a:off x="2079360" y="3918960"/>
            <a:ext cx="4140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4759200" y="4326840"/>
            <a:ext cx="44280" cy="446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6200000">
            <a:off x="4749840" y="3782520"/>
            <a:ext cx="42840" cy="42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210-50F8-4BC2-930B-82FB8F1D0A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ferim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ttp://www.dimi.uniud.it/mizzaro/papers/ algoritmo.pd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pp. 3 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stitu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fficio / Calcola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mpiegato / Process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agramma di flusso / Program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1C6-A05A-415D-B993-43A93741B6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E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Computabilit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Problemi, domande, rispo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Algoritmi, programmi, linguaggi di program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Algoritmi che calcolano fun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Funzioni computabili e 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pp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Fine cor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B69-8C01-4B2E-AEF6-63A05F24E1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app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ni 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i del m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58F-7317-4682-BFB6-63A6549C5E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pplet = “piccola applicazion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un programma indipendente, ma un programma integrato in una pagina web, in esecuzione sulla JVM del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estrizioni di sicurez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3ED-A642-4D1B-AFAD-3740E0AB2E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classe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java.applet.Apple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è una sottoclasse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java.awt.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sovrascrivere per creare i nostri app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c’e un mai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 metodi d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vengono chiama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mplicitamen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dal brows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 vanno quindi sovrascritti dal programma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EE8-2450-4F03-93EB-3D64D75039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l nostro primo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2219400"/>
            <a:ext cx="9147240" cy="214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pple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CiaoATuttiApplet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paint (Graphics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.drawString("Ciao a tutti!",5,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EDA-7FE8-4D38-9886-0E777D9868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l file 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8" name=""/>
          <p:cNvSpPr/>
          <p:nvPr/>
        </p:nvSpPr>
        <p:spPr>
          <a:xfrm>
            <a:off x="-3240" y="1635120"/>
            <a:ext cx="9147240" cy="33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title&gt;Salve a tutti voi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p&gt;Il mio primo applet d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applet code="CiaoATuttiApplet.class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width="150" height="25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/applet&gt;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A20-8764-4E74-9AA9-8D5EE5130F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e funzio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browser ha una JVM, in grado di eseguire codice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biamo semplicemente sovrascritto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e viene invocato implicit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ando c’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bisogno di disegnare l’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C5B-FF4C-4C6C-B6D7-C81C038858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Esame (2/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dia pesata dei 2 compit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/3 * primo + 1/3 * seco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elta obbligatoria fra 1o scritto e 2o compiti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INDICATELO QUANDO VI ISCRIVETE SU SIND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+ bonus autovalutazione (solo se comunque suff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a - primi 5: +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a (?) - primi 5-10(?): +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652-660E-4A19-8E60-E05305C42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’appletvie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tro “attrezzo” del J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isualizza applet, ma non 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a bisogno di un file con il tag “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volte i browser fanno scherzi strani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9BB-A879-4122-998A-577C65724D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so dell’appletvie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"/>
          <p:cNvSpPr/>
          <p:nvPr/>
        </p:nvSpPr>
        <p:spPr>
          <a:xfrm>
            <a:off x="2043000" y="5516640"/>
            <a:ext cx="6518520" cy="767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javac CiaoATuttiApple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appletviewer CiaoATuttiApple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1635120"/>
            <a:ext cx="9147240" cy="301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*&lt;applet code="CiaoATuttiApplet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1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class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width="150" height="25"&gt;&lt;/applet&gt;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pple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CiaoATuttiApplet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1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paint (Graphics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.drawString("Ciao a tutti!",5,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.fillOval(0,0,100,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937-B87E-4DD4-ABA7-3263E8FAAB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iclo di vita” di un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FBC-328F-4DB2-B6E5-14B84ED77A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etodi di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 (vuoti) 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in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izializz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~costrut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izio esecu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fin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cuzione, arr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estro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lascio riso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leggere variazioni fra i vari browser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ello che l’applet mos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E62-6B93-4A3D-8CD4-DD2B6B4A16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vocazione metodi di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-3240" y="1228680"/>
            <a:ext cx="9147240" cy="506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*&lt;applet code="MetodiApplet.class" width="10" height="10"&gt;&lt;/applet&gt;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pplet.Appl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MetodiApplet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init() { System.err.println("init..."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start() { System.err.println("start..."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stop() { System.err.println("stop..."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destroy(){System.err.println("destroy..."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paint(Graphics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err.println("paint..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87720" y="5721480"/>
            <a:ext cx="5559480" cy="113544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javac MetodiApple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appletviewer MetodiApple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(e con un browser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1F8-8504-45B4-AC6B-748E8F89CE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pplet per disegnare col m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un applet che ci consente di disegnare trascinando il m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vremo bisogno d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 applet contenente un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an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coltatori di </a:t>
            </a: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eventi sul mous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cl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k e drag) associati al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an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chema di disegno differen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non dise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 drag, nell’ascoltatore, disegno un seg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7FE-36E7-41A6-B320-BD5C171AF3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ourier New"/>
              </a:rPr>
              <a:t>ScribbleApplet1.java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 (1/2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1228680"/>
            <a:ext cx="9147240" cy="389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*&lt;applet code="ScribbleApplet1.class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width="500" height="400"&gt;&lt;/applet&gt;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pplet.Appl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ScribbleApplet1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rivate Canvas c = new My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ini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(c,BorderLayout.CEN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502-0E70-4936-9EDA-4A0EACC1F77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ourier New"/>
              </a:rPr>
              <a:t>ScribbleApplet1.java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 (2/2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-3240" y="907920"/>
            <a:ext cx="9147240" cy="564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MyCanvas extends Canva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rivate int lastX, lastY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MyCanva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MouseListener(new AscoltaClick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MouseMotionListener(new AscoltaDrag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scoltaClick extends MouseAdap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mousePressed(Mouse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lastX = e.getX(); lastY = e.ge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scoltaDrag extends MouseMotionAdap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mouseDragged(Mouse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nt x = e.getX(); int y = e.ge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etGraphics().drawLine(lastX,lastY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lastX = x; lastY =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97200" y="5904000"/>
            <a:ext cx="6081840" cy="767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javac ScribbleApplet1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appletviewer ScribbleApplet1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28D-19B5-4D23-969E-8C31B7F02E3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vent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ouse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rispettano la regola dell’AW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“1 evento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1 ascoltator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na classe per gli eventi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ue interfacce per gli ascoltatori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i sono anche gli adapter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CD8-8516-4CD0-9547-DC19009F90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vent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ouse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lsante mouse premuto (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mousePress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lsante mouse rilasciato 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ck (premuto + rilasciato) 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ursore entra nel componente 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ursore lascia il componente 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use mosso 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use trascinato (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mouseDragg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968-81E4-4299-A8B1-7C88273E7F9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et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5000" y="1347480"/>
            <a:ext cx="8729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di gruppo (3 pers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fr. descrizione sulle mie pag.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o su quelle di Coppo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. 2 settimane prima dello scri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egnato allo scritto E spedito per e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tri progetti per gli appelli success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rale collegato al progetto (non allo scrit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consegnate il progetto e non vi presentate all’orale, il progetto viene annull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vrete vedervi per conto vostro qcosa (di moooolto semplice) delle 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dicazioni p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ù precise sulla descrizione del proge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746-1324-43EC-9F99-141FEF286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ggiungiamo i colo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celta del “colore della penn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tremmo farlo con dei pulsanti, 1 per col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 non è il componente gius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iamo inve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java.awt.Ch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8B7-D5BA-435D-8D78-5A7F063A913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ribbleAppletColor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1154160"/>
            <a:ext cx="9147240" cy="511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/*&lt;applet code="ScribbleAppletColor.class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width="500" height="400"&gt;&lt;/applet&gt;*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import java.applet.Apple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ublic class ScribbleAppletColor extends Apple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rivate Canvas c = new MyCanvas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rivate Choice ch = new Choic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rivate static final Color[] colors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{Color.BLACK, Color.RED, Color.GREEN,Color.BLUE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rivate static final String[] colorNames =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{"Nero", "Rosso", "Verde", "Blu"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ublic void init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this.setLayout(new BorderLayout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this.add(c,BorderLayout.CENTE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for (int i = 0; i &lt; colorNames.length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ch.add(colorNames[i]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ch.addItemListener(new AscoltaColore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this.add(ch,BorderLayout.EAS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46C-0D94-4A12-BCB3-CAC46706D00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ribbleAppletColor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9" name=""/>
          <p:cNvSpPr/>
          <p:nvPr/>
        </p:nvSpPr>
        <p:spPr>
          <a:xfrm>
            <a:off x="-3240" y="1488960"/>
            <a:ext cx="9147240" cy="33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scoltaColore implements ItemListen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itemStateChanged(Item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.setForeground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olors[ch.getSelectedIndex()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MyCanvas extends Canva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ide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616-A696-4F44-816E-49B761EC9E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Cho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elta” di un’alternativa da un ele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i (vedi documentazione API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rut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(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ItemListener(ItemListen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getSelectedIndex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ing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temEv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 alla scel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temStateChanged(ItemEv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035-57FE-497D-B88A-A134282A5BD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strizioni sugli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 applet non pu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edere al file system del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rire connessioni di rete con un calcolatore che non sia il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mp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reare processi fig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utte le finestre aperte da un applet riportano l’indicazione che sono state create da un app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esempi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973-7406-46D7-A515-629F7E0CC7B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t che apre un Fr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836640"/>
            <a:ext cx="9147240" cy="572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*&lt;applet code="OpenFrameApplet.class" width="10" height="10"&gt;&lt;/applet&gt;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pplet.Appl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OpenFrameApplet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ini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nal Frame f = new Fram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nuBar mb = new MenuB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nu m = new Menu("Fi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nuItem mi = new MenuItem("Esc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.add(m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b.add(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setMenuBar(m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setVisible(true); f.pac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i.addActionListener(new ActionListener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actionPerformed(ActionEvent 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disp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782800" y="5904000"/>
            <a:ext cx="6081840" cy="767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javac OpenFrameApple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appletviewer OpenFrameApple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D40-8103-4836-B9F5-8BC1BF91740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m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MenuItem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Menu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MenuBa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etMenuBar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vedi documentazione API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nu solo ne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lezione voce da menu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inal Frame 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perché ascoltatore con classe anon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57-A752-4581-B779-E34B6EDAA4D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assunto app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app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i del mouse (cenn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(cenn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E42-365E-487C-8A84-611A345C1A4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 del cor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troduzione alla programm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ento sulla qual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 dettagl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programmazione struttur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l linguaggio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lo accenn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rammazione 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enni computabili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B7B-CC51-489F-91B8-D29AE6B48D2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E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putabili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blemi, domande, rispo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goritmi, programmi, linguaggi di programm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goritmi che calcolano fun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unzioni computabili e 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App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Fine cor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3F5-8F79-4A55-B88D-CA45E6094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a fa un program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nisce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ispos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man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 è la radice quadrata di 2345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 è il massimo comun divisore di 234 e 36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nisce risposte a una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asse di doman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a per calcolare la radice quadrata di un num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olve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blem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859-DB78-4890-9153-AD6EEC18C2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efinizioni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Problem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= insieme di domande omogen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1 = Calcola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qrt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2 = Calcola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cd(x,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Domand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(“istanza di un problema”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1 = Quanto va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qrt(341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2 = Quanto va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cd(48,36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147-488A-463A-8615-A6C6948DC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06520" y="1712880"/>
            <a:ext cx="7672320" cy="4330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i e doman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903320" y="2589120"/>
            <a:ext cx="2578320" cy="1409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67600" y="1969920"/>
            <a:ext cx="2205360" cy="3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ti i proble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25040" y="2793960"/>
            <a:ext cx="1230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(sqrt(N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58640" y="3294000"/>
            <a:ext cx="822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t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38280" y="3154320"/>
            <a:ext cx="822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t(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56080" y="3433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3586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03520" y="3586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65560" y="2728800"/>
            <a:ext cx="2578320" cy="1409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0200" y="2933640"/>
            <a:ext cx="1484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(mcd(X,Y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0640" y="3433680"/>
            <a:ext cx="1063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(12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80280" y="3294000"/>
            <a:ext cx="1063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(36,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18320" y="3573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0600" y="3726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65760" y="3726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360" y="4189320"/>
            <a:ext cx="2577960" cy="1409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26800" y="4394160"/>
            <a:ext cx="760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22760" y="503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5040" y="518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70200" y="518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Computabilità + Appl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D17-A816-4651-B579-FC58952527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fano Mizzaro</cp:lastModifiedBy>
  <cp:lastPrinted>2007-02-22T09:48:44Z</cp:lastPrinted>
  <dcterms:modified xsi:type="dcterms:W3CDTF">2007-02-22T10:57:08Z</dcterms:modified>
  <cp:revision>1599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gua">
    <vt:lpwstr>Italiano</vt:lpwstr>
  </property>
</Properties>
</file>