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0"/>
            <a:ext cx="6778800" cy="991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3832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dt" idx="13"/>
          </p:nvPr>
        </p:nvSpPr>
        <p:spPr>
          <a:xfrm>
            <a:off x="3841920" y="-360"/>
            <a:ext cx="293832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sldImg"/>
          </p:nvPr>
        </p:nvSpPr>
        <p:spPr>
          <a:xfrm>
            <a:off x="914400" y="74268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body"/>
          </p:nvPr>
        </p:nvSpPr>
        <p:spPr>
          <a:xfrm>
            <a:off x="901800" y="4706640"/>
            <a:ext cx="4976640" cy="44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ftr" idx="14"/>
          </p:nvPr>
        </p:nvSpPr>
        <p:spPr>
          <a:xfrm>
            <a:off x="0" y="9416880"/>
            <a:ext cx="293832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 type="sldNum" idx="15"/>
          </p:nvPr>
        </p:nvSpPr>
        <p:spPr>
          <a:xfrm>
            <a:off x="3841920" y="9416880"/>
            <a:ext cx="293832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5FFB1-1D87-4434-8EF8-EBEBB3B190A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91440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01800" y="4706640"/>
            <a:ext cx="4976640" cy="4460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VALUTAZIONE!!!  39 +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1440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01800" y="4706640"/>
            <a:ext cx="4976640" cy="44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.B. LEFT, … sono String! cfr. Codice sorgente API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1440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01800" y="4706640"/>
            <a:ext cx="4976640" cy="44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blu quelli che vediamo. Cfr. anche fotocop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1440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01800" y="4706640"/>
            <a:ext cx="4976640" cy="44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ck() usato negli esempi preceden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91440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01800" y="4706640"/>
            <a:ext cx="4976640" cy="44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oche informazioni. Se di p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ù, c’e’ TextArea non editabile, vedi dop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1440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01800" y="4706640"/>
            <a:ext cx="4976640" cy="44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ANTE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1440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01800" y="4706640"/>
            <a:ext cx="4976640" cy="44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no tutti nomi di clas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1440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01800" y="4706640"/>
            <a:ext cx="4976640" cy="44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.: TextField genera eventi TextEvent, ActionEvent 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. ActionEven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è generato anche da Button, da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91440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01800" y="4706640"/>
            <a:ext cx="4976640" cy="44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.B. “action” --&gt; “ActionEvent”, ec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FA71-26D8-4754-855D-2CBC42AC3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872964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25000" y="3938040"/>
            <a:ext cx="872964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A11C-F3B6-42ED-A8CB-68012D862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98360" y="153828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225000" y="393804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98360" y="393804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09EB-6782-471E-9C1D-C83A10E7A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2810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76640" y="1538280"/>
            <a:ext cx="2810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28640" y="1538280"/>
            <a:ext cx="2810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225000" y="3938040"/>
            <a:ext cx="2810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76640" y="3938040"/>
            <a:ext cx="2810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28640" y="3938040"/>
            <a:ext cx="2810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E07C-D880-455F-9CDE-9C93255C5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8FB2E-FB55-4457-92CF-515987699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17999-3A85-4FA6-9F42-BB1654FB9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261B4-781E-4388-8ECC-AB6E908DC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425988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8360" y="1538280"/>
            <a:ext cx="425988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16045-0894-473F-984B-5F3378371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8BD23-EE47-42DF-A29B-C1CDF847D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4588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074CD-FE15-482D-8482-81008D72F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8360" y="1538280"/>
            <a:ext cx="425988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5000" y="393804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B09B9-402C-46BC-B1BB-B950359D5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404C-E174-4149-9FD0-8FB9BF817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425988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98360" y="153828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98360" y="393804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9C398-FB24-4A33-96BE-D91C847A1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98360" y="153828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225000" y="3938040"/>
            <a:ext cx="872964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C84FD-5081-4AAE-A277-2374C8345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872964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225000" y="3938040"/>
            <a:ext cx="872964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0BC51-F9CE-4B64-A405-4D4F4EBCA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98360" y="153828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25000" y="393804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98360" y="393804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45938-A032-4BCD-A2DF-7FEADE90D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2810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176640" y="1538280"/>
            <a:ext cx="2810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28640" y="1538280"/>
            <a:ext cx="2810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225000" y="3938040"/>
            <a:ext cx="2810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176640" y="3938040"/>
            <a:ext cx="2810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28640" y="3938040"/>
            <a:ext cx="2810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1EB3A-295F-467F-BDD0-16D1FF58E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A29E5-47FB-4CCE-9D78-1F32B048F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2594F-AC7C-482C-A1E1-E57D6CD9C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BA1DB-8E0B-4E66-A882-F9E0CA8EE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425988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8360" y="1538280"/>
            <a:ext cx="425988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47297-1132-4BDF-9BC2-3F183DCEC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1F139-0401-4D3A-B70F-FF2C431D4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04FD-DF14-422F-A96C-5AD405500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150560" y="24588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6BB3D-E403-4DCB-86BE-29061110A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98360" y="1538280"/>
            <a:ext cx="425988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225000" y="393804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78C54-8A57-4B13-BA5D-212DD76BB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425988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98360" y="153828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98360" y="393804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A5243-1614-4060-9553-4D141AD8E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98360" y="153828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225000" y="3938040"/>
            <a:ext cx="872964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13DDE-9042-4DD2-A76D-9F09AE2D0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872964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225000" y="3938040"/>
            <a:ext cx="872964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679B0-B056-463F-B69E-C0FA57294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98360" y="153828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225000" y="393804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98360" y="393804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471AB-A630-4659-BE76-B2C6DDE52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2810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176640" y="1538280"/>
            <a:ext cx="2810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28640" y="1538280"/>
            <a:ext cx="2810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225000" y="3938040"/>
            <a:ext cx="2810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176640" y="3938040"/>
            <a:ext cx="2810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28640" y="3938040"/>
            <a:ext cx="2810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21577-CE17-4F5A-94F0-66C029171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5EBDE-FABF-414B-9FB2-BF5020740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749CC-48E5-4578-84C1-FA7AC97BD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891FB-3D71-4AF0-8F80-5604C2594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425988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8360" y="1538280"/>
            <a:ext cx="425988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C9E8-4E3E-4521-9DA8-1C9EA64C1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425988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98360" y="1538280"/>
            <a:ext cx="425988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C78C0-0D26-4477-8238-B461582AA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A3948-6C29-4987-A902-713A26BD1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150560" y="24588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A1F74-3C0E-4D94-AC5D-D5FC68F53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98360" y="1538280"/>
            <a:ext cx="425988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25000" y="393804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52277-8158-4606-9696-D70980A6B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425988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98360" y="153828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98360" y="393804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86395-BDD3-42DC-BBF3-C9E0E8082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98360" y="153828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225000" y="3938040"/>
            <a:ext cx="872964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E3CE7-1676-4586-9825-366B75034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872964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225000" y="3938040"/>
            <a:ext cx="872964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6617F-49FD-49B5-B1F5-0D79E24E2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98360" y="153828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225000" y="393804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98360" y="393804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D4CF6-C3E5-4471-9E80-088A6B0D4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2810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176640" y="1538280"/>
            <a:ext cx="2810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128640" y="1538280"/>
            <a:ext cx="2810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225000" y="3938040"/>
            <a:ext cx="2810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176640" y="3938040"/>
            <a:ext cx="2810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128640" y="3938040"/>
            <a:ext cx="2810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09B1A-BC68-4562-8D3D-E7B434497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834F-4D60-40C7-AB28-8312495DC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4588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46F0-B25A-46C5-B740-2B2B8F580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98360" y="1538280"/>
            <a:ext cx="425988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5000" y="393804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144F-1A8D-4474-B02F-4220E2B45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425988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98360" y="153828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98360" y="393804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2D9F-D63D-4785-8F76-165EDEF4B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8360" y="153828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5000" y="3938040"/>
            <a:ext cx="872964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295C-7D4E-4C41-9849-97985EC04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8800" y="1411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1480" y="14112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12640" y="5634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82720" y="56340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8280" y="49068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3348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22392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9D483-E497-490F-B0E9-307F9324953A}" type="datetime">
              <a:rPr b="0" lang="it-IT" sz="1400" spc="-1" strike="noStrike">
                <a:solidFill>
                  <a:srgbClr val="000000"/>
                </a:solidFill>
                <a:latin typeface="Tahoma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26172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5636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9283D-AFA8-42EF-8151-03E4F31EC53E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03C1E-2DA3-4D35-9EBF-36B460E60287}" type="datetime">
              <a:rPr b="0" lang="it-IT" sz="1400" spc="-1" strike="noStrike">
                <a:solidFill>
                  <a:srgbClr val="1c1c1c"/>
                </a:solidFill>
                <a:latin typeface="Tahoma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42FD7-225A-4656-962D-14C4433A79E2}" type="slidenum">
              <a:rPr b="0" lang="it-IT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683280" indent="-262800">
              <a:spcBef>
                <a:spcPts val="799"/>
              </a:spcBef>
              <a:buClr>
                <a:srgbClr val="0e18f3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051560" indent="-210240">
              <a:spcBef>
                <a:spcPts val="799"/>
              </a:spcBef>
              <a:buClr>
                <a:srgbClr val="20cd02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472040" indent="-210240">
              <a:spcBef>
                <a:spcPts val="799"/>
              </a:spcBef>
              <a:buClr>
                <a:srgbClr val="eaef06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1892520" indent="-210240">
              <a:spcBef>
                <a:spcPts val="799"/>
              </a:spcBef>
              <a:buClr>
                <a:srgbClr val="ff8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1892520" indent="-21024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1892520" indent="-21024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F3D08-D2E0-4C88-A28B-A69589456EBA}" type="datetime"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D94C6-DD63-4B18-98CD-360A17B6FA73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9E8B4-C7CB-4B39-A91A-5FF25F021877}" type="datetime"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FBF3A-FE58-49D9-A4D3-131154FD43CF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307440"/>
            <a:ext cx="914400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333399"/>
                </a:solidFill>
                <a:latin typeface="Tahoma"/>
              </a:rPr>
              <a:t>GUI in Java con l’AWT –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-1440" y="2766600"/>
            <a:ext cx="91440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Tahoma"/>
              </a:rPr>
              <a:t>Stefano Mizzaro</a:t>
            </a:r>
            <a:r>
              <a:rPr b="0" lang="it-IT" sz="2800" spc="-1" strike="noStrike">
                <a:solidFill>
                  <a:srgbClr val="3333cc"/>
                </a:solidFill>
                <a:latin typeface="Tahoma"/>
              </a:rPr>
              <a:t> </a:t>
            </a:r>
            <a:br>
              <a:rPr sz="2800"/>
            </a:br>
            <a:br>
              <a:rPr sz="28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partimento di matematica e informatica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Università di Udine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http://www.dimi.uniud.it/mizzaro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izzaro@dimi.uniud.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grammazione, lezione 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brai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200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93320" y="24588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333399"/>
                </a:solidFill>
                <a:latin typeface="Tahoma"/>
              </a:rPr>
              <a:t>Componenti - Eventi - Ascoltatori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L’evento </a:t>
            </a: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XxxEven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è gestito da </a:t>
            </a: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XxxListe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XxxListener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va registrato nel compon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addXxxListener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sono definiti nelle (ed ereditati da) classi “opportune”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addWindowListener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è definito in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Window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ed ereditato da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Fram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e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Dialo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addActionListener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è definito in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Button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MenuItem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Text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vedi fotocopie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AWT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FC6B-0342-43A2-A532-95E801E7226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Scalet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6666"/>
                </a:solidFill>
                <a:latin typeface="Tahoma"/>
              </a:rPr>
              <a:t>Associazione componenti </a:t>
            </a:r>
            <a:r>
              <a:rPr b="0" lang="it-IT" sz="3200" spc="-1" strike="noStrike">
                <a:solidFill>
                  <a:srgbClr val="666666"/>
                </a:solidFill>
                <a:latin typeface="Symbol"/>
                <a:ea typeface="Symbol"/>
              </a:rPr>
              <a:t></a:t>
            </a:r>
            <a:r>
              <a:rPr b="0" lang="it-IT" sz="3200" spc="-1" strike="noStrike">
                <a:solidFill>
                  <a:srgbClr val="666666"/>
                </a:solidFill>
                <a:latin typeface="Tahoma"/>
              </a:rPr>
              <a:t> event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Layo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6666"/>
                </a:solidFill>
                <a:latin typeface="Tahoma"/>
              </a:rPr>
              <a:t>Campionario di componenti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AWT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6277-E57C-434B-9912-7F8EF65D386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I gestori di layou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sizionamento dei componenti in un contenit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i sono vari gestori di layout (implementan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LayoutManag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 vediamo du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Metodo </a:t>
            </a: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setLayout(LayoutManager)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Contain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ovviamente: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è un contenito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 quindi in tutte le sottoclassi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AWT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B991-3799-42DF-8F99-DECD5D0D9C9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333399"/>
                </a:solidFill>
                <a:latin typeface="Courier New"/>
              </a:rPr>
              <a:t>BorderLayou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5 posizioni (N, S, E, W, C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BorderLayout.NORTH (SOUTH EAST WEST CEN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Cent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erca di essere pi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ù grande possib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I componenti vengono “stirati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Default di </a:t>
            </a: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Vediamo la documentazio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Vediamo un esempio (</a:t>
            </a: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ProvaLayout.java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AWT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848B-3BA7-49FC-9F5F-780E597E983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333399"/>
                </a:solidFill>
                <a:latin typeface="Courier New"/>
              </a:rPr>
              <a:t>FlowLayou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Come le parole di un testo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entrato, ma si può cambiare (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lowLayout.LEF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Default di </a:t>
            </a: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Pan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Vediamo la documentazio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I componenti </a:t>
            </a:r>
            <a:r>
              <a:rPr b="0" lang="it-IT" sz="3200" spc="-1" strike="noStrike">
                <a:solidFill>
                  <a:srgbClr val="0000ff"/>
                </a:solidFill>
                <a:latin typeface="Tahoma"/>
              </a:rPr>
              <a:t>non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vengono stirati (utile mettere un </a:t>
            </a: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Panel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in un </a:t>
            </a: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Fram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…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Vediamo un esempio (</a:t>
            </a: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ProvaFlowLayout.java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AWT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2C08-BCED-43F4-A359-9F19AA9DA56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Esempio di uso dei layou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2073240"/>
            <a:ext cx="9147240" cy="2724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Panel p = new Panel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p.setLayout(new BorderLayout(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p.add(new Label("Nord"), BorderLayout.NORTH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p.add(new Label("Sud"), BorderLayout.SOUTH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p.add(new Label("Est"), BorderLayout.EAS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p.add(new Label("Ovest"), BorderLayout.WES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p.add(new Label("Centro"), BorderLayout.CENTE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AWT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7C54-087D-405D-82E9-6749292A49E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Pregi dei layou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Meglio del posizionamento assolu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Distanza in pixel dall’angolo in alto a sx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 layout manager 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posizion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e 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dimension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automaticament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quando serv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i componenti in un contenit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NON serve invocar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metodi di un gestore di layout: vengono invocati automaticamente quando necessari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AWT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1078-CCDC-4D91-9CB3-B1F5CFD119A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Scalet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6666"/>
                </a:solidFill>
                <a:latin typeface="Tahoma"/>
              </a:rPr>
              <a:t>Associazione componenti </a:t>
            </a:r>
            <a:r>
              <a:rPr b="0" lang="it-IT" sz="3200" spc="-1" strike="noStrike">
                <a:solidFill>
                  <a:srgbClr val="666666"/>
                </a:solidFill>
                <a:latin typeface="Symbol"/>
                <a:ea typeface="Symbol"/>
              </a:rPr>
              <a:t></a:t>
            </a:r>
            <a:r>
              <a:rPr b="0" lang="it-IT" sz="3200" spc="-1" strike="noStrike">
                <a:solidFill>
                  <a:srgbClr val="666666"/>
                </a:solidFill>
                <a:latin typeface="Tahoma"/>
              </a:rPr>
              <a:t> event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6666"/>
                </a:solidFill>
                <a:latin typeface="Tahoma"/>
              </a:rPr>
              <a:t>Layo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Campionario di componenti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AWT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77B6-2061-4384-AAAF-98624120010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35000" y="189000"/>
            <a:ext cx="74232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Tutti i component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440" y="1022040"/>
            <a:ext cx="380988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Courier New"/>
              </a:rPr>
              <a:t>Butt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Courier New"/>
              </a:rPr>
              <a:t>(Canva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Checkbo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Checkbox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Di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Courier New"/>
              </a:rPr>
              <a:t>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Courier New"/>
              </a:rPr>
              <a:t>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Courier New"/>
              </a:rPr>
              <a:t>Pa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Scrollb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ScrollP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47960" y="1022040"/>
            <a:ext cx="413676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Courier New"/>
              </a:rPr>
              <a:t>Text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Courier New"/>
              </a:rPr>
              <a:t>Text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Courier New"/>
              </a:rPr>
              <a:t>Text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Componenti per menu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Men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Menu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MenuI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CheckboxMenuI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PopupMen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MenuB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MenuShortc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AWT2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2FF2-1390-4F58-8151-54F06DB14FE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333399"/>
                </a:solidFill>
                <a:latin typeface="Courier New"/>
              </a:rPr>
              <a:t>abstract Compon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Il componente più generico (sopraclass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1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Metod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principali (disponibili anche per sottoclassi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void setVisible(boolea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void setBounds(int int int i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Dimension getSize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void setSize(</a:t>
            </a:r>
            <a:r>
              <a:rPr b="1" lang="it-IT" sz="2400" spc="-1" strike="noStrike">
                <a:solidFill>
                  <a:srgbClr val="0000ff"/>
                </a:solidFill>
                <a:latin typeface="Courier New"/>
              </a:rPr>
              <a:t>Dimension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void setSize(int width, int heigh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void setFont(</a:t>
            </a:r>
            <a:r>
              <a:rPr b="1" lang="it-IT" sz="2400" spc="-1" strike="noStrike">
                <a:solidFill>
                  <a:srgbClr val="0000ff"/>
                </a:solidFill>
                <a:latin typeface="Courier New"/>
              </a:rPr>
              <a:t>Font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void setBackground(</a:t>
            </a:r>
            <a:r>
              <a:rPr b="1" lang="it-IT" sz="2400" spc="-1" strike="noStrike">
                <a:solidFill>
                  <a:srgbClr val="0000ff"/>
                </a:solidFill>
                <a:latin typeface="Courier New"/>
              </a:rPr>
              <a:t>Color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Foreground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Color getBackground()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Foreground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void addXxxListener(XxxListen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AWT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3562-8DB3-4D4C-AC78-3D32C36371F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Riassun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25000" y="1537920"/>
            <a:ext cx="872964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GUI in Java: AW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Concetti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Componen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Even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Ascoltator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(Layou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Documentazio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Libri, Fotocopi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(Tutorial S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AWT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319F-B536-4406-B4FD-632EC4A60D0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3 classi “ausiliarie”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Col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Dimen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(Fon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AWT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7173-2443-4656-9606-8146DFBC824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333399"/>
                </a:solidFill>
                <a:latin typeface="Courier New"/>
              </a:rPr>
              <a:t>Col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Ogni istanza rappresenta un col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Definisce alcuni colori “già pronti” (costanti </a:t>
            </a: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Color.BLACK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Color.WHIT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, …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Vedi documentazione AP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Metodi: costruttori (sovraccarichi: RGB,…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"/>
          <p:cNvSpPr/>
          <p:nvPr/>
        </p:nvSpPr>
        <p:spPr>
          <a:xfrm>
            <a:off x="1100160" y="4759200"/>
            <a:ext cx="6940440" cy="1263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Component 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c = new ...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c.setBackground(new Color(0,0,255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c.setBackground(Color.BLU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AWT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89EF-AA10-4A34-963D-C0CA90A389A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333399"/>
                </a:solidFill>
                <a:latin typeface="Courier New"/>
              </a:rPr>
              <a:t>Dimen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Larghezza (</a:t>
            </a: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width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) e altezza (</a:t>
            </a: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heigh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) di un </a:t>
            </a: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Componen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in un unico ogget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Metodi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Costrutt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double getWidth()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double getHeight()</a:t>
            </a:r>
            <a:r>
              <a:rPr b="0" lang="it-IT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Vedi documentazione AP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AWT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C419-0ECB-45A6-A02C-C2000FC78C8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333399"/>
                </a:solidFill>
                <a:latin typeface="Courier New"/>
              </a:rPr>
              <a:t>abstract Contain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Contenitore di component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Metodi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void add(Compon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void setLayout(LayoutManag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void addContainerListener(..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AWT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E81D-EC0F-4C20-9EEA-EA76C8EF0EA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333399"/>
                </a:solidFill>
                <a:latin typeface="Courier New"/>
              </a:rPr>
              <a:t>Windo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Finestra gener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 solito non si usa, si usano le sottoclas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Metod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void pack(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void dispose(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void addWindowListener(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AWT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1E79-3C90-46D4-AB2E-94CE38FD978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333399"/>
                </a:solidFill>
                <a:latin typeface="Courier New"/>
              </a:rPr>
              <a:t>Fram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Finestra principale di un’applicazio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Metodi principali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Costrutt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void setTitle(Str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void setMenuBar(MenuB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Uso tipico: già visto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AWT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1951-376D-48C7-9532-B5C4AE2DA44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333399"/>
                </a:solidFill>
                <a:latin typeface="Courier New"/>
              </a:rPr>
              <a:t>Pan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Contenitore generico: usato per contenere altri component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ane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entr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ane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entr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an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Metodi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Costrutto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Panel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Panel(LayoutManag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Layout di default: </a:t>
            </a: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FlowLayo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AWT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8DC0-57A8-4576-A638-CF9F9B0AECD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93400" y="231840"/>
            <a:ext cx="726444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Uso tipico di </a:t>
            </a:r>
            <a:r>
              <a:rPr b="1" lang="en-US" sz="4400" spc="-1" strike="noStrike">
                <a:solidFill>
                  <a:srgbClr val="333399"/>
                </a:solidFill>
                <a:latin typeface="Courier New"/>
              </a:rPr>
              <a:t>Pan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1050840"/>
            <a:ext cx="9140760" cy="4771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import java.awt.*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class ProvaPanel extends Fram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public ProvaPanel 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super("Layout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add(new Button("Nord"), BorderLayout.NORTH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add(new Button("Sud"), BorderLayout.SOUTH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add(new Button("Est"), BorderLayout.EAS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add(new Button("Ovest"), BorderLayout.WES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0000ff"/>
                </a:solidFill>
                <a:latin typeface="Courier New"/>
              </a:rPr>
              <a:t>Panel p = new Panel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0000ff"/>
                </a:solidFill>
                <a:latin typeface="Courier New"/>
              </a:rPr>
              <a:t>p.add(new Button("Centro"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0000ff"/>
                </a:solidFill>
                <a:latin typeface="Courier New"/>
              </a:rPr>
              <a:t>add(p, BorderLayout.CENTE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setVisible(tru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pack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523800" y="3433680"/>
            <a:ext cx="8620200" cy="2937960"/>
            <a:chOff x="523800" y="3433680"/>
            <a:chExt cx="8620200" cy="2937960"/>
          </a:xfrm>
        </p:grpSpPr>
        <p:sp>
          <p:nvSpPr>
            <p:cNvPr id="300" name=""/>
            <p:cNvSpPr/>
            <p:nvPr/>
          </p:nvSpPr>
          <p:spPr>
            <a:xfrm>
              <a:off x="523800" y="5911920"/>
              <a:ext cx="8620200" cy="459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ff"/>
                  </a:solidFill>
                  <a:latin typeface="Courier New"/>
                </a:rPr>
                <a:t>add(new Button("</a:t>
              </a:r>
              <a:r>
                <a:rPr b="1" lang="en-US" sz="2400" spc="-1" strike="noStrike">
                  <a:solidFill>
                    <a:srgbClr val="0000ff"/>
                  </a:solidFill>
                  <a:latin typeface="Courier New"/>
                </a:rPr>
                <a:t>Centro</a:t>
              </a:r>
              <a:r>
                <a:rPr b="1" lang="it-IT" sz="2400" spc="-1" strike="noStrike">
                  <a:solidFill>
                    <a:srgbClr val="0000ff"/>
                  </a:solidFill>
                  <a:latin typeface="Courier New"/>
                </a:rPr>
                <a:t>"),BorderLayout.</a:t>
              </a:r>
              <a:r>
                <a:rPr b="1" lang="en-US" sz="2400" spc="-1" strike="noStrike">
                  <a:solidFill>
                    <a:srgbClr val="0000ff"/>
                  </a:solidFill>
                  <a:latin typeface="Courier New"/>
                </a:rPr>
                <a:t>CENTER</a:t>
              </a:r>
              <a:r>
                <a:rPr b="1" lang="it-IT" sz="2400" spc="-1" strike="noStrike">
                  <a:solidFill>
                    <a:srgbClr val="0000ff"/>
                  </a:solidFill>
                  <a:latin typeface="Courier New"/>
                </a:rPr>
                <a:t>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11360" y="3433680"/>
              <a:ext cx="5311440" cy="89208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36000" bIns="36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2" name=""/>
            <p:cNvCxnSpPr>
              <a:stCxn id="300" idx="0"/>
              <a:endCxn id="301" idx="2"/>
            </p:cNvCxnSpPr>
            <p:nvPr/>
          </p:nvCxnSpPr>
          <p:spPr>
            <a:xfrm flipV="1" rot="16200000">
              <a:off x="3306960" y="4384800"/>
              <a:ext cx="1586880" cy="1467720"/>
            </a:xfrm>
            <a:prstGeom prst="curvedConnector5">
              <a:avLst>
                <a:gd name="adj1" fmla="val 49943"/>
                <a:gd name="adj2" fmla="val 50000"/>
                <a:gd name="adj3" fmla="val 49943"/>
              </a:avLst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AWT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896B-240E-4589-8B27-BD35424F7A5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333399"/>
                </a:solidFill>
                <a:latin typeface="Courier New"/>
              </a:rPr>
              <a:t>Butt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Pulsante che l’utente può preme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Con etichetta testu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Quando premuto genera un </a:t>
            </a: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ActionEv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Che va gestito con un </a:t>
            </a: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ActionListe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L’</a:t>
            </a: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ActionEven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ha il metodo </a:t>
            </a: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getActionCommand</a:t>
            </a:r>
            <a:r>
              <a:rPr b="1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che restituisce una </a:t>
            </a: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1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che può essere usata per individuare il botton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Anche se di solito meglio 1 pulsante 1 ascoltat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AWT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21E4-7500-4466-B039-F5072DEE75B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Metodi di </a:t>
            </a:r>
            <a:r>
              <a:rPr b="1" lang="it-IT" sz="4400" spc="-1" strike="noStrike">
                <a:solidFill>
                  <a:srgbClr val="333399"/>
                </a:solidFill>
                <a:latin typeface="Courier New"/>
              </a:rPr>
              <a:t>Butt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setLabel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(anche con il costrutto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get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setActionComman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(di default la labe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getActionCom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addActionListener(ActionListener 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AWT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4C3A-E052-4874-BD66-59A703F4B6E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a manc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5000" y="1000080"/>
            <a:ext cx="87296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Associazioni componenti – eventi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Gestione layou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ampionario componenti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Component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Container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Window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Fram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Panel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Button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Label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TextComponent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TextAre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TextFiel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, (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Canva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Per ogni component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sa fa/è, quali eventi genera, esempi di us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Classi “ausiliarie”: 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Color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Fo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,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Dim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(Disegno: Canvas e Paint. Apple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Eh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AWT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482F-FBDE-43E3-A956-C13D4AFAA2B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99"/>
                </a:solidFill>
                <a:latin typeface="Tahoma"/>
              </a:rPr>
              <a:t>Uso tipico di </a:t>
            </a:r>
            <a:r>
              <a:rPr b="1" lang="it-IT" sz="4000" spc="-1" strike="noStrike">
                <a:solidFill>
                  <a:srgbClr val="333399"/>
                </a:solidFill>
                <a:latin typeface="Courier New"/>
              </a:rPr>
              <a:t>Button</a:t>
            </a:r>
            <a:r>
              <a:rPr b="0" lang="it-IT" sz="4000" spc="-1" strike="noStrike">
                <a:solidFill>
                  <a:srgbClr val="333399"/>
                </a:solidFill>
                <a:latin typeface="Tahoma"/>
              </a:rPr>
              <a:t> (già visto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3240" y="2075040"/>
            <a:ext cx="9140760" cy="3735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300" spc="-1" strike="noStrike">
                <a:solidFill>
                  <a:srgbClr val="333399"/>
                </a:solidFill>
                <a:latin typeface="Courier New"/>
              </a:rPr>
              <a:t>class ... {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3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300" spc="-1" strike="noStrike">
                <a:solidFill>
                  <a:srgbClr val="333399"/>
                </a:solidFill>
                <a:latin typeface="Courier New"/>
              </a:rPr>
              <a:t>..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3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300" spc="-1" strike="noStrike">
                <a:solidFill>
                  <a:srgbClr val="333399"/>
                </a:solidFill>
                <a:latin typeface="Courier New"/>
              </a:rPr>
              <a:t>Button b = new Button("Exit"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3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300" spc="-1" strike="noStrike">
                <a:solidFill>
                  <a:srgbClr val="333399"/>
                </a:solidFill>
                <a:latin typeface="Courier New"/>
              </a:rPr>
              <a:t>this.add(b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3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300" spc="-1" strike="noStrike">
                <a:solidFill>
                  <a:srgbClr val="333399"/>
                </a:solidFill>
                <a:latin typeface="Courier New"/>
              </a:rPr>
              <a:t>Ascoltatore a = new Ascoltatore(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3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300" spc="-1" strike="noStrike">
                <a:solidFill>
                  <a:srgbClr val="333399"/>
                </a:solidFill>
                <a:latin typeface="Courier New"/>
              </a:rPr>
              <a:t>b.addActionListener(a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3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300" spc="-1" strike="noStrike">
                <a:solidFill>
                  <a:srgbClr val="333399"/>
                </a:solidFill>
                <a:latin typeface="Courier New"/>
              </a:rPr>
              <a:t>..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3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300" spc="-1" strike="noStrike">
                <a:solidFill>
                  <a:srgbClr val="333399"/>
                </a:solidFill>
                <a:latin typeface="Courier New"/>
              </a:rPr>
              <a:t>class Ascoltatore implements ActionListener {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3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300" spc="-1" strike="noStrike">
                <a:solidFill>
                  <a:srgbClr val="333399"/>
                </a:solidFill>
                <a:latin typeface="Courier New"/>
              </a:rPr>
              <a:t>public void actionPerformed(ActionEvent e) {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300" spc="-1" strike="noStrike">
                <a:solidFill>
                  <a:srgbClr val="333399"/>
                </a:solidFill>
                <a:latin typeface="Courier New"/>
              </a:rPr>
              <a:t>      </a:t>
            </a:r>
            <a:r>
              <a:rPr b="1" lang="it-IT" sz="2300" spc="-1" strike="noStrike">
                <a:solidFill>
                  <a:srgbClr val="333399"/>
                </a:solidFill>
                <a:latin typeface="Courier New"/>
              </a:rPr>
              <a:t>//... Cosa fare quando si preme il pulsant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300" spc="-1" strike="noStrike">
                <a:solidFill>
                  <a:srgbClr val="333399"/>
                </a:solidFill>
                <a:latin typeface="Courier New"/>
              </a:rPr>
              <a:t>      </a:t>
            </a:r>
            <a:r>
              <a:rPr b="1" lang="it-IT" sz="2300" spc="-1" strike="noStrike">
                <a:solidFill>
                  <a:srgbClr val="333399"/>
                </a:solidFill>
                <a:latin typeface="Courier New"/>
              </a:rPr>
              <a:t>//qui ci può essere e.getActionCommand(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3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3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3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AWT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A8CF-AEBE-44D9-9F73-A6AAAA334C6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333399"/>
                </a:solidFill>
                <a:latin typeface="Courier New"/>
              </a:rPr>
              <a:t>Lab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Etichetta, testo non selezionab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Presenta informazion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Genera solo gli eventi di </a:t>
            </a: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Compon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Di solito non ascoltat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(serve solo a dare informazioni all’utent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AWT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1B34-CCAE-407A-A1A5-4A47ACEC7EA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Metodi di </a:t>
            </a:r>
            <a:r>
              <a:rPr b="1" lang="it-IT" sz="4400" spc="-1" strike="noStrike">
                <a:solidFill>
                  <a:srgbClr val="333399"/>
                </a:solidFill>
                <a:latin typeface="Courier New"/>
              </a:rPr>
              <a:t>Lab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void setText(String)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(anche costrutto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void setAlignment(int)</a:t>
            </a:r>
            <a:r>
              <a:rPr b="1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Label.LEFT/CENTER/RIGHT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(anche costrutto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String getText()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int getAlignment()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AWT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622A-4F4B-47CC-8F8D-3FC61B02C40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333399"/>
                </a:solidFill>
                <a:latin typeface="Courier New"/>
              </a:rPr>
              <a:t>TextCompon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Generico componente contenente tes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Costruttore con accessibilità di package, quindi non istanziabile dalla ns. applicazio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Genera eventi </a:t>
            </a: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TextEvent</a:t>
            </a:r>
            <a:r>
              <a:rPr b="0" lang="it-IT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gestiti con </a:t>
            </a: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TextListener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textValueChanged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Si usano le due 2 sottoclassi (che ereditano)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Text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Text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AWT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7544-B8E1-4387-8DF5-E0C1ABCD61B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Metodi di </a:t>
            </a:r>
            <a:r>
              <a:rPr b="1" lang="it-IT" sz="4400" spc="-1" strike="noStrike">
                <a:solidFill>
                  <a:srgbClr val="333399"/>
                </a:solidFill>
                <a:latin typeface="Courier New"/>
              </a:rPr>
              <a:t>TextCompon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void addTextListener(TextListener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String getText(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void setText(Str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void setEditable(boole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boolean isEditable(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String getSelectedText(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void selectAll(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AWT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EEF9-FC41-45E1-8CAF-A70D1D82F7E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333399"/>
                </a:solidFill>
                <a:latin typeface="Courier New"/>
              </a:rPr>
              <a:t>TextAre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Area di testo su più rig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Genera gli stessi eventi di </a:t>
            </a: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TextCompon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AWT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3BAF-7AA3-4528-86FF-0C6EF0B9C81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Metodi di </a:t>
            </a:r>
            <a:r>
              <a:rPr b="1" lang="it-IT" sz="4400" spc="-1" strike="noStrike">
                <a:solidFill>
                  <a:srgbClr val="333399"/>
                </a:solidFill>
                <a:latin typeface="Courier New"/>
              </a:rPr>
              <a:t>TextAre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Quelli di </a:t>
            </a: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TextCompon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Altri (vedi javadoc API)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Costruttor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void append(Str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int getColumns(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int getRows(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void setColumns(i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void setRows(i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AWT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D255-D97B-426C-8121-D8DA3A9F0E6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Uso tipico di </a:t>
            </a:r>
            <a:r>
              <a:rPr b="1" lang="it-IT" sz="4400" spc="-1" strike="noStrike">
                <a:solidFill>
                  <a:srgbClr val="333399"/>
                </a:solidFill>
                <a:latin typeface="Courier New"/>
              </a:rPr>
              <a:t>TextAre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4724280"/>
            <a:ext cx="9144000" cy="15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(Cfr. 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ProvaTextArea.jav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Oppure 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setText(…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per visualizzare messaggi su un 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TextAre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non editab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6320" y="1106640"/>
            <a:ext cx="8988480" cy="3308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333399"/>
                </a:solidFill>
                <a:latin typeface="Courier New"/>
              </a:rPr>
              <a:t>class ... 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200" spc="-1" strike="noStrike">
                <a:solidFill>
                  <a:srgbClr val="333399"/>
                </a:solidFill>
                <a:latin typeface="Courier New"/>
              </a:rPr>
              <a:t>TextArea t = new TextArea("Testo iniziale",5,20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200" spc="-1" strike="noStrike">
                <a:solidFill>
                  <a:srgbClr val="333399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200" spc="-1" strike="noStrike">
                <a:solidFill>
                  <a:srgbClr val="333399"/>
                </a:solidFill>
                <a:latin typeface="Courier New"/>
              </a:rPr>
              <a:t>class AscoltatoreTesto implements TextListener 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200" spc="-1" strike="noStrike">
                <a:solidFill>
                  <a:srgbClr val="333399"/>
                </a:solidFill>
                <a:latin typeface="Courier New"/>
              </a:rPr>
              <a:t>public void textValueChanged(TextEvent e) 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333399"/>
                </a:solidFill>
                <a:latin typeface="Courier New"/>
              </a:rPr>
              <a:t>      </a:t>
            </a:r>
            <a:r>
              <a:rPr b="1" lang="it-IT" sz="2200" spc="-1" strike="noStrike">
                <a:solidFill>
                  <a:srgbClr val="333399"/>
                </a:solidFill>
                <a:latin typeface="Courier New"/>
              </a:rPr>
              <a:t>if(t.getText().equals("Basta")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1" lang="it-IT" sz="2200" spc="-1" strike="noStrike">
                <a:solidFill>
                  <a:srgbClr val="333399"/>
                </a:solidFill>
                <a:latin typeface="Courier New"/>
              </a:rPr>
              <a:t>t.setEditable(false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2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2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200" spc="-1" strike="noStrike">
                <a:solidFill>
                  <a:srgbClr val="333399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200" spc="-1" strike="noStrike">
                <a:solidFill>
                  <a:srgbClr val="333399"/>
                </a:solidFill>
                <a:latin typeface="Courier New"/>
              </a:rPr>
              <a:t>... 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200" spc="-1" strike="noStrike">
                <a:solidFill>
                  <a:srgbClr val="333399"/>
                </a:solidFill>
                <a:latin typeface="Courier New"/>
              </a:rPr>
              <a:t>t.addTextListener(new AscoltatoreTesto()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AWT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5802-1F26-418B-BD69-CECD41DCD08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333399"/>
                </a:solidFill>
                <a:latin typeface="Courier New"/>
              </a:rPr>
              <a:t>TextFiel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Campo di testo (1 rig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Oltre agli eventi di </a:t>
            </a: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TextCompon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Genera anche </a:t>
            </a: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ActionEven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quando si preme </a:t>
            </a: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retur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E il 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getActionComman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restituisce il testo inseri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AWT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D816-36A7-4789-8D0D-98F7CA3986E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Uso tipico di </a:t>
            </a:r>
            <a:r>
              <a:rPr b="1" lang="it-IT" sz="4400" spc="-1" strike="noStrike">
                <a:solidFill>
                  <a:srgbClr val="333399"/>
                </a:solidFill>
                <a:latin typeface="Courier New"/>
              </a:rPr>
              <a:t>TextField</a:t>
            </a: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 (1/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"/>
          <p:cNvSpPr/>
          <p:nvPr/>
        </p:nvSpPr>
        <p:spPr>
          <a:xfrm>
            <a:off x="3240" y="1174680"/>
            <a:ext cx="9140760" cy="5355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import java.awt.*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import java.awt.event.*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class MyFrame extends Fram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private TextField 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private TextArea 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public MyFrame(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super("Prova Text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t = new TextArea("Hai inserito:\n",5,2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t.setEditable(false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f = new TextField("Inserisci testo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f.selectAll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f.addActionListener(new Ascoltatore(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this.add(f, BorderLayout.NORTH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this.add(t, BorderLayout.CENTE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this.pack(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this.setVisible(tru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AWT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E0C7-937F-44B1-BDB1-3CC3A99D752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Scalet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Associazione componenti 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event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Layo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Campionario di componenti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AWT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8884-CA48-4C9D-B43A-D96BE93999C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Uso tipico di </a:t>
            </a:r>
            <a:r>
              <a:rPr b="1" lang="it-IT" sz="4400" spc="-1" strike="noStrike">
                <a:solidFill>
                  <a:srgbClr val="333399"/>
                </a:solidFill>
                <a:latin typeface="Courier New"/>
              </a:rPr>
              <a:t>TextField</a:t>
            </a: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 (2/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3240" y="1319040"/>
            <a:ext cx="9140760" cy="2432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class Ascoltatore implements ActionListener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public void actionPerformed(ActionEvent e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  </a:t>
            </a: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.append(e.getActionCommand() + "\n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  </a:t>
            </a: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f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.selectAll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4029120"/>
            <a:ext cx="9140760" cy="1555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public class ProvaTex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public static void main (String[] args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MyFrame f = new MyFram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25000" y="5695560"/>
            <a:ext cx="872964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a: comodi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à della classe inter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AWT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9988-AB35-4365-88AC-A3A8BC1AEA05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nza classe inter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sogna passare gli argomenti al costrutt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1243080"/>
            <a:ext cx="9140760" cy="1555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class MyFram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f.addActionListener(new Ascoltatore(f, t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240" y="3133800"/>
            <a:ext cx="9140760" cy="3309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class Ascoltatore implements ActionListener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private TextField 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private TextArea 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public Ascoltatore (TextField f, TextArea t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this.f = f; this.t = 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public void actionPerformed(ActionEvent e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t.append(e.getActionCommand() + "\n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f.selectAll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AWT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DB67-0FFE-4FBD-82E8-B6A3AC92DC1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Altri componenti (che non vediamo…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428004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Canv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Checkbo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Checkbox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Di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Scrollb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ScrollP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401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Componenti per men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Menu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MenuI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CheckbocMenuI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PopupMen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MenuB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MenuShortc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AWT2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C4A3-B8A0-447E-BF87-E1DFA5657DA5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Riassun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225000" y="1160280"/>
            <a:ext cx="87296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Associazione componenti 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event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Layo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Campionario di componenti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Component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Container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Window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Fram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Panel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Button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Label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TextComponent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TextAre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Text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Per ogni component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sa fa/è, quali eventi genera, esempi di us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Classi “ausiliarie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Color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Fo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,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Dim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AWT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25FF-380E-4DAA-8ADB-6B14A87CA711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Nom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985320"/>
            <a:ext cx="3462480" cy="546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Componen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utt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nv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eckbo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eckboxMenuI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o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pon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tai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alo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680080" y="960120"/>
            <a:ext cx="3463920" cy="546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ctionEv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justmentEv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ponentEv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tainerEv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cusEv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temEv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eyEv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useEv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useMotionEv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xtEv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indowEv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"/>
          <p:cNvSpPr/>
          <p:nvPr/>
        </p:nvSpPr>
        <p:spPr>
          <a:xfrm>
            <a:off x="2840040" y="1011240"/>
            <a:ext cx="3462480" cy="54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ab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enu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crollb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xtA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xtFie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ind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AWT2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39AE-B9B4-45C4-8550-16883E6DB74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onenti-event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5000" y="1055160"/>
            <a:ext cx="872964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Quali componenti generano quali eventi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Ogni componente può generare più even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Ogni evento può essere generato da più componen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E poi c’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è anche l’ereditarietà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"/>
          <p:cNvSpPr/>
          <p:nvPr/>
        </p:nvSpPr>
        <p:spPr>
          <a:xfrm>
            <a:off x="3741840" y="4707000"/>
            <a:ext cx="217440" cy="217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741840" y="4013280"/>
            <a:ext cx="217440" cy="217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741840" y="4363920"/>
            <a:ext cx="217440" cy="217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741840" y="3571920"/>
            <a:ext cx="217440" cy="217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30880" y="3573360"/>
            <a:ext cx="217440" cy="2174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30880" y="3289320"/>
            <a:ext cx="217440" cy="2174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30880" y="3878280"/>
            <a:ext cx="217440" cy="2174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30880" y="4356000"/>
            <a:ext cx="217440" cy="2174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10" idx="6"/>
            <a:endCxn id="211" idx="2"/>
          </p:cNvCxnSpPr>
          <p:nvPr/>
        </p:nvCxnSpPr>
        <p:spPr>
          <a:xfrm>
            <a:off x="3959280" y="3065040"/>
            <a:ext cx="13723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"/>
          <p:cNvCxnSpPr>
            <a:stCxn id="204" idx="6"/>
            <a:endCxn id="205" idx="2"/>
          </p:cNvCxnSpPr>
          <p:nvPr/>
        </p:nvCxnSpPr>
        <p:spPr>
          <a:xfrm>
            <a:off x="3959280" y="3681000"/>
            <a:ext cx="13723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3" name=""/>
          <p:cNvCxnSpPr>
            <a:stCxn id="204" idx="6"/>
            <a:endCxn id="207" idx="2"/>
          </p:cNvCxnSpPr>
          <p:nvPr/>
        </p:nvCxnSpPr>
        <p:spPr>
          <a:xfrm>
            <a:off x="3959280" y="3681000"/>
            <a:ext cx="137232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"/>
          <p:cNvCxnSpPr>
            <a:stCxn id="208" idx="2"/>
            <a:endCxn id="201" idx="6"/>
          </p:cNvCxnSpPr>
          <p:nvPr/>
        </p:nvCxnSpPr>
        <p:spPr>
          <a:xfrm flipH="1">
            <a:off x="3958920" y="4465800"/>
            <a:ext cx="1372320" cy="351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stCxn id="208" idx="2"/>
            <a:endCxn id="202" idx="6"/>
          </p:cNvCxnSpPr>
          <p:nvPr/>
        </p:nvCxnSpPr>
        <p:spPr>
          <a:xfrm flipH="1" flipV="1">
            <a:off x="3958920" y="4122000"/>
            <a:ext cx="137232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6" name=""/>
          <p:cNvCxnSpPr>
            <a:stCxn id="203" idx="6"/>
            <a:endCxn id="208" idx="2"/>
          </p:cNvCxnSpPr>
          <p:nvPr/>
        </p:nvCxnSpPr>
        <p:spPr>
          <a:xfrm flipV="1">
            <a:off x="3959280" y="4465440"/>
            <a:ext cx="1372320" cy="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0" name=""/>
          <p:cNvSpPr/>
          <p:nvPr/>
        </p:nvSpPr>
        <p:spPr>
          <a:xfrm>
            <a:off x="3741840" y="2955960"/>
            <a:ext cx="217440" cy="217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330880" y="2959200"/>
            <a:ext cx="217440" cy="2174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7" name=""/>
          <p:cNvCxnSpPr>
            <a:stCxn id="204" idx="6"/>
            <a:endCxn id="206" idx="2"/>
          </p:cNvCxnSpPr>
          <p:nvPr/>
        </p:nvCxnSpPr>
        <p:spPr>
          <a:xfrm flipV="1">
            <a:off x="3959280" y="3398040"/>
            <a:ext cx="1372320" cy="28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8" name=""/>
          <p:cNvSpPr/>
          <p:nvPr/>
        </p:nvSpPr>
        <p:spPr>
          <a:xfrm>
            <a:off x="3131640" y="4897440"/>
            <a:ext cx="14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ompone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17680" y="490392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Eve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AWT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1E7B-C319-4FA0-87C2-3B2AA6ECD41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onenti, eventi ed eredità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652760"/>
            <a:ext cx="380988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Eredità fra i componenti (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Component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genera eventi key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tutti i componenti lo farann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47960" y="1652760"/>
            <a:ext cx="380988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Eredità fra gli eventi (se un componente genera eventi key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genera anche i “sopraeventi”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586800" y="4389480"/>
            <a:ext cx="2959920" cy="1892520"/>
            <a:chOff x="586800" y="4389480"/>
            <a:chExt cx="2959920" cy="1892520"/>
          </a:xfrm>
        </p:grpSpPr>
        <p:sp>
          <p:nvSpPr>
            <p:cNvPr id="224" name=""/>
            <p:cNvSpPr/>
            <p:nvPr/>
          </p:nvSpPr>
          <p:spPr>
            <a:xfrm>
              <a:off x="1539720" y="5422680"/>
              <a:ext cx="217800" cy="217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08120" y="5421240"/>
              <a:ext cx="217440" cy="217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133640" y="5422680"/>
              <a:ext cx="217440" cy="217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089000" y="4836960"/>
              <a:ext cx="217440" cy="217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8" name=""/>
            <p:cNvCxnSpPr>
              <a:stCxn id="227" idx="6"/>
              <a:endCxn id="229" idx="2"/>
            </p:cNvCxnSpPr>
            <p:nvPr/>
          </p:nvCxnSpPr>
          <p:spPr>
            <a:xfrm flipV="1">
              <a:off x="1306080" y="4501800"/>
              <a:ext cx="1816920" cy="44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30" name=""/>
            <p:cNvSpPr/>
            <p:nvPr/>
          </p:nvSpPr>
          <p:spPr>
            <a:xfrm>
              <a:off x="1533600" y="4389480"/>
              <a:ext cx="217440" cy="217440"/>
            </a:xfrm>
            <a:prstGeom prst="ellipse">
              <a:avLst/>
            </a:prstGeom>
            <a:noFill/>
            <a:ln w="1260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122640" y="4392360"/>
              <a:ext cx="217440" cy="2178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86800" y="5876640"/>
              <a:ext cx="144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Component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701440" y="5883120"/>
              <a:ext cx="84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Event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3" name=""/>
            <p:cNvCxnSpPr>
              <a:stCxn id="230" idx="3"/>
              <a:endCxn id="227" idx="7"/>
            </p:cNvCxnSpPr>
            <p:nvPr/>
          </p:nvCxnSpPr>
          <p:spPr>
            <a:xfrm flipH="1">
              <a:off x="1274040" y="4574880"/>
              <a:ext cx="291240" cy="294120"/>
            </a:xfrm>
            <a:prstGeom prst="straightConnector1">
              <a:avLst/>
            </a:prstGeom>
            <a:ln w="12600">
              <a:solidFill>
                <a:srgbClr val="00e4a8"/>
              </a:solidFill>
              <a:miter/>
            </a:ln>
          </p:spPr>
        </p:cxnSp>
        <p:sp>
          <p:nvSpPr>
            <p:cNvPr id="234" name=""/>
            <p:cNvSpPr/>
            <p:nvPr/>
          </p:nvSpPr>
          <p:spPr>
            <a:xfrm>
              <a:off x="1978200" y="4836960"/>
              <a:ext cx="217440" cy="217440"/>
            </a:xfrm>
            <a:prstGeom prst="ellipse">
              <a:avLst/>
            </a:prstGeom>
            <a:noFill/>
            <a:ln w="1260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5" name=""/>
            <p:cNvCxnSpPr>
              <a:stCxn id="234" idx="1"/>
              <a:endCxn id="230" idx="5"/>
            </p:cNvCxnSpPr>
            <p:nvPr/>
          </p:nvCxnSpPr>
          <p:spPr>
            <a:xfrm flipH="1" flipV="1">
              <a:off x="1718640" y="4574520"/>
              <a:ext cx="291240" cy="294120"/>
            </a:xfrm>
            <a:prstGeom prst="straightConnector1">
              <a:avLst/>
            </a:prstGeom>
            <a:ln w="19080">
              <a:solidFill>
                <a:srgbClr val="00e4a8"/>
              </a:solidFill>
              <a:miter/>
            </a:ln>
          </p:spPr>
        </p:cxnSp>
        <p:cxnSp>
          <p:nvCxnSpPr>
            <p:cNvPr id="236" name=""/>
            <p:cNvCxnSpPr>
              <a:stCxn id="227" idx="3"/>
              <a:endCxn id="225" idx="7"/>
            </p:cNvCxnSpPr>
            <p:nvPr/>
          </p:nvCxnSpPr>
          <p:spPr>
            <a:xfrm flipH="1">
              <a:off x="893520" y="5022360"/>
              <a:ext cx="227520" cy="430920"/>
            </a:xfrm>
            <a:prstGeom prst="straightConnector1">
              <a:avLst/>
            </a:prstGeom>
            <a:ln w="19080">
              <a:solidFill>
                <a:srgbClr val="00e4a8"/>
              </a:solidFill>
              <a:miter/>
            </a:ln>
          </p:spPr>
        </p:cxnSp>
        <p:cxnSp>
          <p:nvCxnSpPr>
            <p:cNvPr id="237" name=""/>
            <p:cNvCxnSpPr>
              <a:stCxn id="227" idx="4"/>
              <a:endCxn id="226" idx="0"/>
            </p:cNvCxnSpPr>
            <p:nvPr/>
          </p:nvCxnSpPr>
          <p:spPr>
            <a:xfrm>
              <a:off x="1198440" y="5054040"/>
              <a:ext cx="45360" cy="369000"/>
            </a:xfrm>
            <a:prstGeom prst="straightConnector1">
              <a:avLst/>
            </a:prstGeom>
            <a:ln w="19080">
              <a:solidFill>
                <a:srgbClr val="00e4a8"/>
              </a:solidFill>
              <a:miter/>
            </a:ln>
          </p:spPr>
        </p:cxnSp>
        <p:cxnSp>
          <p:nvCxnSpPr>
            <p:cNvPr id="238" name=""/>
            <p:cNvCxnSpPr>
              <a:stCxn id="227" idx="5"/>
              <a:endCxn id="224" idx="0"/>
            </p:cNvCxnSpPr>
            <p:nvPr/>
          </p:nvCxnSpPr>
          <p:spPr>
            <a:xfrm>
              <a:off x="1274400" y="5022360"/>
              <a:ext cx="375480" cy="400680"/>
            </a:xfrm>
            <a:prstGeom prst="straightConnector1">
              <a:avLst/>
            </a:prstGeom>
            <a:ln w="19080">
              <a:solidFill>
                <a:srgbClr val="00e4a8"/>
              </a:solidFill>
              <a:miter/>
            </a:ln>
          </p:spPr>
        </p:cxnSp>
      </p:grpSp>
      <p:grpSp>
        <p:nvGrpSpPr>
          <p:cNvPr id="239" name=""/>
          <p:cNvGrpSpPr/>
          <p:nvPr/>
        </p:nvGrpSpPr>
        <p:grpSpPr>
          <a:xfrm>
            <a:off x="4899960" y="4427640"/>
            <a:ext cx="3659400" cy="1862640"/>
            <a:chOff x="4899960" y="4427640"/>
            <a:chExt cx="3659400" cy="1862640"/>
          </a:xfrm>
        </p:grpSpPr>
        <p:sp>
          <p:nvSpPr>
            <p:cNvPr id="240" name=""/>
            <p:cNvSpPr/>
            <p:nvPr/>
          </p:nvSpPr>
          <p:spPr>
            <a:xfrm>
              <a:off x="7441920" y="4427640"/>
              <a:ext cx="217080" cy="21744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892640" y="4945320"/>
              <a:ext cx="217440" cy="217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813360" y="4946760"/>
              <a:ext cx="217080" cy="21744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424200" y="5507280"/>
              <a:ext cx="217440" cy="21744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4" name=""/>
            <p:cNvCxnSpPr>
              <a:stCxn id="242" idx="7"/>
              <a:endCxn id="240" idx="3"/>
            </p:cNvCxnSpPr>
            <p:nvPr/>
          </p:nvCxnSpPr>
          <p:spPr>
            <a:xfrm flipV="1">
              <a:off x="6998760" y="4613040"/>
              <a:ext cx="474840" cy="365760"/>
            </a:xfrm>
            <a:prstGeom prst="straightConnector1">
              <a:avLst/>
            </a:prstGeom>
            <a:ln w="19080">
              <a:solidFill>
                <a:srgbClr val="00e4a8"/>
              </a:solidFill>
              <a:miter/>
            </a:ln>
          </p:spPr>
        </p:cxnSp>
        <p:cxnSp>
          <p:nvCxnSpPr>
            <p:cNvPr id="245" name=""/>
            <p:cNvCxnSpPr>
              <a:stCxn id="241" idx="1"/>
              <a:endCxn id="240" idx="5"/>
            </p:cNvCxnSpPr>
            <p:nvPr/>
          </p:nvCxnSpPr>
          <p:spPr>
            <a:xfrm flipH="1" flipV="1">
              <a:off x="7627320" y="4613040"/>
              <a:ext cx="297360" cy="364320"/>
            </a:xfrm>
            <a:prstGeom prst="straightConnector1">
              <a:avLst/>
            </a:prstGeom>
            <a:ln w="19080">
              <a:solidFill>
                <a:srgbClr val="00e4a8"/>
              </a:solidFill>
              <a:miter/>
            </a:ln>
          </p:spPr>
        </p:cxnSp>
        <p:sp>
          <p:nvSpPr>
            <p:cNvPr id="246" name=""/>
            <p:cNvSpPr/>
            <p:nvPr/>
          </p:nvSpPr>
          <p:spPr>
            <a:xfrm>
              <a:off x="7243560" y="5507280"/>
              <a:ext cx="217080" cy="217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497360" y="5507280"/>
              <a:ext cx="217440" cy="217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341920" y="5507280"/>
              <a:ext cx="217440" cy="217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9" name=""/>
            <p:cNvCxnSpPr>
              <a:stCxn id="243" idx="7"/>
              <a:endCxn id="242" idx="3"/>
            </p:cNvCxnSpPr>
            <p:nvPr/>
          </p:nvCxnSpPr>
          <p:spPr>
            <a:xfrm flipV="1">
              <a:off x="6609960" y="5131800"/>
              <a:ext cx="235440" cy="407160"/>
            </a:xfrm>
            <a:prstGeom prst="straightConnector1">
              <a:avLst/>
            </a:prstGeom>
            <a:ln w="19080">
              <a:solidFill>
                <a:srgbClr val="00e4a8"/>
              </a:solidFill>
              <a:miter/>
            </a:ln>
          </p:spPr>
        </p:cxnSp>
        <p:cxnSp>
          <p:nvCxnSpPr>
            <p:cNvPr id="250" name=""/>
            <p:cNvCxnSpPr>
              <a:stCxn id="246" idx="1"/>
              <a:endCxn id="242" idx="5"/>
            </p:cNvCxnSpPr>
            <p:nvPr/>
          </p:nvCxnSpPr>
          <p:spPr>
            <a:xfrm flipH="1" flipV="1">
              <a:off x="6998760" y="5131800"/>
              <a:ext cx="276480" cy="407160"/>
            </a:xfrm>
            <a:prstGeom prst="straightConnector1">
              <a:avLst/>
            </a:prstGeom>
            <a:ln w="19080">
              <a:solidFill>
                <a:srgbClr val="00e4a8"/>
              </a:solidFill>
              <a:miter/>
            </a:ln>
          </p:spPr>
        </p:cxnSp>
        <p:cxnSp>
          <p:nvCxnSpPr>
            <p:cNvPr id="251" name=""/>
            <p:cNvCxnSpPr>
              <a:stCxn id="247" idx="7"/>
              <a:endCxn id="241" idx="3"/>
            </p:cNvCxnSpPr>
            <p:nvPr/>
          </p:nvCxnSpPr>
          <p:spPr>
            <a:xfrm flipV="1">
              <a:off x="7683120" y="5130360"/>
              <a:ext cx="241920" cy="408600"/>
            </a:xfrm>
            <a:prstGeom prst="straightConnector1">
              <a:avLst/>
            </a:prstGeom>
            <a:ln w="19080">
              <a:solidFill>
                <a:srgbClr val="00e4a8"/>
              </a:solidFill>
              <a:miter/>
            </a:ln>
          </p:spPr>
        </p:cxnSp>
        <p:cxnSp>
          <p:nvCxnSpPr>
            <p:cNvPr id="252" name=""/>
            <p:cNvCxnSpPr>
              <a:stCxn id="248" idx="1"/>
              <a:endCxn id="241" idx="5"/>
            </p:cNvCxnSpPr>
            <p:nvPr/>
          </p:nvCxnSpPr>
          <p:spPr>
            <a:xfrm flipH="1" flipV="1">
              <a:off x="8078400" y="5130360"/>
              <a:ext cx="295560" cy="408600"/>
            </a:xfrm>
            <a:prstGeom prst="straightConnector1">
              <a:avLst/>
            </a:prstGeom>
            <a:ln w="19080">
              <a:solidFill>
                <a:srgbClr val="00e4a8"/>
              </a:solidFill>
              <a:miter/>
            </a:ln>
          </p:spPr>
        </p:cxnSp>
        <p:sp>
          <p:nvSpPr>
            <p:cNvPr id="253" name=""/>
            <p:cNvSpPr/>
            <p:nvPr/>
          </p:nvSpPr>
          <p:spPr>
            <a:xfrm>
              <a:off x="5421240" y="5510520"/>
              <a:ext cx="217080" cy="217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4" name=""/>
            <p:cNvCxnSpPr>
              <a:stCxn id="253" idx="6"/>
              <a:endCxn id="243" idx="2"/>
            </p:cNvCxnSpPr>
            <p:nvPr/>
          </p:nvCxnSpPr>
          <p:spPr>
            <a:xfrm flipV="1">
              <a:off x="5638320" y="5616000"/>
              <a:ext cx="78588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5" name=""/>
            <p:cNvSpPr/>
            <p:nvPr/>
          </p:nvSpPr>
          <p:spPr>
            <a:xfrm>
              <a:off x="4899960" y="5884920"/>
              <a:ext cx="144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Component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103160" y="5891400"/>
              <a:ext cx="84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Event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AWT2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C329-F365-4FB9-81C8-90D5DAD87D0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7" name=""/>
          <p:cNvGraphicFramePr/>
          <p:nvPr/>
        </p:nvGraphicFramePr>
        <p:xfrm>
          <a:off x="190440" y="880920"/>
          <a:ext cx="8840880" cy="5924520"/>
        </p:xfrm>
        <a:graphic>
          <a:graphicData uri="http://schemas.openxmlformats.org/drawingml/2006/table">
            <a:tbl>
              <a:tblPr/>
              <a:tblGrid>
                <a:gridCol w="1781280"/>
                <a:gridCol w="614160"/>
                <a:gridCol w="676440"/>
                <a:gridCol w="660240"/>
                <a:gridCol w="614520"/>
                <a:gridCol w="647640"/>
                <a:gridCol w="571680"/>
                <a:gridCol w="631800"/>
                <a:gridCol w="645840"/>
                <a:gridCol w="779760"/>
                <a:gridCol w="615960"/>
                <a:gridCol w="601560"/>
              </a:tblGrid>
              <a:tr h="21650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76320" bIns="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76320" bIns="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djust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76320" bIns="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pon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76320" bIns="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tain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76320" bIns="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c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76320" bIns="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te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76320" bIns="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e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76320" bIns="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u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76320" bIns="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use mo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76320" bIns="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x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76320" bIns="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nd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5960">
                <a:tc>
                  <a:txBody>
                    <a:bodyPr lIns="7632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utt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4000" spc="-1" strike="noStrike">
                          <a:solidFill>
                            <a:srgbClr val="3333cc"/>
                          </a:solidFill>
                          <a:latin typeface="Tahoma"/>
                          <a:ea typeface="Times New Roman"/>
                        </a:rPr>
                        <a:t>•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4280">
                <a:tc>
                  <a:txBody>
                    <a:bodyPr lIns="7632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nv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4280">
                <a:tc>
                  <a:txBody>
                    <a:bodyPr lIns="7632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heckbo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1880">
                <a:tc>
                  <a:txBody>
                    <a:bodyPr lIns="7632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heckbox</a:t>
                      </a:r>
                      <a:br>
                        <a:rPr sz="2400"/>
                      </a:b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enuIte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4280">
                <a:tc>
                  <a:txBody>
                    <a:bodyPr lIns="7632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ho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4280">
                <a:tc>
                  <a:txBody>
                    <a:bodyPr lIns="7632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mpon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4280">
                <a:tc>
                  <a:txBody>
                    <a:bodyPr lIns="7632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ntain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4280">
                <a:tc>
                  <a:txBody>
                    <a:bodyPr lIns="7632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ialo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Componenti – eventi (1/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AWT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9212-1C9D-4851-B05A-C5F69F784BE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9" name=""/>
          <p:cNvGraphicFramePr/>
          <p:nvPr/>
        </p:nvGraphicFramePr>
        <p:xfrm>
          <a:off x="58680" y="901800"/>
          <a:ext cx="9014040" cy="5952960"/>
        </p:xfrm>
        <a:graphic>
          <a:graphicData uri="http://schemas.openxmlformats.org/drawingml/2006/table">
            <a:tbl>
              <a:tblPr/>
              <a:tblGrid>
                <a:gridCol w="2076480"/>
                <a:gridCol w="593640"/>
                <a:gridCol w="654120"/>
                <a:gridCol w="638280"/>
                <a:gridCol w="593640"/>
                <a:gridCol w="625320"/>
                <a:gridCol w="552600"/>
                <a:gridCol w="609480"/>
                <a:gridCol w="623880"/>
                <a:gridCol w="855720"/>
                <a:gridCol w="567000"/>
                <a:gridCol w="623880"/>
              </a:tblGrid>
              <a:tr h="21650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76320" bIns="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76320" bIns="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djust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76320" bIns="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pon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76320" bIns="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tain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76320" bIns="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c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76320" bIns="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te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76320" bIns="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e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76320" bIns="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u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76320" bIns="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use mo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76320" bIns="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x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76320" bIns="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nd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5960">
                <a:tc>
                  <a:txBody>
                    <a:bodyPr lIns="7632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r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4000" spc="-1" strike="noStrike">
                          <a:solidFill>
                            <a:srgbClr val="3333cc"/>
                          </a:solidFill>
                          <a:latin typeface="Tahoma"/>
                          <a:ea typeface="Times New Roman"/>
                        </a:rPr>
                        <a:t>•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4280">
                <a:tc>
                  <a:txBody>
                    <a:bodyPr lIns="7632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ab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4280">
                <a:tc>
                  <a:txBody>
                    <a:bodyPr lIns="7632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4280">
                <a:tc>
                  <a:txBody>
                    <a:bodyPr lIns="7632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enuIte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4280">
                <a:tc>
                  <a:txBody>
                    <a:bodyPr lIns="7632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n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4280">
                <a:tc>
                  <a:txBody>
                    <a:bodyPr lIns="7632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crollb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4280">
                <a:tc>
                  <a:txBody>
                    <a:bodyPr lIns="7632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extAre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4280">
                <a:tc>
                  <a:txBody>
                    <a:bodyPr lIns="7632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extFie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4280">
                <a:tc>
                  <a:txBody>
                    <a:bodyPr lIns="7632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nd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Componenti – eventi (2/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AWT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EC58-578C-4858-B784-26BECD477C3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Stefano Mizzaro</cp:lastModifiedBy>
  <cp:lastPrinted>2000-05-05T17:23:50Z</cp:lastPrinted>
  <dcterms:modified xsi:type="dcterms:W3CDTF">2007-02-15T10:03:38Z</dcterms:modified>
  <cp:revision>1614</cp:revision>
  <dc:subject/>
  <dc:title>Presentazione di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ingua">
    <vt:lpwstr>Italiano</vt:lpwstr>
  </property>
</Properties>
</file>