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91800" y="766800"/>
            <a:ext cx="5116680" cy="38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44640" y="4860720"/>
            <a:ext cx="5209920" cy="4606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9724680"/>
            <a:ext cx="3076560" cy="509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4022640" y="9724680"/>
            <a:ext cx="3076560" cy="509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208F916-5E89-4760-8D1C-D8E75B2D9CC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44640" y="4860720"/>
            <a:ext cx="5209920" cy="4606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ercizio: completare il codice con draw() che invoca toString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44640" y="4860720"/>
            <a:ext cx="5209920" cy="4606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PRESENTAZIONE UML ALLA LAVAGNA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4655-541A-4E04-AD09-78D312EBE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25000" y="3938040"/>
            <a:ext cx="872964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D1E3-1C1B-4B0E-81BE-95817D6E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25000" y="393804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98360" y="393804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E0B1-2AE2-40C5-817F-5D8225A21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76640" y="153828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28640" y="153828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25000" y="393804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76640" y="393804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28640" y="393804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A9DF-B50E-43AB-99F7-68ACA1065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AFC2-ABB7-4CC8-9793-9FD1FBCFE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CE6C0-2190-4AE1-BEC4-E3BE94DD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23CA-3A4C-457E-9E5E-75119D40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8F62-892E-42A0-8E64-28AD2BF6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1C5E-0409-4AE3-9B35-9135283C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4588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93CF-F921-41E4-9A87-D0D5B48D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5000" y="393804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1DBEC-DE11-449E-AE67-9E0830DD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38B6-DC5D-4C57-871F-6DCB6AE5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98360" y="393804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C1BA-D199-4805-8028-7E7B5206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25000" y="3938040"/>
            <a:ext cx="872964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F8CA-A547-40F4-B5DF-A3D1F37B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25000" y="3938040"/>
            <a:ext cx="872964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7EA2-75D9-495A-B6EC-A71212B4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5000" y="393804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98360" y="393804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EA77A-FD28-4724-8295-B0C56104B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176640" y="153828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28640" y="153828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225000" y="393804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176640" y="393804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28640" y="393804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AB46-DB5D-41B2-AD4C-7CFA45E32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7EA1-E7E2-460E-9A6C-A8FDCFCA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AB63-F7EE-4E53-93A8-AA5F21CC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29C4-DB59-41A0-B7FC-D9FD349D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4588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432D-B718-44A8-9C16-DD687B84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5000" y="393804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05EA-90ED-4A41-BF62-2406AEB7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98360" y="393804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0B8E-CA5E-471B-AF48-EB4D1294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5000" y="3938040"/>
            <a:ext cx="872964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E66C-1F03-4949-9C10-3A5BA832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8800" y="1411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1480" y="1411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12640" y="5634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82720" y="5634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8280" y="4906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334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2239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744F-897D-4F2E-AB0A-73C7146B3F05}" type="datetime">
              <a:rPr b="0" lang="it-IT" sz="1400" spc="-1" strike="noStrike">
                <a:solidFill>
                  <a:srgbClr val="000000"/>
                </a:solidFill>
                <a:latin typeface="Tahoma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617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5636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7862-DF09-43D9-9243-B815F3F9756F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0A51-B1E7-4D3B-A596-5B8C638D68C7}" type="datetime">
              <a:rPr b="0" lang="it-IT" sz="1400" spc="-1" strike="noStrike">
                <a:solidFill>
                  <a:srgbClr val="1c1c1c"/>
                </a:solidFill>
                <a:latin typeface="Tahoma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B161-AFC2-4348-9C49-E064FF5AEAD0}" type="slidenum">
              <a:rPr b="0" lang="it-IT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858600"/>
            <a:ext cx="91440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3399"/>
                </a:solidFill>
                <a:latin typeface="Tahoma"/>
              </a:rPr>
              <a:t>La programmazione O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-1440" y="2766600"/>
            <a:ext cx="9144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Tahoma"/>
              </a:rPr>
              <a:t>Stefano Mizzaro</a:t>
            </a:r>
            <a:r>
              <a:rPr b="0" lang="it-IT" sz="2800" spc="-1" strike="noStrike">
                <a:solidFill>
                  <a:srgbClr val="3333cc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partimento di matematica e informatica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Università di Udine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http://www.dimi.uniud.it/mizzaro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izzaro@dimi.uniud.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grammazione, lezione 1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29 novembre 200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Un proble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Duplicazione di cod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Fatica inut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ericolo di incoeren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Soluzione: eredit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Student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eredita da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Person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attributi e metodi (e ne aggiunge, sovrascrive,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O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CE86-B32B-41F7-A0F7-ACD17E3F93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1280" y="822240"/>
            <a:ext cx="3438720" cy="56293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3399"/>
                </a:solidFill>
                <a:latin typeface="Courier New"/>
              </a:rPr>
              <a:t>Persona</a:t>
            </a: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 e </a:t>
            </a:r>
            <a:r>
              <a:rPr b="1" lang="it-IT" sz="4400" spc="-1" strike="noStrike">
                <a:solidFill>
                  <a:srgbClr val="333399"/>
                </a:solidFill>
                <a:latin typeface="Courier New"/>
              </a:rPr>
              <a:t>Studen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3924360" y="2511360"/>
            <a:ext cx="5219640" cy="2959200"/>
          </a:xfrm>
          <a:prstGeom prst="ellipse">
            <a:avLst/>
          </a:prstGeom>
          <a:solidFill>
            <a:srgbClr val="00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46760" y="3208320"/>
            <a:ext cx="3174840" cy="1565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79880" y="4803840"/>
            <a:ext cx="13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c1c1c"/>
                </a:solidFill>
                <a:latin typeface="Times New Roman"/>
              </a:rPr>
              <a:t>Pers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50720" y="3730680"/>
            <a:ext cx="13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tud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78080" y="3448080"/>
            <a:ext cx="850680" cy="8510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O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154A-033B-4128-8AE6-35E7785D1C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… </a:t>
            </a: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e </a:t>
            </a:r>
            <a:r>
              <a:rPr b="1" lang="it-IT" sz="4400" spc="-1" strike="noStrike">
                <a:solidFill>
                  <a:srgbClr val="333399"/>
                </a:solidFill>
                <a:latin typeface="Courier New"/>
              </a:rPr>
              <a:t>Lavorato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409760" y="939960"/>
            <a:ext cx="6321240" cy="562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O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6F65-1265-4304-BE66-E610F59B55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Ereditarietà in Ja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5000" y="1189080"/>
            <a:ext cx="872964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Parola riservata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exte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class Studente </a:t>
            </a:r>
            <a:r>
              <a:rPr b="1" lang="it-IT" sz="3200" spc="-1" strike="noStrike">
                <a:solidFill>
                  <a:srgbClr val="3333cc"/>
                </a:solidFill>
                <a:latin typeface="Courier New"/>
              </a:rPr>
              <a:t>extends Persona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e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Student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ha metodi e attributi di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Perso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N.B. Ereditarietà troppo enfatizzata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O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D811-F810-47CB-BACD-DDA9A4DDEF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50920" y="1071720"/>
            <a:ext cx="8626320" cy="4497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72000" bIns="36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lass Persona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rivate String no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rivate String cogno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rivate Data nascit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ublic void setNome(String nome) { ...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ublic String getNome() { ...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ublic void setNascita( ... ) { ...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ublic int eta() { ...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ublic String toString() { ...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 classe </a:t>
            </a:r>
            <a:r>
              <a:rPr b="1" lang="en-US" sz="4400" spc="-1" strike="noStrike">
                <a:solidFill>
                  <a:srgbClr val="333399"/>
                </a:solidFill>
                <a:latin typeface="Courier New"/>
              </a:rPr>
              <a:t>Perso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5000" y="5483160"/>
            <a:ext cx="87296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a classe come un’altra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O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03E4-BAF0-400D-8F17-739AE8BA03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 classe </a:t>
            </a:r>
            <a:r>
              <a:rPr b="1" lang="en-US" sz="4400" spc="-1" strike="noStrike">
                <a:solidFill>
                  <a:srgbClr val="333399"/>
                </a:solidFill>
                <a:latin typeface="Courier New"/>
              </a:rPr>
              <a:t>Studen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289080" y="1620720"/>
            <a:ext cx="8550000" cy="266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72000" bIns="36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lass Studente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extends Persona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rivate int matricol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ublic int getMatricola() { ...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ublic void setMatricola( ... ) { ...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5000" y="4385880"/>
            <a:ext cx="8729640" cy="17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ltre a quello che c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è i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tuden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, anche quello che c’è i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erso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ma ciò che è privato i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ersona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non è visibile i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tud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O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B5C8-EBA0-49C4-A907-A489E9E63A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5000" y="5327280"/>
            <a:ext cx="872964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o student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è una persona (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 persona potrebbe non essere uno stud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295200" y="1200240"/>
            <a:ext cx="8550360" cy="4131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72000" bIns="36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ersona p1 = new Persona( ...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udente s2 = new Studente( ...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1.setNome("Gin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2.setMatricola(1234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2.setNascita( ...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ystem.out.println(p1.getNome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ystem.out.println(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2.eta()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O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52CF-0BD6-476F-8A7D-72DC7FEE82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indi, l’ereditariet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ＭＳ Ｐゴシック"/>
              </a:rPr>
              <a:t>à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ente a una classe di ereditare da altre classi, evitando duplicazione di cod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ente di vedere un’istanza di una sottoclasse “come se” fosse un’istanza della sopraclas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do uno studente come se fosse una persona (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xtend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J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O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E9E4-7394-496D-966C-C9958E42D0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urier New"/>
              </a:rPr>
              <a:t>instanceo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5000" y="1049400"/>
            <a:ext cx="8729640" cy="50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ore (parola riservata) J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ce se (il valore contenuto in) una variabil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è istanza di una clas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295200" y="2657520"/>
            <a:ext cx="8550360" cy="266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72000" bIns="36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ersona p = new Persona( ...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udente s = new Studente( ...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ystem.out.println(p instanceof Person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ystem.out.println(p instanceof Student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ystem.out.println(s instanceof Student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ystem.out.println(s instanceof Person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0560" y="5300640"/>
            <a:ext cx="3855960" cy="1503720"/>
          </a:xfrm>
          <a:prstGeom prst="rect">
            <a:avLst/>
          </a:prstGeom>
          <a:solidFill>
            <a:srgbClr val="1c1c1c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O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AFC9-B7A5-44AF-A419-ABACA9519F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reditariet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ＭＳ Ｐゴシック"/>
              </a:rPr>
              <a:t>à e </a:t>
            </a:r>
            <a:r>
              <a:rPr b="1" lang="en-US" sz="4400" spc="-1" strike="noStrike">
                <a:solidFill>
                  <a:srgbClr val="333399"/>
                </a:solidFill>
                <a:latin typeface="Courier New"/>
                <a:ea typeface="ＭＳ Ｐゴシック"/>
              </a:rPr>
              <a:t>priva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5000" y="1133640"/>
            <a:ext cx="8729640" cy="49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 eredita tutto (anche attributi e metodi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ma non tutto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è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visibile (solo c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ò che non è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riva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638440"/>
            <a:ext cx="3513240" cy="226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2000" bIns="36000" anchor="t">
            <a:sp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ass A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int getX(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32200" y="2822400"/>
            <a:ext cx="4870440" cy="189432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2000" bIns="36000" anchor="t">
            <a:sp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class B extends A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public void m(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System.out.println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03480" y="4965840"/>
            <a:ext cx="5543640" cy="189432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2000" bIns="36000" anchor="t">
            <a:sp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ass B extends A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void m() {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ystem.out.println(getX()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O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B830-D006-496E-AD98-53EDC0ECAFC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Riassu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5360" y="1538280"/>
            <a:ext cx="8918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Mattoni” (cap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equenza, Selezione, Iterazione (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rray (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ottoprogrammi, metodi (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Ricorsione (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DA (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OO = TDA + scambio msg + eredit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à + polimorfis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DA -&gt; OO, Scambio messaggi (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O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5371-4B7A-4F67-8E1E-30DCE04D88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 sovrascrittura (overriding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5000" y="1154160"/>
            <a:ext cx="87296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 metodo di una sottoclasse p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ovrascrivere un metodo con la stessa firma in una sopraclas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.: visualizziamo anche la matricola di uno studente (e quindi il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a ridefinito/sovrascritto nella sottoclass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295200" y="3301920"/>
            <a:ext cx="8550360" cy="2251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72000" bIns="360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ass Studente extends Persona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 int matricol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 ...//COPIO il toString di Pers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 matricola; // e aggiungo la matricol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8000" y="5656320"/>
            <a:ext cx="872964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ystem.out.println(p2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, co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2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tanza di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uden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visualizza anche la matric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O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2AAA-62DB-4FFA-A0DE-7EA79F208B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vrascrittura e sovraccar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Sovrascrittura: nella sottoclasse posso specializzare il comportame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N.B. Sovrascrittura (</a:t>
            </a:r>
            <a:r>
              <a:rPr b="0" i="1" lang="it-IT" sz="2800" spc="-1" strike="noStrike">
                <a:solidFill>
                  <a:srgbClr val="000000"/>
                </a:solidFill>
                <a:latin typeface="Tahoma"/>
              </a:rPr>
              <a:t>overriding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      sovraccarico (</a:t>
            </a:r>
            <a:r>
              <a:rPr b="0" i="1" lang="it-IT" sz="2800" spc="-1" strike="noStrike">
                <a:solidFill>
                  <a:srgbClr val="000000"/>
                </a:solidFill>
                <a:latin typeface="Tahoma"/>
              </a:rPr>
              <a:t>overloading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ovraccarico: nome =, firme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ovrascrittura: nome =, firme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O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11B4-BF8B-4261-B620-E7EBDF8640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vrascrittura </a:t>
            </a:r>
            <a:r>
              <a:rPr b="0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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Sovraccar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5000" y="1346040"/>
            <a:ext cx="87296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vrascrittura (firme =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ovraccarico (firm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1200240" y="2232000"/>
            <a:ext cx="6737400" cy="408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72000" bIns="360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A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void m1() { ...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void m2() { ...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void m2(.) { ...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void m3() { ...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B extends A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void m1() { ...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void m3(.) { ...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O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A983-0C55-43F9-A79F-5B7B3DCDDD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l </a:t>
            </a:r>
            <a:r>
              <a:rPr b="1" lang="en-US" sz="4400" spc="-1" strike="noStrike">
                <a:solidFill>
                  <a:srgbClr val="333399"/>
                </a:solidFill>
                <a:latin typeface="Courier New"/>
              </a:rPr>
              <a:t>super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1/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5000" y="1037880"/>
            <a:ext cx="8729640" cy="50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plicazione di codice…@#$}[%&amp;&gt;~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 fa riferimento alla sopraclas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empi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3090960"/>
            <a:ext cx="9144000" cy="307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72000" bIns="36000"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ass Studente extends Persona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 int matricol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uper.toString() // chiamo toString di Pers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 matricola;    // E aggiungo la matricol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O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ED9C-F257-400C-9192-1F84F707E36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l </a:t>
            </a:r>
            <a:r>
              <a:rPr b="1" lang="en-US" sz="4400" spc="-1" strike="noStrike">
                <a:solidFill>
                  <a:srgbClr val="333399"/>
                </a:solidFill>
                <a:latin typeface="Courier New"/>
              </a:rPr>
              <a:t>super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2/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el costrut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ublic B() 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uper(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...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 costruttore di defa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B() { super(); 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riferimento alla sopraclasse) simile al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riferimento alla clas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O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2F84-3B60-4A0E-AC7D-917722F2AC0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lazioni fra classi (1/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5000" y="1057320"/>
            <a:ext cx="87296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-u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is-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zione  fra sopraclassi e sottoclas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 trapezio è un quadrilatero, ch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n poligono, ch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è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 figura geometrica bidimensionale, ch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na figura geometrica; l'automobile è un veicolo, ecc. ecc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a relazione che corrisponde all'ered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rte-d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part-of, o has-a, o ha-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zione fra un oggetto e le sue componen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 punto è una parte del cerchio (è il suo centro); il pistone è parte del motore, che è parte dell'automob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zione che corrisponde all'operazione di composizio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zione fra le classi che implementano TDA e le classi che li usano: classi di pro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O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C17C-E057-401F-B39C-5CB740039AF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lazioni fra classi (2/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stanza-d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instance-of, membro-di, member-of)]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zione fra una classe e i suoi elementi (istanze, oggetti, esemplari), o fra un insieme e i suoi element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 cerchi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è un'istanza della clas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erchi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 la mia automobile è un'istanza della classe delle automobili; ec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pure (?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erchio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è-u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n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cerchio = punto + raggi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uden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te-di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erson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oString(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udent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c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oString(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erson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 visualizzare la “parte dello studente che è una persona”)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on senso, “regola del sottoinsieme”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O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401D-C8EB-41CC-B04B-D07E6265E46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alet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999999"/>
                </a:solidFill>
                <a:latin typeface="Tahoma"/>
              </a:rPr>
              <a:t>Esemp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999999"/>
                </a:solidFill>
                <a:latin typeface="Tahoma"/>
              </a:rPr>
              <a:t>Ereditariet</a:t>
            </a:r>
            <a:r>
              <a:rPr b="0" lang="it-IT" sz="3200" spc="-1" strike="noStrike">
                <a:solidFill>
                  <a:srgbClr val="999999"/>
                </a:solidFill>
                <a:latin typeface="Tahoma"/>
                <a:ea typeface="ＭＳ Ｐゴシック"/>
              </a:rPr>
              <a:t>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olimorfis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O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E81F-0DA0-4BF8-95F5-823315C6CF4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01520" y="5143680"/>
            <a:ext cx="3936960" cy="97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limorfismo (1/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8796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rogramma di graf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truttura dati per tutte le fig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anti array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comodo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4356000" y="2629080"/>
            <a:ext cx="4788000" cy="3262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Punto[] punt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Cerchio[] cerch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if (x instanceof Pun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punti[i] = 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else if (x instanceof Cerch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cerchi[i] = 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else if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for (int i = ...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punti[i].draw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cerchi[i].draw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4578120" y="1201680"/>
            <a:ext cx="3803400" cy="4924440"/>
          </a:xfrm>
          <a:prstGeom prst="line">
            <a:avLst/>
          </a:prstGeom>
          <a:ln w="15228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75040" y="1398600"/>
            <a:ext cx="3803760" cy="4924440"/>
          </a:xfrm>
          <a:prstGeom prst="line">
            <a:avLst/>
          </a:prstGeom>
          <a:ln w="15228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01520" y="5192640"/>
            <a:ext cx="4038840" cy="838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O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E82C-03E6-46E2-85D1-F05FDA53E37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limorfismo (2/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8796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È più comodo </a:t>
            </a:r>
            <a:r>
              <a:rPr b="0" lang="it-IT" sz="2800" spc="-1" strike="noStrike">
                <a:solidFill>
                  <a:srgbClr val="0000ff"/>
                </a:solidFill>
                <a:latin typeface="Tahoma"/>
              </a:rPr>
              <a:t>parlare alla classe bas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i può far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2616120" y="4654440"/>
            <a:ext cx="6527880" cy="1555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Figura[] figure = new Figura[100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figure[i] = new Punt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figure[j] = new Cerchi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for (int k =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figure[k].draw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495600" y="1044720"/>
            <a:ext cx="5648400" cy="316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O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F743-E8BD-47A5-80E7-D9C3E2EA9BE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Ogg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5000" y="1327320"/>
            <a:ext cx="872964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Esemp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Ereditarie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olimorfis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O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2D65-848E-4146-84BF-2E5D143202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Perché il polimorfismo funzio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N.B. Polimorfismo va combinato con (dipende da, è basato su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eredità (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Figur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è sopraclasse) 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ovrascrittura (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draw(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è sovrascritt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Manigl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Le variabili non contengono gli ogget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Le variabili contengono il riferimento (la maniglia) agli ogget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O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C4FF-F21B-460F-9A74-E157C1392DE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Le manigli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68720" y="2009880"/>
            <a:ext cx="3167640" cy="3763800"/>
            <a:chOff x="468720" y="2009880"/>
            <a:chExt cx="3167640" cy="3763800"/>
          </a:xfrm>
        </p:grpSpPr>
        <p:sp>
          <p:nvSpPr>
            <p:cNvPr id="198" name=""/>
            <p:cNvSpPr/>
            <p:nvPr/>
          </p:nvSpPr>
          <p:spPr>
            <a:xfrm>
              <a:off x="468720" y="5253120"/>
              <a:ext cx="316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Courier New"/>
                </a:rPr>
                <a:t>A a = new A()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447920" y="3824280"/>
              <a:ext cx="825480" cy="8733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9" idx="0"/>
              <a:endCxn id="201" idx="2"/>
            </p:cNvCxnSpPr>
            <p:nvPr/>
          </p:nvCxnSpPr>
          <p:spPr>
            <a:xfrm flipH="1" flipV="1">
              <a:off x="1098360" y="3060000"/>
              <a:ext cx="762480" cy="7642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2" name=""/>
            <p:cNvSpPr/>
            <p:nvPr/>
          </p:nvSpPr>
          <p:spPr>
            <a:xfrm>
              <a:off x="1199880" y="3508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23880" y="4038840"/>
              <a:ext cx="78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1c1c1c"/>
                  </a:solidFill>
                  <a:latin typeface="Courier New"/>
                </a:rPr>
                <a:t>m(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596880" y="2009880"/>
              <a:ext cx="1003320" cy="1050840"/>
              <a:chOff x="596880" y="2009880"/>
              <a:chExt cx="1003320" cy="1050840"/>
            </a:xfrm>
          </p:grpSpPr>
          <p:sp>
            <p:nvSpPr>
              <p:cNvPr id="201" name=""/>
              <p:cNvSpPr/>
              <p:nvPr/>
            </p:nvSpPr>
            <p:spPr>
              <a:xfrm>
                <a:off x="596880" y="2048040"/>
                <a:ext cx="1003320" cy="10126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87040" y="200988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1c1c1c"/>
                    </a:solidFill>
                    <a:latin typeface="Courier New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23960" y="2426040"/>
                <a:ext cx="78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1c1c1c"/>
                    </a:solidFill>
                    <a:latin typeface="Courier New"/>
                  </a:rPr>
                  <a:t>m(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7" name=""/>
          <p:cNvGrpSpPr/>
          <p:nvPr/>
        </p:nvGrpSpPr>
        <p:grpSpPr>
          <a:xfrm>
            <a:off x="495360" y="1305000"/>
            <a:ext cx="8657640" cy="4867200"/>
            <a:chOff x="495360" y="1305000"/>
            <a:chExt cx="8657640" cy="4867200"/>
          </a:xfrm>
        </p:grpSpPr>
        <p:grpSp>
          <p:nvGrpSpPr>
            <p:cNvPr id="208" name=""/>
            <p:cNvGrpSpPr/>
            <p:nvPr/>
          </p:nvGrpSpPr>
          <p:grpSpPr>
            <a:xfrm>
              <a:off x="495360" y="1305000"/>
              <a:ext cx="4330800" cy="3949560"/>
              <a:chOff x="495360" y="1305000"/>
              <a:chExt cx="4330800" cy="3949560"/>
            </a:xfrm>
          </p:grpSpPr>
          <p:sp>
            <p:nvSpPr>
              <p:cNvPr id="209" name=""/>
              <p:cNvSpPr/>
              <p:nvPr/>
            </p:nvSpPr>
            <p:spPr>
              <a:xfrm flipH="1">
                <a:off x="495360" y="1305000"/>
                <a:ext cx="2934000" cy="3797280"/>
              </a:xfrm>
              <a:prstGeom prst="line">
                <a:avLst/>
              </a:prstGeom>
              <a:ln w="1522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48000" y="1457280"/>
                <a:ext cx="2933640" cy="3797280"/>
              </a:xfrm>
              <a:prstGeom prst="line">
                <a:avLst/>
              </a:prstGeom>
              <a:ln w="1522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403800" y="3387600"/>
                <a:ext cx="1422360" cy="0"/>
              </a:xfrm>
              <a:prstGeom prst="line">
                <a:avLst/>
              </a:prstGeom>
              <a:ln w="15228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4862520" y="1692360"/>
              <a:ext cx="4290480" cy="4479840"/>
              <a:chOff x="4862520" y="1692360"/>
              <a:chExt cx="4290480" cy="4479840"/>
            </a:xfrm>
          </p:grpSpPr>
          <p:sp>
            <p:nvSpPr>
              <p:cNvPr id="213" name=""/>
              <p:cNvSpPr/>
              <p:nvPr/>
            </p:nvSpPr>
            <p:spPr>
              <a:xfrm>
                <a:off x="7651800" y="3673440"/>
                <a:ext cx="1003320" cy="101304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492880" y="3291120"/>
                <a:ext cx="825480" cy="8730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15" name=""/>
              <p:cNvCxnSpPr>
                <a:stCxn id="214" idx="0"/>
                <a:endCxn id="216" idx="2"/>
              </p:cNvCxnSpPr>
              <p:nvPr/>
            </p:nvCxnSpPr>
            <p:spPr>
              <a:xfrm flipH="1" flipV="1">
                <a:off x="5363640" y="2742840"/>
                <a:ext cx="541800" cy="54864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217" name=""/>
              <p:cNvSpPr/>
              <p:nvPr/>
            </p:nvSpPr>
            <p:spPr>
              <a:xfrm>
                <a:off x="5245200" y="2975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817040" y="4165560"/>
                <a:ext cx="78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1c1c1c"/>
                    </a:solidFill>
                    <a:latin typeface="Courier New"/>
                  </a:rPr>
                  <a:t>m(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954920" y="37371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1c1c1c"/>
                    </a:solidFill>
                    <a:latin typeface="Courier New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20" name=""/>
              <p:cNvCxnSpPr>
                <a:stCxn id="214" idx="6"/>
                <a:endCxn id="213" idx="1"/>
              </p:cNvCxnSpPr>
              <p:nvPr/>
            </p:nvCxnSpPr>
            <p:spPr>
              <a:xfrm>
                <a:off x="6318360" y="3727080"/>
                <a:ext cx="1334160" cy="453240"/>
              </a:xfrm>
              <a:prstGeom prst="curvedConnector5">
                <a:avLst>
                  <a:gd name="adj1" fmla="val 49986"/>
                  <a:gd name="adj2" fmla="val 50000"/>
                  <a:gd name="adj3" fmla="val 49986"/>
                </a:avLst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</p:cxnSp>
          <p:grpSp>
            <p:nvGrpSpPr>
              <p:cNvPr id="221" name=""/>
              <p:cNvGrpSpPr/>
              <p:nvPr/>
            </p:nvGrpSpPr>
            <p:grpSpPr>
              <a:xfrm>
                <a:off x="4862520" y="1692360"/>
                <a:ext cx="1003320" cy="1050480"/>
                <a:chOff x="4862520" y="1692360"/>
                <a:chExt cx="1003320" cy="10504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4862520" y="1730160"/>
                  <a:ext cx="1003320" cy="1012680"/>
                </a:xfrm>
                <a:prstGeom prst="rect">
                  <a:avLst/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153040" y="1692360"/>
                  <a:ext cx="363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400" spc="-1" strike="noStrike">
                      <a:solidFill>
                        <a:srgbClr val="1c1c1c"/>
                      </a:solidFill>
                      <a:latin typeface="Courier New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4983120" y="2120760"/>
                  <a:ext cx="787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343080" indent="-343080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400" spc="-1" strike="noStrike">
                      <a:solidFill>
                        <a:srgbClr val="1c1c1c"/>
                      </a:solidFill>
                      <a:latin typeface="Courier New"/>
                    </a:rPr>
                    <a:t>m(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4" name=""/>
              <p:cNvSpPr/>
              <p:nvPr/>
            </p:nvSpPr>
            <p:spPr>
              <a:xfrm>
                <a:off x="6845400" y="1955880"/>
                <a:ext cx="236520" cy="4216320"/>
              </a:xfrm>
              <a:custGeom>
                <a:avLst/>
                <a:gdLst/>
                <a:ahLst/>
                <a:rect l="l" t="t" r="r" b="b"/>
                <a:pathLst>
                  <a:path w="125" h="2056">
                    <a:moveTo>
                      <a:pt x="48" y="0"/>
                    </a:moveTo>
                    <a:cubicBezTo>
                      <a:pt x="85" y="55"/>
                      <a:pt x="74" y="30"/>
                      <a:pt x="88" y="72"/>
                    </a:cubicBezTo>
                    <a:cubicBezTo>
                      <a:pt x="80" y="96"/>
                      <a:pt x="78" y="123"/>
                      <a:pt x="64" y="144"/>
                    </a:cubicBezTo>
                    <a:cubicBezTo>
                      <a:pt x="43" y="175"/>
                      <a:pt x="51" y="159"/>
                      <a:pt x="40" y="192"/>
                    </a:cubicBezTo>
                    <a:cubicBezTo>
                      <a:pt x="46" y="236"/>
                      <a:pt x="49" y="296"/>
                      <a:pt x="96" y="312"/>
                    </a:cubicBezTo>
                    <a:cubicBezTo>
                      <a:pt x="101" y="328"/>
                      <a:pt x="121" y="346"/>
                      <a:pt x="112" y="360"/>
                    </a:cubicBezTo>
                    <a:cubicBezTo>
                      <a:pt x="85" y="401"/>
                      <a:pt x="65" y="445"/>
                      <a:pt x="24" y="472"/>
                    </a:cubicBezTo>
                    <a:cubicBezTo>
                      <a:pt x="31" y="545"/>
                      <a:pt x="18" y="564"/>
                      <a:pt x="72" y="600"/>
                    </a:cubicBezTo>
                    <a:cubicBezTo>
                      <a:pt x="81" y="626"/>
                      <a:pt x="112" y="672"/>
                      <a:pt x="112" y="672"/>
                    </a:cubicBezTo>
                    <a:cubicBezTo>
                      <a:pt x="106" y="758"/>
                      <a:pt x="125" y="784"/>
                      <a:pt x="64" y="824"/>
                    </a:cubicBezTo>
                    <a:cubicBezTo>
                      <a:pt x="27" y="879"/>
                      <a:pt x="38" y="854"/>
                      <a:pt x="24" y="896"/>
                    </a:cubicBezTo>
                    <a:cubicBezTo>
                      <a:pt x="29" y="961"/>
                      <a:pt x="14" y="999"/>
                      <a:pt x="64" y="1032"/>
                    </a:cubicBezTo>
                    <a:cubicBezTo>
                      <a:pt x="72" y="1056"/>
                      <a:pt x="80" y="1080"/>
                      <a:pt x="88" y="1104"/>
                    </a:cubicBezTo>
                    <a:cubicBezTo>
                      <a:pt x="91" y="1112"/>
                      <a:pt x="96" y="1128"/>
                      <a:pt x="96" y="1128"/>
                    </a:cubicBezTo>
                    <a:cubicBezTo>
                      <a:pt x="86" y="1226"/>
                      <a:pt x="85" y="1225"/>
                      <a:pt x="32" y="1304"/>
                    </a:cubicBezTo>
                    <a:cubicBezTo>
                      <a:pt x="32" y="1304"/>
                      <a:pt x="12" y="1364"/>
                      <a:pt x="8" y="1376"/>
                    </a:cubicBezTo>
                    <a:cubicBezTo>
                      <a:pt x="5" y="1384"/>
                      <a:pt x="0" y="1400"/>
                      <a:pt x="0" y="1400"/>
                    </a:cubicBezTo>
                    <a:cubicBezTo>
                      <a:pt x="10" y="1439"/>
                      <a:pt x="30" y="1469"/>
                      <a:pt x="48" y="1504"/>
                    </a:cubicBezTo>
                    <a:cubicBezTo>
                      <a:pt x="64" y="1536"/>
                      <a:pt x="76" y="1570"/>
                      <a:pt x="96" y="1600"/>
                    </a:cubicBezTo>
                    <a:cubicBezTo>
                      <a:pt x="88" y="1699"/>
                      <a:pt x="98" y="1711"/>
                      <a:pt x="48" y="1776"/>
                    </a:cubicBezTo>
                    <a:cubicBezTo>
                      <a:pt x="36" y="1791"/>
                      <a:pt x="27" y="1808"/>
                      <a:pt x="16" y="1824"/>
                    </a:cubicBezTo>
                    <a:cubicBezTo>
                      <a:pt x="7" y="1838"/>
                      <a:pt x="0" y="1872"/>
                      <a:pt x="0" y="1872"/>
                    </a:cubicBezTo>
                    <a:cubicBezTo>
                      <a:pt x="4" y="1900"/>
                      <a:pt x="0" y="1931"/>
                      <a:pt x="24" y="1952"/>
                    </a:cubicBezTo>
                    <a:cubicBezTo>
                      <a:pt x="38" y="1965"/>
                      <a:pt x="56" y="1973"/>
                      <a:pt x="72" y="1984"/>
                    </a:cubicBezTo>
                    <a:cubicBezTo>
                      <a:pt x="80" y="1989"/>
                      <a:pt x="96" y="2000"/>
                      <a:pt x="96" y="2000"/>
                    </a:cubicBezTo>
                    <a:cubicBezTo>
                      <a:pt x="102" y="2018"/>
                      <a:pt x="120" y="2039"/>
                      <a:pt x="120" y="2056"/>
                    </a:cubicBezTo>
                  </a:path>
                </a:pathLst>
              </a:custGeom>
              <a:noFill/>
              <a:ln w="2844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604120" y="4867200"/>
                <a:ext cx="910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800" spc="-1" strike="noStrike">
                    <a:solidFill>
                      <a:srgbClr val="3333cc"/>
                    </a:solidFill>
                    <a:latin typeface="Times New Roman"/>
                  </a:rPr>
                  <a:t>stac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757280" y="4892760"/>
                <a:ext cx="851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800" spc="-1" strike="noStrike">
                    <a:solidFill>
                      <a:srgbClr val="3333cc"/>
                    </a:solidFill>
                    <a:latin typeface="Times New Roman"/>
                  </a:rPr>
                  <a:t>hea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985360" y="5430960"/>
                <a:ext cx="316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800" spc="-1" strike="noStrike">
                    <a:solidFill>
                      <a:srgbClr val="000000"/>
                    </a:solidFill>
                    <a:latin typeface="Courier New"/>
                  </a:rPr>
                  <a:t>A a = new A();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O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A448-4E20-4BE8-A077-300AEE8C293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Maniglie ed eredità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4921200" y="2317680"/>
            <a:ext cx="1003320" cy="10130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98720" y="1298520"/>
            <a:ext cx="1002960" cy="10130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13040" y="2830680"/>
            <a:ext cx="825480" cy="8730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1"/>
            <a:endCxn id="230" idx="2"/>
          </p:cNvCxnSpPr>
          <p:nvPr/>
        </p:nvCxnSpPr>
        <p:spPr>
          <a:xfrm flipH="1" flipV="1">
            <a:off x="1599840" y="2310840"/>
            <a:ext cx="1334160" cy="648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33" name=""/>
          <p:cNvSpPr/>
          <p:nvPr/>
        </p:nvSpPr>
        <p:spPr>
          <a:xfrm>
            <a:off x="2958840" y="2476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388880" y="1260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c1c1c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86440" y="280980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c1c1c"/>
                </a:solidFill>
                <a:latin typeface="Courier New"/>
              </a:rPr>
              <a:t>m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24320" y="2381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c1c1c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1" idx="6"/>
            <a:endCxn id="229" idx="1"/>
          </p:cNvCxnSpPr>
          <p:nvPr/>
        </p:nvCxnSpPr>
        <p:spPr>
          <a:xfrm flipV="1">
            <a:off x="3638160" y="2823840"/>
            <a:ext cx="1283400" cy="443520"/>
          </a:xfrm>
          <a:prstGeom prst="curvedConnector5">
            <a:avLst>
              <a:gd name="adj1" fmla="val 50000"/>
              <a:gd name="adj2" fmla="val 49959"/>
              <a:gd name="adj3" fmla="val 50000"/>
            </a:avLst>
          </a:prstGeom>
          <a:ln w="28440">
            <a:solidFill>
              <a:srgbClr val="00e4a8"/>
            </a:solidFill>
            <a:miter/>
            <a:tailEnd len="med" type="triangle" w="med"/>
          </a:ln>
        </p:spPr>
      </p:cxnSp>
      <p:sp>
        <p:nvSpPr>
          <p:cNvPr id="238" name=""/>
          <p:cNvSpPr/>
          <p:nvPr/>
        </p:nvSpPr>
        <p:spPr>
          <a:xfrm>
            <a:off x="1219320" y="168912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c1c1c"/>
                </a:solidFill>
                <a:latin typeface="Courier New"/>
              </a:rPr>
              <a:t>m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959360" y="4460760"/>
            <a:ext cx="1003320" cy="101304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085760" y="3165480"/>
            <a:ext cx="1003320" cy="101268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940120" y="4941720"/>
            <a:ext cx="825480" cy="87336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0" idx="2"/>
          </p:cNvCxnSpPr>
          <p:nvPr/>
        </p:nvCxnSpPr>
        <p:spPr>
          <a:xfrm flipH="1" flipV="1">
            <a:off x="1587240" y="4177440"/>
            <a:ext cx="1473840" cy="893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3" name=""/>
          <p:cNvSpPr/>
          <p:nvPr/>
        </p:nvSpPr>
        <p:spPr>
          <a:xfrm>
            <a:off x="2933640" y="4587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76280" y="3127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c1c1c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124600" y="495288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c1c1c"/>
                </a:solidFill>
                <a:latin typeface="Courier New"/>
              </a:rPr>
              <a:t>m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62480" y="4524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c1c1c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41" idx="6"/>
            <a:endCxn id="239" idx="1"/>
          </p:cNvCxnSpPr>
          <p:nvPr/>
        </p:nvCxnSpPr>
        <p:spPr>
          <a:xfrm flipV="1">
            <a:off x="3765600" y="4966920"/>
            <a:ext cx="1194480" cy="411840"/>
          </a:xfrm>
          <a:prstGeom prst="curvedConnector5">
            <a:avLst>
              <a:gd name="adj1" fmla="val 49984"/>
              <a:gd name="adj2" fmla="val 49956"/>
              <a:gd name="adj3" fmla="val 49984"/>
            </a:avLst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248" name=""/>
          <p:cNvSpPr/>
          <p:nvPr/>
        </p:nvSpPr>
        <p:spPr>
          <a:xfrm>
            <a:off x="1206360" y="3556080"/>
            <a:ext cx="7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c1c1c"/>
                </a:solidFill>
                <a:latin typeface="Courier New"/>
              </a:rPr>
              <a:t>m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0" idx="0"/>
            <a:endCxn id="230" idx="2"/>
          </p:cNvCxnSpPr>
          <p:nvPr/>
        </p:nvCxnSpPr>
        <p:spPr>
          <a:xfrm flipV="1">
            <a:off x="1587240" y="2311200"/>
            <a:ext cx="13320" cy="854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50" name=""/>
          <p:cNvSpPr/>
          <p:nvPr/>
        </p:nvSpPr>
        <p:spPr>
          <a:xfrm>
            <a:off x="6147000" y="2438280"/>
            <a:ext cx="27410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A a = new A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a.m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405840" y="4626000"/>
            <a:ext cx="27410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B b = new B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b.m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3638160" y="3266640"/>
            <a:ext cx="5113800" cy="3313800"/>
            <a:chOff x="3638160" y="3266640"/>
            <a:chExt cx="5113800" cy="3313800"/>
          </a:xfrm>
        </p:grpSpPr>
        <p:cxnSp>
          <p:nvCxnSpPr>
            <p:cNvPr id="253" name=""/>
            <p:cNvCxnSpPr/>
            <p:nvPr/>
          </p:nvCxnSpPr>
          <p:spPr>
            <a:xfrm>
              <a:off x="3638160" y="3266640"/>
              <a:ext cx="1321200" cy="1701000"/>
            </a:xfrm>
            <a:prstGeom prst="curvedConnector5">
              <a:avLst>
                <a:gd name="adj1" fmla="val 49986"/>
                <a:gd name="adj2" fmla="val 50000"/>
                <a:gd name="adj3" fmla="val 49986"/>
              </a:avLst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4781520" y="5678640"/>
              <a:ext cx="2739960" cy="9018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0000"/>
                  </a:solidFill>
                  <a:latin typeface="Courier New"/>
                </a:rPr>
                <a:t>A a = new B(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0000"/>
                  </a:solidFill>
                  <a:latin typeface="Courier New"/>
                </a:rPr>
                <a:t>a.m(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473960" y="5673600"/>
              <a:ext cx="1278000" cy="4597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0000"/>
                  </a:solidFill>
                  <a:latin typeface="Courier New"/>
                </a:rPr>
                <a:t>a = b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O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BAE4-9D7E-4F26-8F9D-777E2E5F370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Terminolog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Late binding, run-time bi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(durante l’esecuzi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Non early binding, compile-time bi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(durante la compilazi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Dynamic method look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Sovrascrittura, sovraccar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Eckel: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“If it isn’t late binding, it isn’t poliymorphism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O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EC21-04A8-49B5-9180-FE3E4C79FB7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Il codice Ja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4 + 1 clas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Punto.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Cerchio.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Figura.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(Linea.jav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UsaFigura.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4570560" y="2398680"/>
            <a:ext cx="4573440" cy="256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O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3BEB-C2CD-49DA-9EA9-4F024113D9B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04400" y="245880"/>
            <a:ext cx="81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333399"/>
                </a:solidFill>
                <a:latin typeface="Courier New"/>
              </a:rPr>
              <a:t>Punto.java, Cerchio.java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925560" y="1298520"/>
            <a:ext cx="7289640" cy="4530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class Punto </a:t>
            </a:r>
            <a:r>
              <a:rPr b="1" lang="it-IT" sz="2800" spc="-1" strike="noStrike">
                <a:solidFill>
                  <a:srgbClr val="0000ff"/>
                </a:solidFill>
                <a:latin typeface="Courier New"/>
              </a:rPr>
              <a:t>extends Figura</a:t>
            </a: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//tutto come p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public void draw(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class Cerchio </a:t>
            </a:r>
            <a:r>
              <a:rPr b="1" lang="it-IT" sz="2800" spc="-1" strike="noStrike">
                <a:solidFill>
                  <a:srgbClr val="0000ff"/>
                </a:solidFill>
                <a:latin typeface="Courier New"/>
              </a:rPr>
              <a:t>extends Figura</a:t>
            </a: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//tutto come p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public void draw(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O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4378-C512-4D6C-B1B1-26F93AE5780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3399"/>
                </a:solidFill>
                <a:latin typeface="Courier New"/>
              </a:rPr>
              <a:t>Figura.ja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Una figura generica non sa disegnarsi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1255680" y="2817720"/>
            <a:ext cx="6629400" cy="1263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Courier New"/>
              </a:rPr>
              <a:t>class Figura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3200" spc="-1" strike="noStrike">
                <a:solidFill>
                  <a:srgbClr val="333399"/>
                </a:solidFill>
                <a:latin typeface="Courier New"/>
              </a:rPr>
              <a:t>public void draw() 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338880" y="3122640"/>
            <a:ext cx="990720" cy="6224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O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06AA-4B9D-48C0-A2E1-45BF5E8CECC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3399"/>
                </a:solidFill>
                <a:latin typeface="Courier New"/>
              </a:rPr>
              <a:t>UsaFigura.ja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163440" y="1781280"/>
            <a:ext cx="8813880" cy="3309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class UsaFigura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static void main (String[] args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Figura[] figure = new Figure[4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figure[0] = new Punt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figure[1] = new Cerchi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figure[2] = new Punt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figure[3] = new Cerchi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for (int i =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figure[i].draw(); // Il draw() "in basso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O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2988-4893-46FD-A436-F4D91B7AEAA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Esercizio: cosa visualizza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243000" y="914400"/>
            <a:ext cx="8669160" cy="5594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72000" bIns="36000" anchor="t">
            <a:spAutoFit/>
          </a:bodyPr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class A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void m(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ystem.out.println("A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class B extends A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void m(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ystem.out.println("B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class P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static void main (String[] args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A a = new A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B b = new B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a.m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b.m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a =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a.m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67200" y="4959360"/>
            <a:ext cx="4191120" cy="1503720"/>
          </a:xfrm>
          <a:prstGeom prst="rect">
            <a:avLst/>
          </a:prstGeom>
          <a:solidFill>
            <a:srgbClr val="1c1c1c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urier New"/>
              </a:rPr>
              <a:t>&gt;java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O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D0BB-EA4F-42CD-9A73-A3490DE8E19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Riassumendo: cos’è la OOP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D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capsulamento, interfaccia, implementa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mposizione, u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cambio messagg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ggetti attivi che si “parlano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etodi/attributi d’istanza e di clas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Ereditariet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stensione, sovrascrittura, sottotipo,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extend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 relazioni fra classi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olimorfis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aniglie, late binding, “talk to the base clas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O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84EE-7EC9-4E7B-AB23-2C5148500F5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emp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unt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erchio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Quadrat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con approccio O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diamo il cod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are a eseguirlo, modificarlo, ec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gionare su classi, istanze, stack, 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O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0703-6605-4260-B27B-80CBBD4857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Riassu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Ereditarietà (cenn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Polimorfismo (cenn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Prossima lezi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Riassu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Eserciz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Info su provet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Info su autovalutazi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Prossimam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OO in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O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FE90-6744-457E-86E4-455C3485594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urier New"/>
              </a:rPr>
              <a:t>Punto.java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(OO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1071720"/>
            <a:ext cx="8626320" cy="529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72000" bIns="36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class Punto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private double x; private double 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public Punto() {this(0,0)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public Punto(double x, double y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this.x = x; this.y = 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public void set(double x, double y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this.x = x; this.y = y;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public void setX(double x) { this.x = x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public void setY(double y) { this.y = y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public double getX() { return x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public double getY() { return y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public String toString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return "(" + x + ", " + y + ")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O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13C9-3723-4E16-9DB9-447D82D661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urier New"/>
              </a:rPr>
              <a:t>Cerchio.java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(OO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928800"/>
            <a:ext cx="8626320" cy="5901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72000" bIns="36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class Cerchio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private Punto centro; private double raggi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public Cerchio() {this(new Punto(),0)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public Cerchio(double x, double y, double r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this(new Punto(x,y),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public Cerchio(Punto c, double r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centro = 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raggio = 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public void setCentro(Punto c) {centro = c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public void setRaggio(double r) {raggio = r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public Punto getCentro() {return centro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public double getRaggio() {return raggio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public String toString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return "cerchio: centro " + getCentro() 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" raggio " + getRaggio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O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9426-00B6-4DF4-A69B-6A3BC55325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urier New"/>
              </a:rPr>
              <a:t>Grafica.java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(OO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928800"/>
            <a:ext cx="8626320" cy="529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72000" bIns="36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class Grafica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public static void main (String[] args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Punto p1 = new Punto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Punto p2 = new Punto(1,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Cerchio c1 = new Cerchio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ystem.out.println(c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Cerchio c2 = new Cerchio(p1,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ystem.out.println(c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p2.set(1.2,3.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c1.setCentro(new Punto(12,12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ystem.out.println(c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ystem.out.println(c1.getCentro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ystem.out.println((c1.getCentro()).getX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Cerchio c3 = new Cerchio(p2,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ystem.out.println(c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O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B25B-BC65-4643-8732-8546908396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alet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999999"/>
                </a:solidFill>
                <a:latin typeface="Tahoma"/>
              </a:rPr>
              <a:t>Esemp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Ereditarie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999999"/>
                </a:solidFill>
                <a:latin typeface="Tahoma"/>
                <a:ea typeface="ＭＳ Ｐゴシック"/>
              </a:rPr>
              <a:t>Polimorfis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O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9B0F-C89E-4DA1-B526-4E3BD575F5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Terzo ingrediente: ereditarietà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8796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La classe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Person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390920" y="1538280"/>
            <a:ext cx="45640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e la classe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Stud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47560" y="2395440"/>
            <a:ext cx="3695760" cy="3151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888080" y="2367000"/>
            <a:ext cx="3632040" cy="419112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4570560" y="2894040"/>
            <a:ext cx="4214520" cy="2851200"/>
            <a:chOff x="4570560" y="2894040"/>
            <a:chExt cx="4214520" cy="2851200"/>
          </a:xfrm>
        </p:grpSpPr>
        <p:sp>
          <p:nvSpPr>
            <p:cNvPr id="128" name=""/>
            <p:cNvSpPr/>
            <p:nvPr/>
          </p:nvSpPr>
          <p:spPr>
            <a:xfrm>
              <a:off x="4570560" y="2894040"/>
              <a:ext cx="4214520" cy="11523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70560" y="4564080"/>
              <a:ext cx="4011480" cy="11811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OO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3A73-3A8F-4C61-A4A2-7E921C48CF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Stefano Mizzaro</cp:lastModifiedBy>
  <cp:lastPrinted>2000-05-05T17:23:50Z</cp:lastPrinted>
  <dcterms:modified xsi:type="dcterms:W3CDTF">2006-11-29T12:06:14Z</dcterms:modified>
  <cp:revision>1576</cp:revision>
  <dc:subject/>
  <dc:title>Presentazione di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ingua">
    <vt:lpwstr>Italiano</vt:lpwstr>
  </property>
</Properties>
</file>