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991800" y="766800"/>
            <a:ext cx="5116680" cy="383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44640" y="4860720"/>
            <a:ext cx="5209920" cy="46069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0" y="9724680"/>
            <a:ext cx="3076560" cy="509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4022640" y="9724680"/>
            <a:ext cx="3076560" cy="509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0EDD84E-2CDE-4B06-A4A7-9C1604D7C67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6680" cy="383688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44640" y="4860720"/>
            <a:ext cx="5209920" cy="460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ma UML delle associazioni fra classi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6680" cy="3836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44640" y="4860720"/>
            <a:ext cx="5209920" cy="460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 una classe con il main, ma `e l’eccezione, non la regola. Le altre classi definiscono T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6680" cy="38368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44640" y="4860720"/>
            <a:ext cx="5209920" cy="460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vhe figura con classi e istanze!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6680" cy="383688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44640" y="4860720"/>
            <a:ext cx="5209920" cy="46069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 sta su un lucido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6680" cy="38368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44640" y="4860720"/>
            <a:ext cx="5209920" cy="46069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mbio implementazione del TDA 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itudine con array: pensare a stack e he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6680" cy="3836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44640" y="4860720"/>
            <a:ext cx="5209920" cy="460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prendere la domanda su MAXELEMEN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6680" cy="38368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44640" y="4860720"/>
            <a:ext cx="5209920" cy="46069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natura: alla lavag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AA8E-3641-406D-B67B-0EE3522D0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25000" y="3938040"/>
            <a:ext cx="872964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95AC-60DC-46EB-BFDB-2CF497E6A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98360" y="153828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25000" y="393804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98360" y="393804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FCEE-360C-4AD2-B1A9-963688FC2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2810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76640" y="1538280"/>
            <a:ext cx="2810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28640" y="1538280"/>
            <a:ext cx="2810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25000" y="3938040"/>
            <a:ext cx="2810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76640" y="3938040"/>
            <a:ext cx="2810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28640" y="3938040"/>
            <a:ext cx="2810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A266-DCCF-4005-BF02-32F6F5DA7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AB115-0D90-47E2-9605-A0821F961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38298-2634-4089-9FCD-B9064451C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DF5D3-50EF-4802-AD87-1EE2C49FC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42598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8360" y="1538280"/>
            <a:ext cx="42598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6B7D4-1D5A-440B-8E3A-099D3B4D4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323CA-40CE-472D-A1CE-229C735F4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4588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7A88D-4AB8-4BC4-BD6A-E141364A0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8360" y="1538280"/>
            <a:ext cx="42598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5000" y="393804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96C24-3103-4345-BB1D-14C29A66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FC0F-6C32-42A8-BB1B-8F6670C34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42598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98360" y="153828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98360" y="393804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C4595-F461-4470-AB2B-6D02273D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98360" y="153828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225000" y="3938040"/>
            <a:ext cx="872964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2B550-037A-49A2-BFF9-E23A5FEB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225000" y="3938040"/>
            <a:ext cx="872964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91851-3F6E-49CE-B4E6-000ACA82B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98360" y="153828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5000" y="393804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98360" y="393804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7E331-C715-49A0-AF69-8018DC4EC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2810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176640" y="1538280"/>
            <a:ext cx="2810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28640" y="1538280"/>
            <a:ext cx="2810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225000" y="3938040"/>
            <a:ext cx="2810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176640" y="3938040"/>
            <a:ext cx="2810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28640" y="3938040"/>
            <a:ext cx="2810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67B87-8530-4BD3-9247-75786F42F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7D7F-D867-41FE-8F1C-AE86A358F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42598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8360" y="1538280"/>
            <a:ext cx="42598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CB2E-FB68-4C7D-9264-2B4EFB204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A364-2119-472F-BBB8-76602EFA0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4588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4004-5EE1-4383-A1C1-C1CC05F17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8360" y="1538280"/>
            <a:ext cx="42598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5000" y="393804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36FE-2EFE-48BC-A423-467E1F13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42598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98360" y="153828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98360" y="393804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A3E3-1291-4CF3-AC67-A39A6260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8360" y="153828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5000" y="3938040"/>
            <a:ext cx="872964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4EA5-8D5B-42D9-B6B4-06E537DB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8800" y="1411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1480" y="1411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12640" y="5634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82720" y="5634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8280" y="4906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334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2239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0B9AA-1C7A-4241-8434-3BDB78C68839}" type="datetime">
              <a:rPr b="0" lang="it-IT" sz="1400" spc="-1" strike="noStrike">
                <a:solidFill>
                  <a:srgbClr val="000000"/>
                </a:solidFill>
                <a:latin typeface="Tahoma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2617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5636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2E417-2056-4631-8907-C42BF3754764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E2531-9376-4475-AFCD-B0075FEC2572}" type="datetime">
              <a:rPr b="0" lang="it-IT" sz="1400" spc="-1" strike="noStrike">
                <a:solidFill>
                  <a:srgbClr val="1c1c1c"/>
                </a:solidFill>
                <a:latin typeface="Tahoma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A4388-41DD-446B-8194-802F5F5F79AA}" type="slidenum">
              <a:rPr b="0" lang="it-IT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858600"/>
            <a:ext cx="914400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3399"/>
                </a:solidFill>
                <a:latin typeface="Tahoma"/>
              </a:rPr>
              <a:t>Dai TDA agli oggett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-1440" y="2766600"/>
            <a:ext cx="9144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Tahoma"/>
              </a:rPr>
              <a:t>Stefano Mizzaro</a:t>
            </a:r>
            <a:r>
              <a:rPr b="0" lang="it-IT" sz="2800" spc="-1" strike="noStrike">
                <a:solidFill>
                  <a:srgbClr val="3333cc"/>
                </a:solidFill>
                <a:latin typeface="Tahoma"/>
              </a:rPr>
              <a:t> </a:t>
            </a:r>
            <a:br>
              <a:rPr sz="2800"/>
            </a:br>
            <a:br>
              <a:rPr sz="28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partimento di matematica e informatica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Università di Udine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http://www.dimi.uniud.it/mizzaro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izzaro@dimi.uniud.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grammazione, lezione 1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22 novembre 200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sservazion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vraccarico costruttor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ù comodo creare istan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a succede quando viene invocato il costruttore di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Cerchi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ene invocato anche il costruttore di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Pun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 relazione fra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Cerchio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Punto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è diversa da quella con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  <a:ea typeface="ＭＳ Ｐゴシック"/>
              </a:rPr>
              <a:t>Grafic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izione (una parte di un cerchio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è un punt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TDA -&gt; O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98F6-0D4D-4413-B042-D13A1B08F92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Struttura programma Java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982800"/>
            <a:ext cx="9128160" cy="5483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72000" bIns="36000" anchor="t">
            <a:spAutoFit/>
          </a:bodyPr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class ...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static &lt;tipo&gt; &lt;id&gt; (&lt;parametri&gt;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static &lt;tipo&gt; &lt;id&gt; (&lt;parametri&gt;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static void main (String[] args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static &lt;tipo&gt; &lt;id&gt; (&lt;parametri&gt;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static &lt;tipo&gt; &lt;id&gt; (&lt;parametri&gt;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777960" y="1201680"/>
            <a:ext cx="7603920" cy="5019840"/>
          </a:xfrm>
          <a:prstGeom prst="line">
            <a:avLst/>
          </a:prstGeom>
          <a:ln w="15228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09520" y="917640"/>
            <a:ext cx="7469280" cy="5405400"/>
          </a:xfrm>
          <a:prstGeom prst="line">
            <a:avLst/>
          </a:prstGeom>
          <a:ln w="15228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TDA -&gt; O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B4A3-5355-4840-93D4-2D19B8930C7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967360" y="4916520"/>
            <a:ext cx="2478240" cy="159408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class C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... private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... public 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... void  m() {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... C f(C c) {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981760" y="5181480"/>
            <a:ext cx="24764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981760" y="5460840"/>
            <a:ext cx="24764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Programma con TDA (1/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469800" y="2019240"/>
            <a:ext cx="3708360" cy="399636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class C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... main ...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A p, q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p = new A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q = new A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A.m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p = A.f(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84680" y="2031840"/>
            <a:ext cx="4230720" cy="267012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class A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... privat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... static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... void  m() {..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... A f(A a) {..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27680" y="5214960"/>
            <a:ext cx="2478240" cy="159408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class B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... private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... static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... void  m() {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... B f(B b) {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6280" y="2438280"/>
            <a:ext cx="3695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76280" y="2514600"/>
            <a:ext cx="3695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680000" y="2514600"/>
            <a:ext cx="422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92600" y="2946240"/>
            <a:ext cx="4229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29480" y="5492880"/>
            <a:ext cx="24764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829480" y="5772240"/>
            <a:ext cx="24764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TDA -&gt; O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2094-50A5-409E-AA96-1DAEEF5598C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43" name=""/>
          <p:cNvCxnSpPr>
            <a:stCxn id="144" idx="6"/>
            <a:endCxn id="145" idx="3"/>
          </p:cNvCxnSpPr>
          <p:nvPr/>
        </p:nvCxnSpPr>
        <p:spPr>
          <a:xfrm>
            <a:off x="2419200" y="3257280"/>
            <a:ext cx="3075840" cy="2275200"/>
          </a:xfrm>
          <a:prstGeom prst="curvedConnector5">
            <a:avLst>
              <a:gd name="adj1" fmla="val 19606"/>
              <a:gd name="adj2" fmla="val 63222"/>
              <a:gd name="adj3" fmla="val 19606"/>
            </a:avLst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Programma con TDA (2/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406440" y="1917720"/>
            <a:ext cx="1968480" cy="246708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56040" y="2006640"/>
            <a:ext cx="2095560" cy="195876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44960" y="5270400"/>
            <a:ext cx="444600" cy="470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429160" y="5130720"/>
            <a:ext cx="444600" cy="470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45" idx="0"/>
            <a:endCxn id="148" idx="2"/>
          </p:cNvCxnSpPr>
          <p:nvPr/>
        </p:nvCxnSpPr>
        <p:spPr>
          <a:xfrm flipH="1" flipV="1">
            <a:off x="5003640" y="3964680"/>
            <a:ext cx="648360" cy="1166040"/>
          </a:xfrm>
          <a:prstGeom prst="straightConnector1">
            <a:avLst/>
          </a:prstGeom>
          <a:ln w="9360">
            <a:solidFill>
              <a:srgbClr val="0099ff"/>
            </a:solidFill>
            <a:miter/>
          </a:ln>
        </p:spPr>
      </p:cxnSp>
      <p:cxnSp>
        <p:nvCxnSpPr>
          <p:cNvPr id="151" name=""/>
          <p:cNvCxnSpPr>
            <a:stCxn id="149" idx="0"/>
            <a:endCxn id="148" idx="2"/>
          </p:cNvCxnSpPr>
          <p:nvPr/>
        </p:nvCxnSpPr>
        <p:spPr>
          <a:xfrm flipV="1">
            <a:off x="4267080" y="3964680"/>
            <a:ext cx="737280" cy="1305720"/>
          </a:xfrm>
          <a:prstGeom prst="straightConnector1">
            <a:avLst/>
          </a:prstGeom>
          <a:ln w="9360">
            <a:solidFill>
              <a:srgbClr val="0099ff"/>
            </a:solidFill>
            <a:miter/>
          </a:ln>
        </p:spPr>
      </p:cxnSp>
      <p:sp>
        <p:nvSpPr>
          <p:cNvPr id="152" name=""/>
          <p:cNvSpPr/>
          <p:nvPr/>
        </p:nvSpPr>
        <p:spPr>
          <a:xfrm>
            <a:off x="3822480" y="5603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76600" y="55911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424400" y="19335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c1c1c"/>
                </a:solidFill>
                <a:latin typeface="Courier New"/>
              </a:rPr>
              <a:t>TDA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43440" y="2311560"/>
            <a:ext cx="2120760" cy="571320"/>
          </a:xfrm>
          <a:prstGeom prst="rect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1640" y="2336760"/>
            <a:ext cx="224820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c1c1c"/>
                </a:solidFill>
                <a:latin typeface="Courier New"/>
              </a:rPr>
              <a:t>A p, q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c1c1c"/>
                </a:solidFill>
                <a:latin typeface="Courier New"/>
              </a:rPr>
              <a:t>p = new A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c1c1c"/>
                </a:solidFill>
                <a:latin typeface="Courier New"/>
              </a:rPr>
              <a:t>q = new A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c1c1c"/>
                </a:solidFill>
                <a:latin typeface="Courier New"/>
              </a:rPr>
              <a:t>p = A.m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c1c1c"/>
                </a:solidFill>
                <a:latin typeface="Courier New"/>
              </a:rPr>
              <a:t>A.f(q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006800" y="2476440"/>
            <a:ext cx="205740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c1c1c"/>
                </a:solidFill>
                <a:latin typeface="Courier New"/>
              </a:rPr>
              <a:t>private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c1c1c"/>
                </a:solidFill>
                <a:latin typeface="Courier New"/>
              </a:rPr>
              <a:t>m() {...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c1c1c"/>
                </a:solidFill>
                <a:latin typeface="Courier New"/>
              </a:rPr>
              <a:t>f(A a) {...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" name=""/>
          <p:cNvCxnSpPr>
            <a:stCxn id="159" idx="6"/>
            <a:endCxn id="149" idx="2"/>
          </p:cNvCxnSpPr>
          <p:nvPr/>
        </p:nvCxnSpPr>
        <p:spPr>
          <a:xfrm>
            <a:off x="2400480" y="2914200"/>
            <a:ext cx="1645200" cy="2591640"/>
          </a:xfrm>
          <a:prstGeom prst="curvedConnector5">
            <a:avLst>
              <a:gd name="adj1" fmla="val 49989"/>
              <a:gd name="adj2" fmla="val 50000"/>
              <a:gd name="adj3" fmla="val 49989"/>
            </a:avLst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159" name=""/>
          <p:cNvSpPr/>
          <p:nvPr/>
        </p:nvSpPr>
        <p:spPr>
          <a:xfrm>
            <a:off x="2286000" y="2857680"/>
            <a:ext cx="114480" cy="1141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305080" y="3200400"/>
            <a:ext cx="114120" cy="1144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429680" y="1550880"/>
            <a:ext cx="977760" cy="120996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237440" y="3659040"/>
            <a:ext cx="444600" cy="470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53440" y="3633840"/>
            <a:ext cx="444600" cy="469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0"/>
            <a:endCxn id="160" idx="2"/>
          </p:cNvCxnSpPr>
          <p:nvPr/>
        </p:nvCxnSpPr>
        <p:spPr>
          <a:xfrm flipH="1" flipV="1">
            <a:off x="7917840" y="2760120"/>
            <a:ext cx="657720" cy="873720"/>
          </a:xfrm>
          <a:prstGeom prst="straightConnector1">
            <a:avLst/>
          </a:prstGeom>
          <a:ln w="9360">
            <a:solidFill>
              <a:srgbClr val="0099ff"/>
            </a:solidFill>
            <a:miter/>
          </a:ln>
        </p:spPr>
      </p:cxnSp>
      <p:cxnSp>
        <p:nvCxnSpPr>
          <p:cNvPr id="164" name=""/>
          <p:cNvCxnSpPr>
            <a:stCxn id="161" idx="0"/>
            <a:endCxn id="160" idx="2"/>
          </p:cNvCxnSpPr>
          <p:nvPr/>
        </p:nvCxnSpPr>
        <p:spPr>
          <a:xfrm flipV="1">
            <a:off x="7459200" y="2760120"/>
            <a:ext cx="459720" cy="898920"/>
          </a:xfrm>
          <a:prstGeom prst="straightConnector1">
            <a:avLst/>
          </a:prstGeom>
          <a:ln w="9360">
            <a:solidFill>
              <a:srgbClr val="0099ff"/>
            </a:solidFill>
            <a:miter/>
          </a:ln>
        </p:spPr>
      </p:cxnSp>
      <p:sp>
        <p:nvSpPr>
          <p:cNvPr id="165" name=""/>
          <p:cNvSpPr/>
          <p:nvPr/>
        </p:nvSpPr>
        <p:spPr>
          <a:xfrm>
            <a:off x="7338960" y="1477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c1c1c"/>
                </a:solidFill>
                <a:latin typeface="Courier New"/>
              </a:rPr>
              <a:t>TDA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29680" y="1986120"/>
            <a:ext cx="977760" cy="311040"/>
          </a:xfrm>
          <a:prstGeom prst="rect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9960" y="2260440"/>
            <a:ext cx="1968480" cy="101880"/>
          </a:xfrm>
          <a:prstGeom prst="rect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616720" y="5238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624640" y="54356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"/>
          <p:cNvCxnSpPr>
            <a:stCxn id="168" idx="5"/>
            <a:endCxn id="161" idx="5"/>
          </p:cNvCxnSpPr>
          <p:nvPr/>
        </p:nvCxnSpPr>
        <p:spPr>
          <a:xfrm flipV="1">
            <a:off x="5692320" y="4060440"/>
            <a:ext cx="1924920" cy="1254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1" name=""/>
          <p:cNvCxnSpPr>
            <a:stCxn id="168" idx="1"/>
            <a:endCxn id="161" idx="1"/>
          </p:cNvCxnSpPr>
          <p:nvPr/>
        </p:nvCxnSpPr>
        <p:spPr>
          <a:xfrm flipV="1">
            <a:off x="5629320" y="3726720"/>
            <a:ext cx="167400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2" name=""/>
          <p:cNvCxnSpPr>
            <a:stCxn id="169" idx="1"/>
            <a:endCxn id="162" idx="1"/>
          </p:cNvCxnSpPr>
          <p:nvPr/>
        </p:nvCxnSpPr>
        <p:spPr>
          <a:xfrm flipV="1">
            <a:off x="5637240" y="3701160"/>
            <a:ext cx="2782080" cy="1747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3" name=""/>
          <p:cNvCxnSpPr>
            <a:stCxn id="169" idx="5"/>
            <a:endCxn id="162" idx="5"/>
          </p:cNvCxnSpPr>
          <p:nvPr/>
        </p:nvCxnSpPr>
        <p:spPr>
          <a:xfrm flipV="1">
            <a:off x="5700240" y="4034880"/>
            <a:ext cx="3033000" cy="1477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TDA -&gt; O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9BBB-108A-46DC-A2CB-AC6577457E6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ntaggi T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omposizione del proble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e un tipo in p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ù rende più semplice la scrittura del programma che risolve un problema. Divide et impe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u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 volta creato, il TDA s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à probabilmente riusabile in altre situazioni (non vero per un metodo “da solo”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brerie (da “software libraries”, eh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a detto che il TDA lo dobbiamo creare noi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amo trovarlo, comprarlo, farlo fare su commissione da qualcun altro, ecc. ec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lle librerie (API) del Java ci sono migliaia (!) di TDA pronti per l’u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TDA -&gt; O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80DA-075F-4D3F-9898-3391F4DCCEB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erciz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re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Grafica.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giungere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Quadrato.java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 modificare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Grafica.jav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rontare il codice sui lucidi con quello sul testo. Osservare come l’uso del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this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ita duplicazion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rcare e invocare/collaudare versioni alternative dei costruttor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re i nomi dei parametri formali p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nderli uguali agli attribu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are il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002360" y="93600"/>
            <a:ext cx="2019240" cy="1892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TDA -&gt; O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2E84-1C66-4658-B37A-176E472EABF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alet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999999"/>
                </a:solidFill>
                <a:latin typeface="Tahoma"/>
              </a:rPr>
              <a:t>Interazione fra TDA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999999"/>
                </a:solidFill>
                <a:latin typeface="Tahoma"/>
              </a:rPr>
              <a:t>(Fine cap.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Da TDA a OO: lo scambio messagg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oncetto ed Esem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999999"/>
                </a:solidFill>
                <a:latin typeface="Tahoma"/>
              </a:rPr>
              <a:t>Il </a:t>
            </a:r>
            <a:r>
              <a:rPr b="1" lang="it-IT" sz="3200" spc="-1" strike="noStrike">
                <a:solidFill>
                  <a:srgbClr val="999999"/>
                </a:solidFill>
                <a:latin typeface="Courier New"/>
              </a:rPr>
              <a:t>this</a:t>
            </a:r>
            <a:r>
              <a:rPr b="0" lang="it-IT" sz="3200" spc="-1" strike="noStrike">
                <a:solidFill>
                  <a:srgbClr val="999999"/>
                </a:solidFill>
                <a:latin typeface="Tahoma"/>
              </a:rPr>
              <a:t> rivisita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999999"/>
                </a:solidFill>
                <a:latin typeface="Tahoma"/>
              </a:rPr>
              <a:t>Il </a:t>
            </a:r>
            <a:r>
              <a:rPr b="1" lang="it-IT" sz="3200" spc="-1" strike="noStrike">
                <a:solidFill>
                  <a:srgbClr val="999999"/>
                </a:solidFill>
                <a:latin typeface="Courier New"/>
              </a:rPr>
              <a:t>toString</a:t>
            </a:r>
            <a:r>
              <a:rPr b="0" lang="it-IT" sz="3200" spc="-1" strike="noStrike">
                <a:solidFill>
                  <a:srgbClr val="999999"/>
                </a:solidFill>
                <a:latin typeface="Tahoma"/>
              </a:rPr>
              <a:t> rivisita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999999"/>
                </a:solidFill>
                <a:latin typeface="Tahoma"/>
              </a:rPr>
              <a:t>Funzionale, procedurale, OO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999999"/>
                </a:solidFill>
                <a:latin typeface="Tahoma"/>
              </a:rPr>
              <a:t>Altri esemp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TDA -&gt; O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1B34-EEEE-435F-8ACB-CCAA0F38F3A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O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ＭＳ Ｐゴシック"/>
              </a:rPr>
              <a:t>è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(O-O, Object Oriented, Orientato agli Oggetti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O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è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DA 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mbio messaggi 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ed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à 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olimorfis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TDA -&gt; O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A305-FE6E-487E-A66E-DFCB74F4F3B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Scambio messagg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5000" y="1308240"/>
            <a:ext cx="872964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Da TDA e funzioni/procedure definite nel TDA 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 oggetti attivi che si scambiano messagg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Da “esegui il metodo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getX(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della classe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Punto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con argomento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q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”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double a = Punto.getX(q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 “manda il messaggio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getX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all’oggetto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q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”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double a = q.getX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pproccio TDA”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riabili (passive) contengono stato e bas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metodi sono nella clas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pproccio OO”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ggetti/istanze (attive) contengono stato e meto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TDA -&gt; O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1F55-6EC4-4314-911A-7D82E605D2D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85" name=""/>
          <p:cNvCxnSpPr>
            <a:stCxn id="186" idx="6"/>
            <a:endCxn id="187" idx="3"/>
          </p:cNvCxnSpPr>
          <p:nvPr/>
        </p:nvCxnSpPr>
        <p:spPr>
          <a:xfrm>
            <a:off x="2419200" y="3257280"/>
            <a:ext cx="3075840" cy="2275200"/>
          </a:xfrm>
          <a:prstGeom prst="curvedConnector5">
            <a:avLst>
              <a:gd name="adj1" fmla="val 19606"/>
              <a:gd name="adj2" fmla="val 63222"/>
              <a:gd name="adj3" fmla="val 19606"/>
            </a:avLst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18800" y="245880"/>
            <a:ext cx="805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Programma con TDA (di nuovo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406440" y="1917720"/>
            <a:ext cx="1968480" cy="246708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956040" y="2006640"/>
            <a:ext cx="2095560" cy="195876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044960" y="5270400"/>
            <a:ext cx="444600" cy="470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29160" y="5130720"/>
            <a:ext cx="444600" cy="470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"/>
          <p:cNvCxnSpPr>
            <a:stCxn id="187" idx="0"/>
            <a:endCxn id="190" idx="2"/>
          </p:cNvCxnSpPr>
          <p:nvPr/>
        </p:nvCxnSpPr>
        <p:spPr>
          <a:xfrm flipH="1" flipV="1">
            <a:off x="5003640" y="3964680"/>
            <a:ext cx="648360" cy="1166040"/>
          </a:xfrm>
          <a:prstGeom prst="straightConnector1">
            <a:avLst/>
          </a:prstGeom>
          <a:ln w="9360">
            <a:solidFill>
              <a:srgbClr val="0099ff"/>
            </a:solidFill>
            <a:miter/>
          </a:ln>
        </p:spPr>
      </p:cxnSp>
      <p:cxnSp>
        <p:nvCxnSpPr>
          <p:cNvPr id="193" name=""/>
          <p:cNvCxnSpPr>
            <a:stCxn id="191" idx="0"/>
            <a:endCxn id="190" idx="2"/>
          </p:cNvCxnSpPr>
          <p:nvPr/>
        </p:nvCxnSpPr>
        <p:spPr>
          <a:xfrm flipV="1">
            <a:off x="4267080" y="3964680"/>
            <a:ext cx="737280" cy="1305720"/>
          </a:xfrm>
          <a:prstGeom prst="straightConnector1">
            <a:avLst/>
          </a:prstGeom>
          <a:ln w="9360">
            <a:solidFill>
              <a:srgbClr val="0099ff"/>
            </a:solidFill>
            <a:miter/>
          </a:ln>
        </p:spPr>
      </p:cxnSp>
      <p:sp>
        <p:nvSpPr>
          <p:cNvPr id="194" name=""/>
          <p:cNvSpPr/>
          <p:nvPr/>
        </p:nvSpPr>
        <p:spPr>
          <a:xfrm>
            <a:off x="3822480" y="5603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76600" y="55911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24400" y="19335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c1c1c"/>
                </a:solidFill>
                <a:latin typeface="Courier New"/>
              </a:rPr>
              <a:t>TDA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43440" y="2311560"/>
            <a:ext cx="2120760" cy="571320"/>
          </a:xfrm>
          <a:prstGeom prst="rect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31640" y="2336760"/>
            <a:ext cx="224820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c1c1c"/>
                </a:solidFill>
                <a:latin typeface="Courier New"/>
              </a:rPr>
              <a:t>A p, q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c1c1c"/>
                </a:solidFill>
                <a:latin typeface="Courier New"/>
              </a:rPr>
              <a:t>p = new A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c1c1c"/>
                </a:solidFill>
                <a:latin typeface="Courier New"/>
              </a:rPr>
              <a:t>q = new A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c1c1c"/>
                </a:solidFill>
                <a:latin typeface="Courier New"/>
              </a:rPr>
              <a:t>p = A.m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c1c1c"/>
                </a:solidFill>
                <a:latin typeface="Courier New"/>
              </a:rPr>
              <a:t>A.f(q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06800" y="2476440"/>
            <a:ext cx="205740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c1c1c"/>
                </a:solidFill>
                <a:latin typeface="Courier New"/>
              </a:rPr>
              <a:t>private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c1c1c"/>
                </a:solidFill>
                <a:latin typeface="Courier New"/>
              </a:rPr>
              <a:t>m() {...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c1c1c"/>
                </a:solidFill>
                <a:latin typeface="Courier New"/>
              </a:rPr>
              <a:t>f(A a) {...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201" idx="6"/>
            <a:endCxn id="191" idx="2"/>
          </p:cNvCxnSpPr>
          <p:nvPr/>
        </p:nvCxnSpPr>
        <p:spPr>
          <a:xfrm>
            <a:off x="2400480" y="2914200"/>
            <a:ext cx="1645200" cy="2591640"/>
          </a:xfrm>
          <a:prstGeom prst="curvedConnector5">
            <a:avLst>
              <a:gd name="adj1" fmla="val 49989"/>
              <a:gd name="adj2" fmla="val 50000"/>
              <a:gd name="adj3" fmla="val 49989"/>
            </a:avLst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201" name=""/>
          <p:cNvSpPr/>
          <p:nvPr/>
        </p:nvSpPr>
        <p:spPr>
          <a:xfrm>
            <a:off x="2286000" y="2857680"/>
            <a:ext cx="114480" cy="1141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305080" y="3200400"/>
            <a:ext cx="114120" cy="1144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7338960" y="1477800"/>
            <a:ext cx="1170000" cy="2651400"/>
            <a:chOff x="7338960" y="1477800"/>
            <a:chExt cx="1170000" cy="2651400"/>
          </a:xfrm>
        </p:grpSpPr>
        <p:sp>
          <p:nvSpPr>
            <p:cNvPr id="203" name=""/>
            <p:cNvSpPr/>
            <p:nvPr/>
          </p:nvSpPr>
          <p:spPr>
            <a:xfrm>
              <a:off x="7429680" y="1550880"/>
              <a:ext cx="977760" cy="120996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340760" y="3659040"/>
              <a:ext cx="444240" cy="470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064360" y="3633840"/>
              <a:ext cx="444600" cy="46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5" idx="0"/>
              <a:endCxn id="203" idx="2"/>
            </p:cNvCxnSpPr>
            <p:nvPr/>
          </p:nvCxnSpPr>
          <p:spPr>
            <a:xfrm flipH="1" flipV="1">
              <a:off x="7917840" y="2760120"/>
              <a:ext cx="369000" cy="873720"/>
            </a:xfrm>
            <a:prstGeom prst="straightConnector1">
              <a:avLst/>
            </a:prstGeom>
            <a:ln w="9360">
              <a:solidFill>
                <a:srgbClr val="0099ff"/>
              </a:solidFill>
              <a:miter/>
            </a:ln>
          </p:spPr>
        </p:cxnSp>
        <p:cxnSp>
          <p:nvCxnSpPr>
            <p:cNvPr id="207" name=""/>
            <p:cNvCxnSpPr>
              <a:stCxn id="204" idx="0"/>
              <a:endCxn id="203" idx="2"/>
            </p:cNvCxnSpPr>
            <p:nvPr/>
          </p:nvCxnSpPr>
          <p:spPr>
            <a:xfrm flipV="1">
              <a:off x="7562880" y="2760120"/>
              <a:ext cx="356400" cy="898920"/>
            </a:xfrm>
            <a:prstGeom prst="straightConnector1">
              <a:avLst/>
            </a:prstGeom>
            <a:ln w="9360">
              <a:solidFill>
                <a:srgbClr val="0099ff"/>
              </a:solidFill>
              <a:miter/>
            </a:ln>
          </p:spPr>
        </p:cxnSp>
        <p:sp>
          <p:nvSpPr>
            <p:cNvPr id="208" name=""/>
            <p:cNvSpPr/>
            <p:nvPr/>
          </p:nvSpPr>
          <p:spPr>
            <a:xfrm>
              <a:off x="7338960" y="147780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1c1c1c"/>
                  </a:solidFill>
                  <a:latin typeface="Courier New"/>
                </a:rPr>
                <a:t>TDA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429680" y="1986120"/>
              <a:ext cx="977760" cy="31104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99960" y="2260440"/>
            <a:ext cx="1968480" cy="101880"/>
          </a:xfrm>
          <a:prstGeom prst="rect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TDA -&gt; O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3F29-F2BB-4ADF-86D6-6FC9FC262F4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Riassu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9760" y="1089000"/>
            <a:ext cx="8124480" cy="52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Mattoni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Sequenza, Selezione, Iterazio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Arr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Sottoprogrammi (metodi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Ricorsio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T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TDA -&gt; O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66E0-2053-43ED-BDCC-B724F43310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622440" y="3290760"/>
            <a:ext cx="3022560" cy="3063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623880" y="3124440"/>
            <a:ext cx="3006360" cy="3387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48"/>
                </a:moveTo>
                <a:arcTo wR="10800" hR="10800" stAng="10784752" swAng="10815248"/>
                <a:lnTo>
                  <a:pt x="10800" y="10800"/>
                </a:lnTo>
                <a:close/>
              </a:path>
              <a:path fill="none" w="21600" h="21600">
                <a:moveTo>
                  <a:pt x="0" y="10848"/>
                </a:moveTo>
                <a:arcTo wR="10800" hR="10800" stAng="10784752" swAng="10815248"/>
              </a:path>
            </a:pathLst>
          </a:cu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"/>
          <p:cNvCxnSpPr>
            <a:stCxn id="214" idx="4"/>
            <a:endCxn id="215" idx="0"/>
          </p:cNvCxnSpPr>
          <p:nvPr/>
        </p:nvCxnSpPr>
        <p:spPr>
          <a:xfrm flipH="1" flipV="1" rot="5400000">
            <a:off x="5109120" y="3825000"/>
            <a:ext cx="183240" cy="3545640"/>
          </a:xfrm>
          <a:prstGeom prst="curvedConnector5">
            <a:avLst>
              <a:gd name="adj1" fmla="val -429527"/>
              <a:gd name="adj2" fmla="val 42018"/>
              <a:gd name="adj3" fmla="val -429527"/>
            </a:avLst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Programma con scambio messagg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1155600" y="1917720"/>
            <a:ext cx="1968480" cy="77472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651640" y="1968480"/>
            <a:ext cx="2095200" cy="195912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549760" y="5030640"/>
            <a:ext cx="825480" cy="873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endCxn id="218" idx="2"/>
          </p:cNvCxnSpPr>
          <p:nvPr/>
        </p:nvCxnSpPr>
        <p:spPr>
          <a:xfrm flipH="1" flipV="1">
            <a:off x="6698520" y="3927240"/>
            <a:ext cx="648360" cy="1165680"/>
          </a:xfrm>
          <a:prstGeom prst="straightConnector1">
            <a:avLst/>
          </a:prstGeom>
          <a:ln w="9360">
            <a:solidFill>
              <a:srgbClr val="0099ff"/>
            </a:solidFill>
            <a:miter/>
          </a:ln>
        </p:spPr>
      </p:cxnSp>
      <p:cxnSp>
        <p:nvCxnSpPr>
          <p:cNvPr id="221" name=""/>
          <p:cNvCxnSpPr>
            <a:stCxn id="219" idx="0"/>
            <a:endCxn id="218" idx="2"/>
          </p:cNvCxnSpPr>
          <p:nvPr/>
        </p:nvCxnSpPr>
        <p:spPr>
          <a:xfrm flipV="1">
            <a:off x="5962680" y="3927600"/>
            <a:ext cx="737280" cy="1103400"/>
          </a:xfrm>
          <a:prstGeom prst="straightConnector1">
            <a:avLst/>
          </a:prstGeom>
          <a:ln w="9360">
            <a:solidFill>
              <a:srgbClr val="0099ff"/>
            </a:solidFill>
            <a:miter/>
          </a:ln>
        </p:spPr>
      </p:cxnSp>
      <p:sp>
        <p:nvSpPr>
          <p:cNvPr id="222" name=""/>
          <p:cNvSpPr/>
          <p:nvPr/>
        </p:nvSpPr>
        <p:spPr>
          <a:xfrm>
            <a:off x="5251320" y="5718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81760" y="5959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120000" y="1895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c1c1c"/>
                </a:solidFill>
                <a:latin typeface="Courier New"/>
              </a:rPr>
              <a:t>TDA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638680" y="2273400"/>
            <a:ext cx="2121120" cy="571320"/>
          </a:xfrm>
          <a:prstGeom prst="rect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73120" y="4711680"/>
            <a:ext cx="224784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c1c1c"/>
                </a:solidFill>
                <a:latin typeface="Courier New"/>
              </a:rPr>
              <a:t>A p, q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c1c1c"/>
                </a:solidFill>
                <a:latin typeface="Courier New"/>
              </a:rPr>
              <a:t>p = new A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c1c1c"/>
                </a:solidFill>
                <a:latin typeface="Courier New"/>
              </a:rPr>
              <a:t>q = new A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c1c1c"/>
                </a:solidFill>
                <a:latin typeface="Courier New"/>
              </a:rPr>
              <a:t>p = q.m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c1c1c"/>
                </a:solidFill>
                <a:latin typeface="Courier New"/>
              </a:rPr>
              <a:t>q.f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7" name=""/>
          <p:cNvCxnSpPr>
            <a:stCxn id="228" idx="6"/>
            <a:endCxn id="219" idx="2"/>
          </p:cNvCxnSpPr>
          <p:nvPr/>
        </p:nvCxnSpPr>
        <p:spPr>
          <a:xfrm>
            <a:off x="3466800" y="5289480"/>
            <a:ext cx="2083320" cy="1782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29" name=""/>
          <p:cNvCxnSpPr>
            <a:stCxn id="211" idx="0"/>
            <a:endCxn id="217" idx="2"/>
          </p:cNvCxnSpPr>
          <p:nvPr/>
        </p:nvCxnSpPr>
        <p:spPr>
          <a:xfrm flipV="1">
            <a:off x="2133360" y="2692440"/>
            <a:ext cx="6840" cy="598680"/>
          </a:xfrm>
          <a:prstGeom prst="straightConnector1">
            <a:avLst/>
          </a:prstGeom>
          <a:ln w="28440">
            <a:solidFill>
              <a:srgbClr val="00ff99"/>
            </a:solidFill>
            <a:miter/>
          </a:ln>
        </p:spPr>
      </p:cxnSp>
      <p:sp>
        <p:nvSpPr>
          <p:cNvPr id="230" name=""/>
          <p:cNvSpPr/>
          <p:nvPr/>
        </p:nvSpPr>
        <p:spPr>
          <a:xfrm flipV="1">
            <a:off x="5564160" y="5007240"/>
            <a:ext cx="810720" cy="91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1020"/>
                </a:moveTo>
                <a:arcTo wR="10800" hR="10800" stAng="10729984" swAng="10870016"/>
                <a:lnTo>
                  <a:pt x="10800" y="10800"/>
                </a:lnTo>
                <a:close/>
              </a:path>
              <a:path fill="none" w="21600" h="21600">
                <a:moveTo>
                  <a:pt x="2" y="11020"/>
                </a:moveTo>
                <a:arcTo wR="10800" hR="10800" stAng="10729984" swAng="10870016"/>
              </a:path>
            </a:pathLst>
          </a:cu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959520" y="5081760"/>
            <a:ext cx="825480" cy="87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6973920" y="5058000"/>
            <a:ext cx="810720" cy="91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1020"/>
                </a:moveTo>
                <a:arcTo wR="10800" hR="10800" stAng="10729984" swAng="10870016"/>
                <a:lnTo>
                  <a:pt x="10800" y="10800"/>
                </a:lnTo>
                <a:close/>
              </a:path>
              <a:path fill="none" w="21600" h="21600">
                <a:moveTo>
                  <a:pt x="2" y="11020"/>
                </a:moveTo>
                <a:arcTo wR="10800" hR="10800" stAng="10729984" swAng="10870016"/>
              </a:path>
            </a:pathLst>
          </a:cu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352680" y="5232240"/>
            <a:ext cx="114480" cy="1144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371760" y="5575320"/>
            <a:ext cx="114480" cy="1141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549760" y="5283360"/>
            <a:ext cx="120672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1c1c1c"/>
                </a:solidFill>
                <a:latin typeface="Courier New"/>
              </a:rPr>
              <a:t>private 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1c1c1c"/>
                </a:solidFill>
                <a:latin typeface="Courier New"/>
              </a:rPr>
              <a:t>m() {...}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1c1c1c"/>
                </a:solidFill>
                <a:latin typeface="Courier New"/>
              </a:rPr>
              <a:t>f(A a) {...}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946920" y="5321160"/>
            <a:ext cx="120636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1c1c1c"/>
                </a:solidFill>
                <a:latin typeface="Courier New"/>
              </a:rPr>
              <a:t>private 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1c1c1c"/>
                </a:solidFill>
                <a:latin typeface="Courier New"/>
              </a:rPr>
              <a:t>m() {...}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1c1c1c"/>
                </a:solidFill>
                <a:latin typeface="Courier New"/>
              </a:rPr>
              <a:t>f(A a) {...}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TDA -&gt; O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4ADE-1DF8-454B-BA22-71337AA656D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-6480" y="1368360"/>
            <a:ext cx="9150480" cy="506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360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Courier New"/>
              </a:rPr>
              <a:t>class Punto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800" spc="-1" strike="noStrike">
                <a:solidFill>
                  <a:srgbClr val="333399"/>
                </a:solidFill>
                <a:latin typeface="Courier New"/>
              </a:rPr>
              <a:t>private double x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800" spc="-1" strike="noStrike">
                <a:solidFill>
                  <a:srgbClr val="333399"/>
                </a:solidFill>
                <a:latin typeface="Courier New"/>
              </a:rPr>
              <a:t>private double y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800" spc="-1" strike="noStrike">
                <a:solidFill>
                  <a:srgbClr val="333399"/>
                </a:solidFill>
                <a:latin typeface="Courier New"/>
              </a:rPr>
              <a:t>public Punto() {this(0,0);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800" spc="-1" strike="noStrike">
                <a:solidFill>
                  <a:srgbClr val="333399"/>
                </a:solidFill>
                <a:latin typeface="Courier New"/>
              </a:rPr>
              <a:t>public Punto(double x, double y)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800" spc="-1" strike="noStrike">
                <a:solidFill>
                  <a:srgbClr val="333399"/>
                </a:solidFill>
                <a:latin typeface="Courier New"/>
              </a:rPr>
              <a:t>this.x = x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800" spc="-1" strike="noStrike">
                <a:solidFill>
                  <a:srgbClr val="333399"/>
                </a:solidFill>
                <a:latin typeface="Courier New"/>
              </a:rPr>
              <a:t>this.y = y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8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800" spc="-1" strike="noStrike">
                <a:solidFill>
                  <a:srgbClr val="333399"/>
                </a:solidFill>
                <a:latin typeface="Courier New"/>
              </a:rPr>
              <a:t>public void setX(double x) {this.x = x;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800" spc="-1" strike="noStrike">
                <a:solidFill>
                  <a:srgbClr val="333399"/>
                </a:solidFill>
                <a:latin typeface="Courier New"/>
              </a:rPr>
              <a:t>public void setY(double y) {this.y = y;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800" spc="-1" strike="noStrike">
                <a:solidFill>
                  <a:srgbClr val="333399"/>
                </a:solidFill>
                <a:latin typeface="Courier New"/>
              </a:rPr>
              <a:t>public double getX() {return x;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800" spc="-1" strike="noStrike">
                <a:solidFill>
                  <a:srgbClr val="333399"/>
                </a:solidFill>
                <a:latin typeface="Courier New"/>
              </a:rPr>
              <a:t>public double getY() {return y;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Courier New"/>
              </a:rPr>
              <a:t>}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La classe </a:t>
            </a:r>
            <a:r>
              <a:rPr b="1" lang="it-IT" sz="4400" spc="-1" strike="noStrike">
                <a:solidFill>
                  <a:srgbClr val="333399"/>
                </a:solidFill>
                <a:latin typeface="Courier New"/>
              </a:rPr>
              <a:t>Punto</a:t>
            </a: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 “a oggetti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603440" y="4386240"/>
            <a:ext cx="5887800" cy="1689120"/>
            <a:chOff x="1603440" y="4386240"/>
            <a:chExt cx="5887800" cy="1689120"/>
          </a:xfrm>
        </p:grpSpPr>
        <p:sp>
          <p:nvSpPr>
            <p:cNvPr id="237" name=""/>
            <p:cNvSpPr/>
            <p:nvPr/>
          </p:nvSpPr>
          <p:spPr>
            <a:xfrm>
              <a:off x="1603440" y="4422960"/>
              <a:ext cx="457200" cy="16002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3987720" y="4444920"/>
              <a:ext cx="566640" cy="1600200"/>
              <a:chOff x="3987720" y="4444920"/>
              <a:chExt cx="566640" cy="1600200"/>
            </a:xfrm>
          </p:grpSpPr>
          <p:sp>
            <p:nvSpPr>
              <p:cNvPr id="239" name=""/>
              <p:cNvSpPr/>
              <p:nvPr/>
            </p:nvSpPr>
            <p:spPr>
              <a:xfrm>
                <a:off x="3987720" y="4444920"/>
                <a:ext cx="177840" cy="82548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376880" y="5219280"/>
                <a:ext cx="177480" cy="82584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6518160" y="5249880"/>
              <a:ext cx="177840" cy="8254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300720" y="4386240"/>
              <a:ext cx="1190520" cy="9842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TDA -&gt; O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9A5D-501B-48A9-AB3C-82E85819390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Programma che usa </a:t>
            </a:r>
            <a:r>
              <a:rPr b="1" lang="it-IT" sz="4400" spc="-1" strike="noStrike">
                <a:solidFill>
                  <a:srgbClr val="333399"/>
                </a:solidFill>
                <a:latin typeface="Courier New"/>
              </a:rPr>
              <a:t>Pu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1368360"/>
            <a:ext cx="9150480" cy="4293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360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Courier New"/>
              </a:rPr>
              <a:t>class UsaPunto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800" spc="-1" strike="noStrike">
                <a:solidFill>
                  <a:srgbClr val="333399"/>
                </a:solidFill>
                <a:latin typeface="Courier New"/>
              </a:rPr>
              <a:t>public static void main(String[]args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800" spc="-1" strike="noStrike">
                <a:solidFill>
                  <a:srgbClr val="333399"/>
                </a:solidFill>
                <a:latin typeface="Courier New"/>
              </a:rPr>
              <a:t>Punto 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800" spc="-1" strike="noStrike">
                <a:solidFill>
                  <a:srgbClr val="333399"/>
                </a:solidFill>
                <a:latin typeface="Courier New"/>
              </a:rPr>
              <a:t>p = new Punto(12.0, 34.9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800" spc="-1" strike="noStrike">
                <a:solidFill>
                  <a:srgbClr val="333399"/>
                </a:solidFill>
                <a:latin typeface="Courier New"/>
              </a:rPr>
              <a:t>Punto q = new Punto(0, 0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800" spc="-1" strike="noStrike">
                <a:solidFill>
                  <a:srgbClr val="333399"/>
                </a:solidFill>
                <a:latin typeface="Courier New"/>
              </a:rPr>
              <a:t>p = new Punto(2.3, 3.4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800" spc="-1" strike="noStrike">
                <a:solidFill>
                  <a:srgbClr val="333399"/>
                </a:solidFill>
                <a:latin typeface="Courier New"/>
              </a:rPr>
              <a:t>p.setX(2.5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800" spc="-1" strike="noStrike">
                <a:solidFill>
                  <a:srgbClr val="333399"/>
                </a:solidFill>
                <a:latin typeface="Courier New"/>
              </a:rPr>
              <a:t>double x = p.getX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800" spc="-1" strike="noStrike">
                <a:solidFill>
                  <a:srgbClr val="333399"/>
                </a:solidFill>
                <a:latin typeface="Courier New"/>
              </a:rPr>
              <a:t>p = q;  // Al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it-IT" sz="28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Courier New"/>
              </a:rPr>
              <a:t>}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TDA -&gt; O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8E07-FF58-4340-8563-23B8813FA4D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Confronto: TDA vs. O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5000" y="1115640"/>
            <a:ext cx="872964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Filosoficamente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riabili passive vs. oggetti attiv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In pratica: metodi d’istanza e un parametro in men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public static void setX(Punto p, double x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s.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public void setX(double 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Punto.getX(q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vs.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q.getX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Non c’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è più lo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st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Terminologi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ttribu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eto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TDA -&gt; O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465A-96E9-4843-96D8-1BF7720878A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46240" y="1344600"/>
            <a:ext cx="8667720" cy="439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72000" bIns="360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class Punto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private double x; private double y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static void set(Punto p, double x, double y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p.x = x; p.y = y;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static void setX(Punto p, double x)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p.x = x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static void setY(Punto p, double y)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p.y = y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static double getX(Punto p) {return p.x;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static double getY(Punto p) {return p.y;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urier New"/>
              </a:rPr>
              <a:t>Punto.java </a:t>
            </a: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(non a oggetti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TDA -&gt; O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49EA-FF42-4A53-85BD-3AC4A17BE67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urier New"/>
              </a:rPr>
              <a:t>UsaPunto.java </a:t>
            </a: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(non a oggetti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11160" y="1855800"/>
            <a:ext cx="9128160" cy="376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72000" bIns="36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/** Programma per la prova di cerchi e punti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lass UsaPunto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public static void main (String[] args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Punto p1 = new Punt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Punto p2 = new Punto(1,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Punto.setX(p1,5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ystem.out.println(Punto.getX(p2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TDA -&gt; O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9A97-DA23-477E-9473-3DC57F51D75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Cosa fa il m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Inizia l’esecuzio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Crea oggett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Manda messaggi a oggetti (invoca metodi d’istanz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Invoca direttamente metodi 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stat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TDA -&gt; O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EEC1-3E81-4024-83D0-698577D445C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tro esempi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 nuovo la pila di interi limit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ò “a oggetti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TDA -&gt; O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062B-7F81-4CF3-AD03-B7F30936544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541440"/>
            <a:ext cx="9128160" cy="6345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72000" bIns="36000" anchor="t">
            <a:sp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lass Pila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private static final int MAX = 1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private int[] element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private int numElement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Pila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numElementi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elementi = new int[MAX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boolean vuota() {return numElementi == 0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boolean piena() {return numElementi == MAX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void push(int e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if (!piena()) elementi[numElementi++] = 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int top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if (!vuota()) return elementi[numElementi-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else return -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void pop() {if (!vuota()) numElementi--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3399"/>
                </a:solidFill>
                <a:latin typeface="Courier New"/>
              </a:rPr>
              <a:t>Pila.ja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TDA -&gt; O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3612-1389-4A6C-BB0E-A41E86F4811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3399"/>
                </a:solidFill>
                <a:latin typeface="Courier New"/>
              </a:rPr>
              <a:t>UsaPila.ja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1071720"/>
            <a:ext cx="9128160" cy="4863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72000" bIns="36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lass UsaPila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public static void main(String[] args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Pila p = new Pila 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while (!p.piena()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ystem.out.print(“Inserisci un elemento: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p.push(Leggi.unInt(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while (!p.vuota()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ystem.out.println(p.top(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p.pop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TDA -&gt; O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114E-992C-4584-BA1C-48FB479B0B7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iassunto T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04480" y="1164960"/>
            <a:ext cx="8729640" cy="51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trazione sui tipi, non sulle istruzion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iungo al Java i tipi (istruzioni) che non ha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chiarazi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è fatto (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priv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azione (attributi) + Operazioni (metod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cazione (costruttore,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cazione (chiamata metodi, notazione puntat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th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toSt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ccultamento delle informazion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apsulamento = unitari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à + inaccessibilit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gt;Comprensibilità, modificabilità, riusabilit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TDA -&gt; O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A3E7-F396-4282-AF0D-75DE4D9774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Confronto con la versione T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Il T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Parametro in men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enza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st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Us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Parametro in men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Nome istanza anzich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é nome clas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Filosoficamente: si parla alle istan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Si scrive di meno (parametri, nome della class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TDA -&gt; O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50FC-86C4-47C8-8F54-F82C5690BA0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DA vs. O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TDA: classi e variabil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Variabili = implementazione (com’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è fatt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lassi forniscono metodi per lavorare sulle variabil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I metodi sono </a:t>
            </a:r>
            <a:r>
              <a:rPr b="0" lang="it-IT" sz="2800" spc="-1" strike="noStrike">
                <a:solidFill>
                  <a:srgbClr val="3333cc"/>
                </a:solidFill>
                <a:latin typeface="Tahoma"/>
              </a:rPr>
              <a:t>di class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, si parla alle clas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OO: classi e istan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Istanza = implementazione + operazion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Le operazioni sono a livello di ogni istanz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I metodi sono </a:t>
            </a:r>
            <a:r>
              <a:rPr b="0" lang="it-IT" sz="2800" spc="-1" strike="noStrike">
                <a:solidFill>
                  <a:srgbClr val="3333cc"/>
                </a:solidFill>
                <a:latin typeface="Tahoma"/>
              </a:rPr>
              <a:t>d’istanz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, si parla alle istan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TDA -&gt; O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8C34-826D-4CE6-8F53-EE710F70D4A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Scalet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25000" y="1135080"/>
            <a:ext cx="87296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999999"/>
                </a:solidFill>
                <a:latin typeface="Tahoma"/>
              </a:rPr>
              <a:t>Interazione fra TD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999999"/>
                </a:solidFill>
                <a:latin typeface="Tahoma"/>
              </a:rPr>
              <a:t>Da TDA a OO: lo scambio messagg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999999"/>
                </a:solidFill>
                <a:latin typeface="Tahoma"/>
              </a:rPr>
              <a:t>Concetto ed Esem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Il </a:t>
            </a:r>
            <a:r>
              <a:rPr b="1" lang="it-IT" sz="3200" spc="-1" strike="noStrike">
                <a:solidFill>
                  <a:srgbClr val="3333cc"/>
                </a:solidFill>
                <a:latin typeface="Courier New"/>
              </a:rPr>
              <a:t>thi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rivisita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Il </a:t>
            </a:r>
            <a:r>
              <a:rPr b="1" lang="it-IT" sz="3200" spc="-1" strike="noStrike">
                <a:solidFill>
                  <a:srgbClr val="3333cc"/>
                </a:solidFill>
                <a:latin typeface="Courier New"/>
              </a:rPr>
              <a:t>toString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rivisita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999999"/>
                </a:solidFill>
                <a:latin typeface="Tahoma"/>
              </a:rPr>
              <a:t>Funzionale, procedurale, OO</a:t>
            </a:r>
            <a:r>
              <a:rPr b="0" lang="it-IT" sz="3200" spc="-1" strike="noStrike">
                <a:solidFill>
                  <a:srgbClr val="9999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999999"/>
                </a:solidFill>
                <a:latin typeface="Tahoma"/>
              </a:rPr>
              <a:t>Altri esemp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TDA -&gt; O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6047-AD09-4AE9-8B87-47769AE508B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l </a:t>
            </a:r>
            <a:r>
              <a:rPr b="1" lang="en-US" sz="4400" spc="-1" strike="noStrike">
                <a:solidFill>
                  <a:srgbClr val="333399"/>
                </a:solidFill>
                <a:latin typeface="Courier New"/>
              </a:rPr>
              <a:t>thi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rivisita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 si capisce: “this” = “questa istanza”, “questo oggetto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l costruttore di questo ogget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i attributi di questo ogget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 potrebbe premettere semp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invocazioni di altri metodi dell’oggetto (“mando un messaggio a me stesso”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’accesso agli attributi dell’ogget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è implici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TDA -&gt; O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771D-A6F4-4A70-B041-0503624A632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209520"/>
            <a:ext cx="9128160" cy="6677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72000" bIns="36000" anchor="t">
            <a:sp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lass Pila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PilaInteriLimitata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this.numElementi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this.elementi = new int[MAX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boolean vuota() {return this.numElementi == 0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boolean piena() {return this.numElementi==MAX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void push(int e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if (!this.piena(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this.elementi[this.numElementi++] = 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int top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if (!this.vuota()) re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this.elementi[this.numElementi-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else return -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void pop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if (!this.vuota()) this.numElementi--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2612880" y="0"/>
            <a:ext cx="633096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3399"/>
                </a:solidFill>
                <a:latin typeface="Courier New"/>
              </a:rPr>
              <a:t>Pila.java</a:t>
            </a: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 col </a:t>
            </a:r>
            <a:r>
              <a:rPr b="1" lang="it-IT" sz="4400" spc="-1" strike="noStrike">
                <a:solidFill>
                  <a:srgbClr val="333399"/>
                </a:solidFill>
                <a:latin typeface="Courier New"/>
              </a:rPr>
              <a:t>this</a:t>
            </a: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TDA -&gt; O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E048-BBB4-43B1-BAAE-C5C72345F31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l </a:t>
            </a:r>
            <a:r>
              <a:rPr b="1" lang="en-US" sz="4400" spc="-1" strike="noStrike">
                <a:solidFill>
                  <a:srgbClr val="333399"/>
                </a:solidFill>
                <a:latin typeface="Courier New"/>
              </a:rPr>
              <a:t>toStr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rivisita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5000" y="1095480"/>
            <a:ext cx="8729640" cy="50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evamo visto che se un TDA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 il metod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per visualizzare si f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.out.println(C.toString(x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 ora sappiamo c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oString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ò/deve essere d’istanza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tati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=&gt; Lo si invocherà così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.out.println(x.toString(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È più comodo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 p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ù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l’invocazion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è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utomatica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.out.println(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 una classe non ha il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oString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 n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è uno di default, ma non molto utile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x.: aggiungere il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oString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lle classi vis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TDA -&gt; O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EF5A-8EB9-4951-A92D-0C97F9858FE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Scalet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999999"/>
                </a:solidFill>
                <a:latin typeface="Tahoma"/>
              </a:rPr>
              <a:t>Interazione fra TD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999999"/>
                </a:solidFill>
                <a:latin typeface="Tahoma"/>
              </a:rPr>
              <a:t>Da TDA a OO: lo scambio messagg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999999"/>
                </a:solidFill>
                <a:latin typeface="Tahoma"/>
              </a:rPr>
              <a:t>Concetto ed Esem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999999"/>
                </a:solidFill>
                <a:latin typeface="Tahoma"/>
              </a:rPr>
              <a:t>Il </a:t>
            </a:r>
            <a:r>
              <a:rPr b="1" lang="it-IT" sz="3200" spc="-1" strike="noStrike">
                <a:solidFill>
                  <a:srgbClr val="999999"/>
                </a:solidFill>
                <a:latin typeface="Courier New"/>
              </a:rPr>
              <a:t>this</a:t>
            </a:r>
            <a:r>
              <a:rPr b="0" lang="it-IT" sz="3200" spc="-1" strike="noStrike">
                <a:solidFill>
                  <a:srgbClr val="999999"/>
                </a:solidFill>
                <a:latin typeface="Tahoma"/>
              </a:rPr>
              <a:t> rivisita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999999"/>
                </a:solidFill>
                <a:latin typeface="Tahoma"/>
              </a:rPr>
              <a:t>Il </a:t>
            </a:r>
            <a:r>
              <a:rPr b="1" lang="it-IT" sz="3200" spc="-1" strike="noStrike">
                <a:solidFill>
                  <a:srgbClr val="999999"/>
                </a:solidFill>
                <a:latin typeface="Courier New"/>
              </a:rPr>
              <a:t>toString</a:t>
            </a:r>
            <a:r>
              <a:rPr b="0" lang="it-IT" sz="3200" spc="-1" strike="noStrike">
                <a:solidFill>
                  <a:srgbClr val="999999"/>
                </a:solidFill>
                <a:latin typeface="Tahoma"/>
              </a:rPr>
              <a:t> rivisita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Funzionale, procedurale, O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999999"/>
                </a:solidFill>
                <a:latin typeface="Tahoma"/>
              </a:rPr>
              <a:t>Altri esemp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TDA -&gt; O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74A6-D3F8-423E-9A20-753BA75210E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10960" y="246240"/>
            <a:ext cx="803268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Funzionale, procedurale, OO (1/2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25000" y="960120"/>
            <a:ext cx="8729640" cy="521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ziona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cedura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"/>
          <p:cNvSpPr/>
          <p:nvPr/>
        </p:nvSpPr>
        <p:spPr>
          <a:xfrm>
            <a:off x="2075040" y="1378080"/>
            <a:ext cx="6954840" cy="1712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static Pila push (Pila p, int e)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(!piena(p)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.elementi[p.numElementi++] = 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turn p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1 = Pila.push(p1,5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75040" y="3767040"/>
            <a:ext cx="6954840" cy="1478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static void push (PilaP p, int e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(!piena(p)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.elementi[p.numElementi++] = 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ila.push(p1,5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075040" y="5375160"/>
            <a:ext cx="6954840" cy="1478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void push (int e)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(!piena()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ementi[numElementi++] = 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1.push(5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TDA -&gt; O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57A1-A604-4BA8-AB7F-3E19BFB442B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nzionale, procedurale, OO (2/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ma funzionale in esecuzione =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zioni che si chiamano a vicenda passandosi come parametri gli argomenti e restituiscono valori al chiama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ma procedurale in esecuzione =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e che si chiamano a vicenda passandosi come parametri sia gli argomenti sia le variabili in cui memorizzare i risulta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ma OO in esecuzione =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ggetti che si scambiano messaggi, eventualmente passandosi come parametri altri ogget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TDA -&gt; O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73C1-F5EB-4DED-8946-B09F3EC6AC4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 classe e d’istanz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1143000" y="2174760"/>
          <a:ext cx="6858000" cy="3021120"/>
        </p:xfrm>
        <a:graphic>
          <a:graphicData uri="http://schemas.openxmlformats.org/drawingml/2006/table">
            <a:tbl>
              <a:tblPr/>
              <a:tblGrid>
                <a:gridCol w="1954080"/>
                <a:gridCol w="2424240"/>
                <a:gridCol w="2479680"/>
              </a:tblGrid>
              <a:tr h="57636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ttribut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od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14428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 classe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atic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formazioni sulla class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stant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pproccio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018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’istanz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formazioni sulle istanz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pproccio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TDA -&gt; O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4CB2-B8A2-4BF9-91D6-5AAD514F83F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Ogg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5000" y="1595160"/>
            <a:ext cx="87296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Interazione fra TD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Da TDA a OO: lo scambio messagg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oncetto ed Esem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Il </a:t>
            </a:r>
            <a:r>
              <a:rPr b="1" lang="it-IT" sz="3200" spc="-1" strike="noStrike">
                <a:solidFill>
                  <a:srgbClr val="3333cc"/>
                </a:solidFill>
                <a:latin typeface="Courier New"/>
              </a:rPr>
              <a:t>thi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rivisita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Il </a:t>
            </a:r>
            <a:r>
              <a:rPr b="1" lang="it-IT" sz="3200" spc="-1" strike="noStrike">
                <a:solidFill>
                  <a:srgbClr val="3333cc"/>
                </a:solidFill>
                <a:latin typeface="Courier New"/>
              </a:rPr>
              <a:t>toString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rivisita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Funzionale, procedurale, OO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Altri esemp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TDA -&gt; O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EE56-D98B-4993-88FA-BEE0BC0901D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alet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999999"/>
                </a:solidFill>
                <a:latin typeface="Tahoma"/>
              </a:rPr>
              <a:t>Interazione fra TD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999999"/>
                </a:solidFill>
                <a:latin typeface="Tahoma"/>
              </a:rPr>
              <a:t>(Fine cap.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999999"/>
                </a:solidFill>
                <a:latin typeface="Tahoma"/>
              </a:rPr>
              <a:t>Da TDA a OO: lo scambio messagg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999999"/>
                </a:solidFill>
                <a:latin typeface="Tahoma"/>
              </a:rPr>
              <a:t>Concetto ed Esem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999999"/>
                </a:solidFill>
                <a:latin typeface="Tahoma"/>
              </a:rPr>
              <a:t>Il </a:t>
            </a:r>
            <a:r>
              <a:rPr b="1" lang="it-IT" sz="3200" spc="-1" strike="noStrike">
                <a:solidFill>
                  <a:srgbClr val="999999"/>
                </a:solidFill>
                <a:latin typeface="Courier New"/>
              </a:rPr>
              <a:t>this</a:t>
            </a:r>
            <a:r>
              <a:rPr b="0" lang="it-IT" sz="3200" spc="-1" strike="noStrike">
                <a:solidFill>
                  <a:srgbClr val="999999"/>
                </a:solidFill>
                <a:latin typeface="Tahoma"/>
              </a:rPr>
              <a:t> rivisita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999999"/>
                </a:solidFill>
                <a:latin typeface="Tahoma"/>
              </a:rPr>
              <a:t>Il </a:t>
            </a:r>
            <a:r>
              <a:rPr b="1" lang="it-IT" sz="3200" spc="-1" strike="noStrike">
                <a:solidFill>
                  <a:srgbClr val="999999"/>
                </a:solidFill>
                <a:latin typeface="Courier New"/>
              </a:rPr>
              <a:t>toString</a:t>
            </a:r>
            <a:r>
              <a:rPr b="0" lang="it-IT" sz="3200" spc="-1" strike="noStrike">
                <a:solidFill>
                  <a:srgbClr val="999999"/>
                </a:solidFill>
                <a:latin typeface="Tahoma"/>
              </a:rPr>
              <a:t> rivisita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999999"/>
                </a:solidFill>
                <a:latin typeface="Tahoma"/>
              </a:rPr>
              <a:t>Funzionale, procedurale, OO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Altri esemp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TDA -&gt; O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6314-32CF-4A4E-9FA7-E3245C28361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Il TDA Insie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Rappresentazione: array di booleani, con valore 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in posizione 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se 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appartiene all’insie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Pro: appartenenza, inserimento, eliminazione immediat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Contro: Valore massimo limita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Versione O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TDA -&gt; O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1A4D-8C1D-4E7D-85D0-8AAD009D033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5840" y="125280"/>
            <a:ext cx="9128160" cy="6445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72000" bIns="360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class Insiem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private int maxElement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private boolean[] element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/** Costruttore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public Insieme(int num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maxElementi = nu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elementi = new boolean[maxElementi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/** Costruttore copia: costruisce (e restituisce) 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* insieme uguale a quello passato come parametro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public Insieme(Insieme x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maxElementi = x.maxElement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elementi = new boolean[maxElementi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for (int i = 0; i &lt; maxElementi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elementi[i] = x.elementi[i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/** Dice se l'insieme x e' vuoto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public boolean vuoto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boolean trovato 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for(int i = 0; i &lt; maxElementi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f (elementi[i]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trovato =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return !trovat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0560" y="245880"/>
            <a:ext cx="437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urier New"/>
              </a:rPr>
              <a:t>Insieme.ja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TDA -&gt; O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307A-AB14-4A31-A28D-1F6AFEA5997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79200"/>
            <a:ext cx="9128160" cy="6509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72000" bIns="36000" anchor="t">
            <a:spAutoFit/>
          </a:bodyPr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/** Inserisce l'elemento e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public void inserisci(int e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elementi[e] =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/** Elimina l'elemento e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public void elimina(int e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elementi[e] 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/** Predicato di appartenenza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public boolean appartiene(int e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return elementi[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/** Restituisce una stringa del tipo {...}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public String toString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String str = "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boolean primo =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str = str + "{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for (int i = 0; i &lt; maxElementi; i++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f (elementi[i]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f (primo) primo 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else str = str + ",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str = str + 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str = str + "}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return st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780080" y="607680"/>
            <a:ext cx="423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urier New"/>
              </a:rPr>
              <a:t>Insieme.ja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TDA -&gt; O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210D-CBA5-4356-9D78-BC7A9E9320A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0" y="193680"/>
            <a:ext cx="9128160" cy="6539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72000" bIns="360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lass ProvaInsiem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// solo per testare l'implement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public static void main(String[] args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Insieme a = new Insieme(10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ystem.out.println(a.vuoto(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a.inserisci(1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a.inserisci(1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ystem.out.println(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Insieme b = new Insieme(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ystem.out.println(a.appartiene(13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ystem.out.println(b.appartiene(11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ystem.out.println(a.appartiene(17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ystem.out.println(a.vuoto(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a.elimina(1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ystem.out.println(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a.elimina(1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ystem.out.println(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ystem.out.println(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ystem.out.println(a.appartiene(11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ystem.out.println(a.vuoto(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TDA -&gt; O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9B91-6E11-4C29-BDB8-16F14A040C1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erciz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unto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erchio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Quadrato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on approccio O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nd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oSt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 confrontare con il codice sul test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siem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on approccio TDA e O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nd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oSt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 confrontare con il codice sul tes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ray estendibile” (di, ad es.,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fine cap. 8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TDA -&gt; O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ED9B-F9DB-4663-B772-D2E1D51E07A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Riassu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Interazione fra TD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Da TDA a OO: lo scambio messagg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oncetto ed Esem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Il </a:t>
            </a:r>
            <a:r>
              <a:rPr b="1" lang="it-IT" sz="3200" spc="-1" strike="noStrike">
                <a:solidFill>
                  <a:srgbClr val="3333cc"/>
                </a:solidFill>
                <a:latin typeface="Courier New"/>
              </a:rPr>
              <a:t>thi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rivisita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Il </a:t>
            </a:r>
            <a:r>
              <a:rPr b="1" lang="it-IT" sz="3200" spc="-1" strike="noStrike">
                <a:solidFill>
                  <a:srgbClr val="3333cc"/>
                </a:solidFill>
                <a:latin typeface="Courier New"/>
              </a:rPr>
              <a:t>toString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rivisita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Funzionale, procedurale, O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Altri esemp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TDA -&gt; O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3073-DBC2-4337-967A-98F16B5F47E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Prossima lezio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Altri 2 ingredienti dell’O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Ereditariet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olimorfis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(Poi, OO in Java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Varian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Librerie (AP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TDA -&gt; O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34CB-4FB8-4412-9D71-7E617968402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erazione fra T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ora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 unico T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 classe che lo u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e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ù TD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he si usano a vicen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una classe con il 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TDA -&gt; O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3DCB-2BC0-4DD7-9D31-720E7A45F05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empi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a di “grafica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ltrasemplifica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o punti e cerch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o rappresentazi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ualizzazione solo testu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e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Punto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rappresenta punt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e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Cerchio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rappresenta cerch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e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Grafic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con m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TDA -&gt; O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3CAF-4273-4C99-8FF7-F9F10B4224A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5840" y="811080"/>
            <a:ext cx="9128160" cy="573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72000" bIns="360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class Punto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private double x; private double y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Punto() {this(0,0);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Punto(double xCoord, double yCoord)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x = xCoord; y = yCoor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static void set(Punto p, double xC, double yC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p.x = xC; p.y = yC;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static void setX(Punto p, double xCoord)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p.x = xCoor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static void setY(Punto p, double yCoord)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p.y = yCoor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static double getX(Punto p) {return p.x;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static double getY(Punto p) {return p.y;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static String toString(Punto p)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return "(" + p.x + ", " + p.y + ")"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urier New"/>
              </a:rPr>
              <a:t>Punto.ja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TDA -&gt; O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D41F-BC95-4B32-B7FF-866C98FE91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160" y="689040"/>
            <a:ext cx="9128160" cy="6139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72000" bIns="36000" anchor="t">
            <a:spAutoFit/>
          </a:bodyPr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class Cerchio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private Punto centro; private double raggio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Cerchio() {this(new Punto(), 0);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Cerchio(double x, double y, double r)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this(new Punto(x,y), r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Cerchio(Punto c, double r){centro = c; raggio = r;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static void setCentro(Cerchio c, Punto p)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c.centro = p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static void setRaggio(Cerchio c, double r)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c.raggio = r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static Punto getCentro(Cerchio c)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return c.centro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static double getRaggio(Cerchio c)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return c.raggio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static String toString(Cerchio c)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  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return "cerchio: centro "+Punto.toString(c.centro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         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+" raggio " + c.raggio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urier New"/>
              </a:rPr>
              <a:t>Cerchio.ja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TDA -&gt; O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9281-ED2A-4970-A548-40C5D74C409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urier New"/>
              </a:rPr>
              <a:t>Grafica.ja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11160" y="1170000"/>
            <a:ext cx="9128160" cy="5229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72000" bIns="36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/** Programma per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* prova di cerchi e punti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lass Grafica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public static void main (String[] args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Punto p1 = new Punt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Punto p2 = new Punto(1,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erchio c1 = new Cerchi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ystem.out.println(Cerchio.toString(c1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erchio c2 = new Cerchio(p1,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ystem.out.println(Cerchio.toString(c2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erchio c3 = new Cerchio(p2,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ystem.out.println(Cerchio.toString(c3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TDA -&gt; O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0E32-25A6-400D-ACE0-AA54587A565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Stefano Mizzaro</cp:lastModifiedBy>
  <cp:lastPrinted>2000-05-05T17:23:50Z</cp:lastPrinted>
  <dcterms:modified xsi:type="dcterms:W3CDTF">2006-11-24T10:07:18Z</dcterms:modified>
  <cp:revision>1548</cp:revision>
  <dc:subject/>
  <dc:title>Presentazione di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ingua">
    <vt:lpwstr>Italiano</vt:lpwstr>
  </property>
</Properties>
</file>